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C2A-7707-4FA0-9C4B-0F61AF8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30C-F4F5-45AE-811D-5D9EB10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C3D-074D-4D6A-8B10-EAC912FC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808-FFC3-4CA0-9193-A4A8422C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AD1E-5986-4629-AD20-3FE1997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0B4E-4826-4815-99C8-4590830B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C2A2-E768-48E5-B17F-C40B1403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784B-5081-4EAA-AA41-3D94A77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52F-690B-4A45-9127-2B9E597D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1343-B845-405C-B00F-6AA20C1E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2B0E-386B-4213-BA98-D4823CE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C6B-DBFA-4827-AF76-39D8962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256A-A6C7-4248-BA89-69ADE2A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B8FA-B66E-4CF7-8C38-8953CD2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48D0-D217-4ECA-BB2C-A9198D72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D60-FDB9-48E0-BB7D-8012F39B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20E0-B365-449C-863F-C3C18661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F21-3EF3-42E0-BAC6-81AEB08C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D8E-EE72-4FCF-86A2-FF6995D0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A7B-FEDA-4D30-B22A-2D7EC05A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B7D-8241-4828-952F-85FF4B26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EC5-643A-465B-A522-CB07AA5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289-1FD7-4E50-8F27-FC1CA1E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03C-F5F9-4CC7-953B-855D5A8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425-AE16-4F18-9C01-DF63482F6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098-F8CA-4FF4-99EB-58700E2931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5298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Художник в театр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Comic Sans MS"/>
              </a:rPr>
              <a:t>Урок 2 ,3 четверть,3 класс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Актёр древнегреческого театра"/>
          <p:cNvPicPr/>
          <p:nvPr/>
        </p:nvPicPr>
        <p:blipFill>
          <a:blip r:embed="rId1"/>
          <a:stretch/>
        </p:blipFill>
        <p:spPr>
          <a:xfrm>
            <a:off x="185724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Arial"/>
              </a:rPr>
              <a:t>Средневековый театр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СРЕДНЕВЕКОВЫЙ ТЕАТР"/>
          <p:cNvPicPr/>
          <p:nvPr/>
        </p:nvPicPr>
        <p:blipFill>
          <a:blip r:embed="rId1"/>
          <a:stretch/>
        </p:blipFill>
        <p:spPr>
          <a:xfrm>
            <a:off x="15840" y="142920"/>
            <a:ext cx="9004320" cy="63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Средневековый театр 19 века  Вена"/>
          <p:cNvPicPr/>
          <p:nvPr/>
        </p:nvPicPr>
        <p:blipFill>
          <a:blip r:embed="rId1"/>
          <a:stretch/>
        </p:blipFill>
        <p:spPr>
          <a:xfrm>
            <a:off x="6480" y="500040"/>
            <a:ext cx="877248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СРЕДНЕВЕКОВЫЙ ТЕАТР1"/>
          <p:cNvPicPr/>
          <p:nvPr/>
        </p:nvPicPr>
        <p:blipFill>
          <a:blip r:embed="rId1"/>
          <a:stretch/>
        </p:blipFill>
        <p:spPr>
          <a:xfrm>
            <a:off x="571680" y="49320"/>
            <a:ext cx="81723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Arial"/>
              </a:rPr>
              <a:t>Театр  «Глобус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Театр  Глобус "/>
          <p:cNvPicPr/>
          <p:nvPr/>
        </p:nvPicPr>
        <p:blipFill>
          <a:blip r:embed="rId1"/>
          <a:stretch/>
        </p:blipFill>
        <p:spPr>
          <a:xfrm>
            <a:off x="185760" y="214200"/>
            <a:ext cx="895176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"/>
              </a:rPr>
              <a:t>Современный театр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5-big"/>
          <p:cNvPicPr/>
          <p:nvPr/>
        </p:nvPicPr>
        <p:blipFill>
          <a:blip r:embed="rId1"/>
          <a:stretch/>
        </p:blipFill>
        <p:spPr>
          <a:xfrm>
            <a:off x="358920" y="285840"/>
            <a:ext cx="8565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1080020768"/>
          <p:cNvPicPr/>
          <p:nvPr/>
        </p:nvPicPr>
        <p:blipFill>
          <a:blip r:embed="rId1"/>
          <a:stretch/>
        </p:blipFill>
        <p:spPr>
          <a:xfrm>
            <a:off x="2085840" y="-104760"/>
            <a:ext cx="497232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15-big"/>
          <p:cNvPicPr/>
          <p:nvPr/>
        </p:nvPicPr>
        <p:blipFill>
          <a:blip r:embed="rId1"/>
          <a:stretch/>
        </p:blipFill>
        <p:spPr>
          <a:xfrm>
            <a:off x="887400" y="333360"/>
            <a:ext cx="8255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49049049051055055048050057"/>
          <p:cNvPicPr/>
          <p:nvPr/>
        </p:nvPicPr>
        <p:blipFill>
          <a:blip r:embed="rId1"/>
          <a:stretch/>
        </p:blipFill>
        <p:spPr>
          <a:xfrm>
            <a:off x="187200" y="189000"/>
            <a:ext cx="84092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proj1-big"/>
          <p:cNvPicPr/>
          <p:nvPr/>
        </p:nvPicPr>
        <p:blipFill>
          <a:blip r:embed="rId1"/>
          <a:stretch/>
        </p:blipFill>
        <p:spPr>
          <a:xfrm>
            <a:off x="181080" y="136440"/>
            <a:ext cx="851832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43280" y="244440"/>
            <a:ext cx="4199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Narrow"/>
              </a:rPr>
              <a:t>Китайский театр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pekin1"/>
          <p:cNvPicPr/>
          <p:nvPr/>
        </p:nvPicPr>
        <p:blipFill>
          <a:blip r:embed="rId1"/>
          <a:stretch/>
        </p:blipFill>
        <p:spPr>
          <a:xfrm>
            <a:off x="0" y="0"/>
            <a:ext cx="44766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049049052055055049052049054"/>
          <p:cNvPicPr/>
          <p:nvPr/>
        </p:nvPicPr>
        <p:blipFill>
          <a:blip r:embed="rId1"/>
          <a:stretch/>
        </p:blipFill>
        <p:spPr>
          <a:xfrm>
            <a:off x="1752480" y="-519120"/>
            <a:ext cx="526104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049049049051056051049054053"/>
          <p:cNvPicPr/>
          <p:nvPr/>
        </p:nvPicPr>
        <p:blipFill>
          <a:blip r:embed="rId1"/>
          <a:stretch/>
        </p:blipFill>
        <p:spPr>
          <a:xfrm>
            <a:off x="395280" y="152280"/>
            <a:ext cx="8748720" cy="65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49049049051056051049048056"/>
          <p:cNvPicPr/>
          <p:nvPr/>
        </p:nvPicPr>
        <p:blipFill>
          <a:blip r:embed="rId1"/>
          <a:stretch/>
        </p:blipFill>
        <p:spPr>
          <a:xfrm>
            <a:off x="1817640" y="-243000"/>
            <a:ext cx="53262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049049049051055056053049049"/>
          <p:cNvPicPr/>
          <p:nvPr/>
        </p:nvPicPr>
        <p:blipFill>
          <a:blip r:embed="rId1"/>
          <a:stretch/>
        </p:blipFill>
        <p:spPr>
          <a:xfrm>
            <a:off x="108000" y="0"/>
            <a:ext cx="4327560" cy="701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049049049051055056054050055"/>
          <p:cNvPicPr/>
          <p:nvPr/>
        </p:nvPicPr>
        <p:blipFill>
          <a:blip r:embed="rId2"/>
          <a:stretch/>
        </p:blipFill>
        <p:spPr>
          <a:xfrm>
            <a:off x="4741920" y="0"/>
            <a:ext cx="44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1" descr="001740_2"/>
          <p:cNvPicPr/>
          <p:nvPr/>
        </p:nvPicPr>
        <p:blipFill>
          <a:blip r:embed="rId1"/>
          <a:stretch/>
        </p:blipFill>
        <p:spPr>
          <a:xfrm>
            <a:off x="274680" y="260280"/>
            <a:ext cx="87012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1335_2"/>
          <p:cNvPicPr/>
          <p:nvPr/>
        </p:nvPicPr>
        <p:blipFill>
          <a:blip r:embed="rId1"/>
          <a:stretch/>
        </p:blipFill>
        <p:spPr>
          <a:xfrm>
            <a:off x="1547640" y="836640"/>
            <a:ext cx="5832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gf_6597"/>
          <p:cNvPicPr/>
          <p:nvPr/>
        </p:nvPicPr>
        <p:blipFill>
          <a:blip r:embed="rId1"/>
          <a:stretch/>
        </p:blipFill>
        <p:spPr>
          <a:xfrm>
            <a:off x="0" y="0"/>
            <a:ext cx="4915080" cy="655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0021rp"/>
          <p:cNvPicPr/>
          <p:nvPr/>
        </p:nvPicPr>
        <p:blipFill>
          <a:blip r:embed="rId2"/>
          <a:stretch/>
        </p:blipFill>
        <p:spPr>
          <a:xfrm>
            <a:off x="4933800" y="11160"/>
            <a:ext cx="4210200" cy="68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thumbnail"/>
          <p:cNvPicPr/>
          <p:nvPr/>
        </p:nvPicPr>
        <p:blipFill>
          <a:blip r:embed="rId1"/>
          <a:stretch/>
        </p:blipFill>
        <p:spPr>
          <a:xfrm>
            <a:off x="1822320" y="0"/>
            <a:ext cx="517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p1010009"/>
          <p:cNvPicPr/>
          <p:nvPr/>
        </p:nvPicPr>
        <p:blipFill>
          <a:blip r:embed="rId1"/>
          <a:stretch/>
        </p:blipFill>
        <p:spPr>
          <a:xfrm>
            <a:off x="0" y="28584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Arial"/>
              </a:rPr>
              <a:t>Греческий театр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image002"/>
          <p:cNvPicPr/>
          <p:nvPr/>
        </p:nvPicPr>
        <p:blipFill>
          <a:blip r:embed="rId1"/>
          <a:stretch/>
        </p:blipFill>
        <p:spPr>
          <a:xfrm>
            <a:off x="4680" y="357120"/>
            <a:ext cx="8955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МАСКА ДРЕВНЕГРЕЧЕСКОГО ТЕАТРА"/>
          <p:cNvPicPr/>
          <p:nvPr/>
        </p:nvPicPr>
        <p:blipFill>
          <a:blip r:embed="rId1"/>
          <a:stretch/>
        </p:blipFill>
        <p:spPr>
          <a:xfrm>
            <a:off x="2103480" y="254160"/>
            <a:ext cx="525456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9:17:56Z</dcterms:created>
  <dc:creator>Сергей</dc:creator>
  <dc:description/>
  <dc:language>en-US</dc:language>
  <cp:lastModifiedBy>User</cp:lastModifiedBy>
  <dcterms:modified xsi:type="dcterms:W3CDTF">2012-11-11T18:18:47Z</dcterms:modified>
  <cp:revision>9</cp:revision>
  <dc:subject/>
  <dc:title>урок</dc:title>
</cp:coreProperties>
</file>