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0FB8-4508-4D26-A710-31C6E195B3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552E-2B75-4AF5-84BB-2BD5791B049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324A-3143-4FB7-9DFA-FA89D025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47A1-FF38-441A-B521-24EB2E28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620-5860-4387-9CA3-046080C6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12A-BE2B-42B8-9E78-FD53718A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24EB3-529E-403A-BE4B-4E91688A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403B3-3FFE-4A26-8407-2EBC44FA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00650-7DCE-40FF-8ED8-2490CF90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3C444-A883-4F41-9241-43905996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7C28A-44EC-41D6-BCFF-2BBDBA89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06DD9-7437-4E08-9557-72310139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284B3-6587-49E2-BF8C-70CD40F2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4E1-640C-4546-88BD-72D13E7F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C105A-A122-4949-B8DE-70AD5E54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AA300-B1E5-4A5A-BC27-17C4947A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5CDB1-D40D-435B-9A42-8195B126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6983A-5939-4294-83AD-FFCA099C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FD03A-2C83-4F1F-AAF3-4118918C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FEE12-2C31-4C5B-9B47-F314B61D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3B56A-76C6-4055-9EF7-0274615A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9E3B5-9705-4E52-B8EA-115F85A5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2E9BF-ABA2-487B-AA26-8FD1773B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7A4EA-E51B-42BC-9DA1-8A0EC3A6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FAA-48CA-4B4A-A9AF-9DFABACF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B9FE0-FAF4-42BF-A5A7-43EC7FA8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5FC93-D907-4F51-87E8-5588BDB3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0C9DB-3C72-47EE-8F19-B61367D4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5745B-7F9E-4F5F-9581-8DF7D082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D2D7E-05C5-49B3-832A-912FF4CE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388B4-6C83-41B1-ADEC-696FDC3C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8D73A-059E-44E7-9692-4A41904F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325DEF-488D-4FF3-9755-3D28E218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68F828-AFEB-4DF3-8499-4587D13F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15EEB8-E2BD-4D73-9088-55E74D35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F5A-C7B8-4288-A927-1A9E7C8E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BBECB8-3C9D-41D6-B753-234998AA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DA777E-1F43-4878-8833-40F7FF83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A1FDCB-9677-4FFC-AD59-FE73D5FC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D5D395-0C0E-47C7-88D5-5C39C90F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151D3B-039D-43BE-B82A-7938F489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FEC378-1D20-451F-8655-79CB5761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6A060B-C188-486F-88CE-6E6512A2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28B6C9-9027-4251-B51E-DC023F90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0BC512-A1FB-4500-9DB5-77F1136F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ECDC7-2CFB-481A-9B91-EB8F8DBB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65D-81B4-4DBF-8F7B-275B2E08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06835-A563-4D95-A72E-3C7C06FD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CED816-A44E-4B5F-8F0B-6D4978AD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D9F825-CFB2-4773-B1A9-9016DA48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098D65-D3EC-45AB-BC0E-4531F6FE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93522-CE06-44B1-9D95-B2534771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4BFB8A-ACDF-4739-BCB9-17BA4158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D07D75-B946-484C-A8BE-EFE5BCB5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8C141E-1D06-443B-AB15-3E9E8D6B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A8AF86-2627-40E6-9F3F-D0404DD3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F01AE2-DC62-4B5D-ABEE-BD7F3CDC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5D7-3A74-4DCB-9156-BC05377C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5D79F1-6EB1-4E22-B30C-DFA376FD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C2807C-6ABF-4F8C-8F86-5E444BCD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38C27A-8249-4D75-8B29-0EF7BC35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E2447-3AB9-4D58-81BA-3CC94448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AA0EB-E459-48F8-85CB-091C5C96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10D110-62B4-444E-B112-C6E8831F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66C6C-5E28-40BC-94CF-7F2BFAD8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F57630-7848-457A-B28E-7970AD90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7E3AD-0722-4C82-AED9-BA638DFD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BC09C7-F0F5-46B4-A1EC-FD1E0941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13E7-7079-427A-B4CF-8D548894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4E0872-CE4A-4F5A-8779-DE1C27D5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383A81-2719-47BD-B998-B217B7FF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726572-44C7-4EAF-A25D-14AE7730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645-C2F8-4096-AD38-8CAD95D9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509-9C1F-4AB9-BBC1-FB9BE4CD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8E35-4863-43C1-8D34-C3D584C34CF4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4DAE-8D05-4076-9EEE-92E2DD229FF6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47DC-4962-4415-8C4D-F2AC5D514804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2AAC-D712-453B-8646-2EC9AFE86D61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2167-90E2-4997-ACF5-89DD366F720A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FC68-D91C-49AD-B3C2-37D02ADA1B43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Прямоугольник 5"/>
          <p:cNvSpPr/>
          <p:nvPr/>
        </p:nvSpPr>
        <p:spPr>
          <a:xfrm>
            <a:off x="1258920" y="4425840"/>
            <a:ext cx="7416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3540a"/>
                </a:solidFill>
                <a:latin typeface="Times New Roman"/>
                <a:ea typeface="Times New Roman"/>
              </a:rPr>
              <a:t>ПРИМЕНЕНИЕ ИГРОВЫХ ТЕХНОЛОГИЙ НА УРОКАХ АНГЛИЙСКОГО ЯЗЫКА, КАК ОДИН ИЗ ПУТЕЙ ФОРМИРОВАНИЯ ПОЗНАВАТЕЛЬНОГО ИНТЕРЕСА УЧАЩЕГО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3540a"/>
                </a:solidFill>
                <a:latin typeface="Times New Roman"/>
                <a:ea typeface="Times New Roman"/>
              </a:rPr>
              <a:t>Е.А. Галимо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3" descr=""/>
          <p:cNvPicPr/>
          <p:nvPr/>
        </p:nvPicPr>
        <p:blipFill>
          <a:blip r:embed="rId1"/>
          <a:stretch/>
        </p:blipFill>
        <p:spPr>
          <a:xfrm>
            <a:off x="195120" y="334800"/>
            <a:ext cx="899172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3" descr=""/>
          <p:cNvPicPr/>
          <p:nvPr/>
        </p:nvPicPr>
        <p:blipFill>
          <a:blip r:embed="rId1"/>
          <a:stretch/>
        </p:blipFill>
        <p:spPr>
          <a:xfrm>
            <a:off x="281160" y="762120"/>
            <a:ext cx="85708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3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3" descr=""/>
          <p:cNvPicPr/>
          <p:nvPr/>
        </p:nvPicPr>
        <p:blipFill>
          <a:blip r:embed="rId1"/>
          <a:stretch/>
        </p:blipFill>
        <p:spPr>
          <a:xfrm>
            <a:off x="317520" y="-749160"/>
            <a:ext cx="8577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идактическая цель ставится перед учащимся в форме игровой задачи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чебная деятельность подчиняется правилам игры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чебный материал используется в качестве ее средства, в учебную деятельность вводится элемент соревнования, который переводит дидактическую задачу в игровую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спешное выполнение дидактического задания связывается с игровым результатом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3" descr=""/>
          <p:cNvPicPr/>
          <p:nvPr/>
        </p:nvPicPr>
        <p:blipFill>
          <a:blip r:embed="rId1"/>
          <a:stretch/>
        </p:blipFill>
        <p:spPr>
          <a:xfrm>
            <a:off x="225360" y="255600"/>
            <a:ext cx="84121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512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иды игр подбираются, исходя из характеристик ученика, как субъекта обучения, и в соответствии с программой по английскому языку для общеобразовательных шко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Первый этап обучения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- основной вид игр – предметная (лингвистическая) игра. Создается лексический запас по темам, отрабатываются грамматические структуры и произносительные навык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Второй этап обучения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-  ученики достигли элементарного уровня  коммуникативной компетенции , игровая деятельность усложняется. Наряду с лингвистическими и имитационными играми, применяются ролевые, направленные на социализацию учащихся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Третий этап обучения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(старшее звено) – уровень подготовки учащихся высокий. Вводятся сюжетно-ролевые и деловые игры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8" name="Заголовок 3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7" descr=""/>
          <p:cNvPicPr/>
          <p:nvPr/>
        </p:nvPicPr>
        <p:blipFill>
          <a:blip r:embed="rId1"/>
          <a:stretch/>
        </p:blipFill>
        <p:spPr>
          <a:xfrm>
            <a:off x="360360" y="274680"/>
            <a:ext cx="8575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05:22:32Z</dcterms:created>
  <dc:creator>Галимова Елена</dc:creator>
  <dc:description/>
  <dc:language>en-US</dc:language>
  <cp:lastModifiedBy>User1</cp:lastModifiedBy>
  <dcterms:modified xsi:type="dcterms:W3CDTF">2012-11-11T14:06:48Z</dcterms:modified>
  <cp:revision>17</cp:revision>
  <dc:subject/>
  <dc:title>Слайд 1</dc:title>
</cp:coreProperties>
</file>