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4811-0794-48C9-82A8-4E3784C42F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D86A-4374-46BD-81FF-74EE5B1790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DBFA-2633-4F59-BFE1-4E64E30D2C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5AF4-1B36-430D-9F4A-CF02372F94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3830-377D-4A72-A370-922997C262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A561-2E11-41F7-A0BC-2E618F9A6B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93D6-6AE3-41B8-943C-59D3E46F38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B50B-399C-49F2-8FB8-FBE5EAF46E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69B0-2FE5-4177-93A9-FC230629AC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71CA-6BE9-42FC-A1EE-225F89331A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DFF9-8215-4955-A296-4678FE36A3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D841-4F82-4B46-AEF7-D1868C8DD9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309D-1324-4A3E-AFB6-E8BDDD1F6C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ED82-F7ED-43A2-B137-1368383DCC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06D1-E4FB-429E-A42B-29BBB34539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B29F-194F-4997-9494-339892F578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3E2E-EF7F-4561-B234-752CC53F67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B072-3F96-4F17-BF3C-05513ECE52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7222-CFA8-46E6-87DC-09BC5E2111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DA74-4E44-4D61-830A-575B5C105B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5213-4DC6-4EDA-8B77-AFD4F207A3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CDF4-4D51-482B-A786-AF947A8386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ED49-F141-46F6-A2FC-0FEEA5FF0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EBFA-814F-4765-8F2F-6189A960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343D-19E9-4740-B1C6-33A3E0992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D4FF-DBC9-4C35-A1A0-12729E9A5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E2F7-47F5-41E6-BA0A-0227D74F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5528-7B6D-4FD7-AC60-A9BE598C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9EFC-B94E-4832-B5FA-30B14BCF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F4CF-1611-45C5-A776-237F0BFC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B7BA-2C8B-4B0A-BE50-D033D6EE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9C6C-A053-4888-9B21-EED9A524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370A-9820-4DD8-9478-DD1AA178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E720-CA11-49B1-AEBB-7C0BE7D8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E77C-EDA7-4458-B4CD-8CA820C5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1DA7-6D86-4E2E-A8B1-FFFA531C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C4CE-A69D-4D85-A9B1-300EAE91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821B-2C04-4C78-BC03-585CD05A0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EAC1-6B87-4DAE-8AC2-3ADB33E38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5B09C-08A4-4DBA-BD5A-487DF401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74DC9-3DE9-40C1-9714-F796D1E8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9FEF4-4F6D-46EF-BD44-0B374ECD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CC2CE-D08D-43DE-A985-2AC6D6EF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FC6E6-0720-478A-A1A0-7540D117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28BD-443B-46A4-BE59-8DA94E6F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03367-9819-419A-AB58-A5D9B480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ADB7C-519A-4CD1-B3C8-25E9A30C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7735C-2F2B-492D-9A82-028DB7C3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42219-383C-4A9A-AF84-AF7A57E0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149BA-4025-4E67-AA22-DBD3E3F7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D933F-ADFE-43D3-A64B-081D406CF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D4299-46F9-4032-8AFF-1C13E099C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154FC-1061-418F-8827-25F182DA2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72EDD-6D56-4C6E-90EC-3743E7B5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2CAF9-9C02-41E8-A846-74FF72EB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71C9-F11B-4D63-B4B9-CB8599F8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08AEC-5698-4A63-A640-BEE3F4D0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FB7FF-D4CB-4AD9-B3B8-76B9054B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B0815-0D22-44E3-BF39-B8402414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A3A03-9F96-42C2-A775-1DF0D021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36E5D-E0B3-4CE6-8ABD-3561811C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ADEA2-0102-4413-AF22-92FB97F2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76D8A-51F5-4C53-BF0A-438C6D52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E1D9A-2B2F-4BF0-99A0-B43E1003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C06D9-BDC4-42B4-8DB6-820FF3B43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E7121-4520-40BB-B712-E03E4336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557E-8821-4FFD-B28D-79D562B1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DD10C-B83E-4C0F-B53A-4BB4C544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7868A-5A42-489B-998A-EA17A7C8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6F307-8538-4CFF-AB4B-A3C5856A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1D9E2-3D27-45B2-B6D8-9F61BD7B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15C68-11AA-4D0B-AC46-CAFB2A82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6F31B-2BC6-46D6-B7C3-93567CB9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398BF-521C-4C58-8A84-D76A9D0D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88DCD-04BD-4E3C-B5EB-BFA8F740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C9FA6-F064-46EC-A8F1-1A1086A0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61781-DCBF-4819-AB73-524377486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595C-39D5-4E46-A5EB-9CBA0A63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3ECEA-C324-484D-9AB1-4BF064050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5304-FCCA-4EE2-9220-6F191703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C45B-1586-47B6-B209-D5AA9E31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FA02-CD7E-4087-9FFC-9FEE14E2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F842-A4C8-4C7D-B186-0372546F238D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8690-6729-41D0-B92D-FACCA6D212C1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DE04-9D48-460C-A8F7-324D186724B8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E3C7-0D52-4019-B42C-7EFBD3D1DAA1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A44B-A06A-479F-9911-5C2A064A9B17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d75b7e"/>
                </a:solidFill>
                <a:latin typeface="Verdana"/>
              </a:rPr>
              <a:t>Презентация интегрированного урока в 4 «А» классе</a:t>
            </a:r>
            <a:endParaRPr b="1" lang="en-US" sz="41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«Роль глагола в речи»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английского языка :Сафарова Д.Р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684360" y="399600"/>
            <a:ext cx="75308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: дописать текст, используя глаголы со значением цве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нился мне чудесный сон. Необыкновенная цветочная поляна. Смотрю и глазам своим не верю.  Вот горделиво вздымаясь к солнцу  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циссы. А рядом с ними ………………….. покрытые капельками росы розы.  Налево…………………….. очаровательные колокольчики, ……………………… навевая сладкие воспоминания ромашки. Трепетно……………… маки. Всматриваясь в дальний уголок поляны и вижу: словно отблеск зари, …………………….клевер. Ярко …………………….. трава, а ней всеми оттенками красок собранные таинственной силой прекрасные цветы.  Жаль, что такое бывает только во с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Нарцисс "/>
          <p:cNvPicPr/>
          <p:nvPr/>
        </p:nvPicPr>
        <p:blipFill>
          <a:blip r:embed="rId1"/>
          <a:stretch/>
        </p:blipFill>
        <p:spPr>
          <a:xfrm>
            <a:off x="0" y="-136440"/>
            <a:ext cx="9558360" cy="71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3" descr="Картинка 7 из 85"/>
          <p:cNvPicPr/>
          <p:nvPr/>
        </p:nvPicPr>
        <p:blipFill>
          <a:blip r:embed="rId1"/>
          <a:stretch/>
        </p:blipFill>
        <p:spPr>
          <a:xfrm>
            <a:off x="-828720" y="-1920960"/>
            <a:ext cx="11704680" cy="877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http://www.mybells.ru/flowers/kuzminki1.jpg"/>
          <p:cNvPicPr/>
          <p:nvPr/>
        </p:nvPicPr>
        <p:blipFill>
          <a:blip r:embed="rId1"/>
          <a:stretch/>
        </p:blipFill>
        <p:spPr>
          <a:xfrm>
            <a:off x="0" y="-142920"/>
            <a:ext cx="1051560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http://content.foto.mail.ru/mail/nina7722/2752/i-2753.jpg"/>
          <p:cNvPicPr/>
          <p:nvPr/>
        </p:nvPicPr>
        <p:blipFill>
          <a:blip r:embed="rId1"/>
          <a:stretch/>
        </p:blipFill>
        <p:spPr>
          <a:xfrm>
            <a:off x="-1836720" y="-2239920"/>
            <a:ext cx="13382640" cy="909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Картинка 19 из 119"/>
          <p:cNvPicPr/>
          <p:nvPr/>
        </p:nvPicPr>
        <p:blipFill>
          <a:blip r:embed="rId1"/>
          <a:stretch/>
        </p:blipFill>
        <p:spPr>
          <a:xfrm>
            <a:off x="-642960" y="-1428840"/>
            <a:ext cx="13851000" cy="880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3" descr="Картинка 3 из 898"/>
          <p:cNvPicPr/>
          <p:nvPr/>
        </p:nvPicPr>
        <p:blipFill>
          <a:blip r:embed="rId1"/>
          <a:stretch/>
        </p:blipFill>
        <p:spPr>
          <a:xfrm>
            <a:off x="0" y="-1857240"/>
            <a:ext cx="9372600" cy="1249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Для увеличения нажми на меня!"/>
          <p:cNvPicPr/>
          <p:nvPr/>
        </p:nvPicPr>
        <p:blipFill>
          <a:blip r:embed="rId1"/>
          <a:stretch/>
        </p:blipFill>
        <p:spPr>
          <a:xfrm>
            <a:off x="0" y="0"/>
            <a:ext cx="9096480" cy="956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24212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75b7e"/>
                </a:solidFill>
                <a:latin typeface="Verdana"/>
              </a:rPr>
              <a:t>Вывод:</a:t>
            </a:r>
            <a:br>
              <a:rPr sz="3600"/>
            </a:br>
            <a:r>
              <a:rPr b="1" lang="ru-RU" sz="3600" spc="-1" strike="noStrike">
                <a:solidFill>
                  <a:srgbClr val="d75b7e"/>
                </a:solidFill>
                <a:latin typeface="Verdana"/>
              </a:rPr>
              <a:t>2. Глаголы помогают увидеть цвет.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"/>
          <p:cNvSpPr/>
          <p:nvPr/>
        </p:nvSpPr>
        <p:spPr>
          <a:xfrm>
            <a:off x="857160" y="901800"/>
            <a:ext cx="69548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а всегда покоряет  наши сердца. Покоряет красотой. Покоряет совершенством. Покоряет незащищенностью и гармоние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"/>
          <p:cNvSpPr/>
          <p:nvPr/>
        </p:nvSpPr>
        <p:spPr>
          <a:xfrm>
            <a:off x="1258920" y="765000"/>
            <a:ext cx="597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без меня предмет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ь наз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я приду - все в действие прид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ит раке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 строят зд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ут сады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хлеб в полях растет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"/>
          <p:cNvSpPr/>
          <p:nvPr/>
        </p:nvSpPr>
        <p:spPr>
          <a:xfrm>
            <a:off x="611280" y="432720"/>
            <a:ext cx="75326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: закончить сочинение-миниатюру, основным средством в котором является повто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из нас рано или поздно задумывается о смысле своей жизни. Мне кажется, что ответов на него может быть множество. Живем, чтобы творить доб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ем, что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ем, что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ем, что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7242120" cy="518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:</a:t>
            </a: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Глаголы передают движение.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Глаголы помогают увидеть цвет.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Глаголы помогают услышать звуки мира.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Глаголы помогают привлечь внимание к сказанному.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7242120" cy="31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75b7e"/>
                </a:solidFill>
                <a:latin typeface="Verdana"/>
              </a:rPr>
              <a:t>Тема урока: употребление глагола в речи.</a:t>
            </a:r>
            <a:br>
              <a:rPr sz="3600"/>
            </a:b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7242120" cy="31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75b7e"/>
                </a:solidFill>
                <a:latin typeface="Verdana"/>
              </a:rPr>
              <a:t>Вывод:</a:t>
            </a:r>
            <a:br>
              <a:rPr sz="3600"/>
            </a:br>
            <a:r>
              <a:rPr b="1" lang="ru-RU" sz="3600" spc="-1" strike="noStrike">
                <a:solidFill>
                  <a:srgbClr val="d75b7e"/>
                </a:solidFill>
                <a:latin typeface="Verdana"/>
              </a:rPr>
              <a:t>1. Глагол помогает передать движение.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"/>
          <p:cNvSpPr/>
          <p:nvPr/>
        </p:nvSpPr>
        <p:spPr>
          <a:xfrm>
            <a:off x="1692360" y="1268640"/>
            <a:ext cx="59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етелИ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метел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уделИ, засвистел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четвертая ме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лил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им посте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"/>
          <p:cNvSpPr/>
          <p:nvPr/>
        </p:nvSpPr>
        <p:spPr>
          <a:xfrm>
            <a:off x="971640" y="1585440"/>
            <a:ext cx="68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на маму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ражал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юстру тапочком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дала,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а Зиночку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йм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еревочкой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ал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2643120" y="904680"/>
            <a:ext cx="4665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, это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е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се даже не метел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мухи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етел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ю я наверня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етели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1785960" y="942480"/>
            <a:ext cx="6315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the mistakes and correct these sente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I work in the garden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I swam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He is reading a book two days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They was in the cinema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He hoped in the street last w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755640" y="136908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help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d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r mother about the house yester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d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he help her mother about the house yester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dn’t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lp her mother about the house yesterday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ина</cp:lastModifiedBy>
  <dcterms:modified xsi:type="dcterms:W3CDTF">2012-11-11T09:33:11Z</dcterms:modified>
  <cp:revision>22</cp:revision>
  <dc:subject/>
  <dc:title>Слайд 1</dc:title>
</cp:coreProperties>
</file>