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wmf" ContentType="image/x-wm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8799-8972-4583-966F-80851EF5D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FC12-F1CB-4DF1-9160-402DB276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F1BD-D7A3-48BE-917D-51A2539C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0721-A513-4F19-BD28-4FBB194D0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3A26-D022-4271-AE67-35E14A65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5F76-9794-4C80-B0A4-A3C48D77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9E3E-EED8-4742-B1A3-2FD067B6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9618-4F65-4566-8222-5E0FFE01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CABA-6DF4-4268-B131-9EAC2192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E045-2895-4FFF-B00D-DAD68BFB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DE1D-2FBE-4B4F-95C4-1A9004FA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8B5B-A046-4A4A-A083-CD71B23D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49CC-B2BA-49B8-8A0A-753C8B59B8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609480" y="60948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a50021"/>
                </a:solidFill>
                <a:latin typeface="Arial"/>
              </a:rPr>
              <a:t>Использование проектных технолог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2" descr="http://900igr.net/datai/frantsuzskij-jazyk/France/0018-062-Soderzhanie-proekta-Bonjour-la-France.png"/>
          <p:cNvPicPr/>
          <p:nvPr/>
        </p:nvPicPr>
        <p:blipFill>
          <a:blip r:embed="rId1"/>
          <a:stretch/>
        </p:blipFill>
        <p:spPr>
          <a:xfrm>
            <a:off x="1865160" y="2395440"/>
            <a:ext cx="520092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533520" y="380880"/>
            <a:ext cx="83818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a50021"/>
                </a:solidFill>
                <a:uFillTx/>
                <a:latin typeface="Monotype Corsiva"/>
              </a:rPr>
              <a:t>Проект </a:t>
            </a:r>
            <a:r>
              <a:rPr b="0" lang="ru-RU" sz="4400" spc="-1" strike="noStrike">
                <a:solidFill>
                  <a:srgbClr val="a50021"/>
                </a:solidFill>
                <a:latin typeface="Monotype Corsiva"/>
              </a:rPr>
              <a:t>на основе информационных технологий многогранен, эффективен, перспективен, неисчерпаем. Основная школа в будущем – это школа проектов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CHEL41"/>
          <p:cNvPicPr/>
          <p:nvPr/>
        </p:nvPicPr>
        <p:blipFill>
          <a:blip r:embed="rId1"/>
          <a:stretch/>
        </p:blipFill>
        <p:spPr>
          <a:xfrm>
            <a:off x="609480" y="3887640"/>
            <a:ext cx="289584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304920" y="1143000"/>
            <a:ext cx="8534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3300"/>
                </a:solidFill>
                <a:latin typeface="Monotype Corsiva"/>
              </a:rPr>
              <a:t>«Скажи мне - и я забуду, покажи мне - и я запомню, вовлеки меня - и я научусь»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0033"/>
                </a:solidFill>
                <a:uFillTx/>
                <a:latin typeface="Arial"/>
              </a:rPr>
              <a:t>Требования к современному человеку</a:t>
            </a:r>
            <a:r>
              <a:rPr b="0" lang="ru-RU" sz="4400" spc="-1" strike="noStrike" u="sng">
                <a:solidFill>
                  <a:srgbClr val="990033"/>
                </a:solidFill>
                <a:uFillTx/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2280" y="12949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мени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работать в коман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мени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самостоятельно добывать, обрабатывать информацию, оформлять добытые сведения, в том числе с использованием компьютерной тех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мени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выполнять исследовательскую раб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ибкость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поведения, умение выступать в различных социальных рол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звиты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коммуникационные навы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304920" y="533520"/>
            <a:ext cx="8381880" cy="56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ff6600"/>
                </a:solidFill>
                <a:uFillTx/>
                <a:latin typeface="Arial"/>
              </a:rPr>
              <a:t>Проект – это 6 «П»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50021"/>
                </a:solidFill>
                <a:latin typeface="Arial"/>
              </a:rPr>
              <a:t>Проблема    Проектирование           Поиск информации   Продукт             Презентация        Портфоли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838080" y="533520"/>
            <a:ext cx="7315200" cy="70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00"/>
                </a:solidFill>
                <a:latin typeface="Monotype Corsiva"/>
              </a:rPr>
              <a:t>Работа над проектом основана на взаимодействии, совещательности, взаимопомощи и взаимной ответственности всей учебной группы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slide0051_image058"/>
          <p:cNvPicPr/>
          <p:nvPr/>
        </p:nvPicPr>
        <p:blipFill>
          <a:blip r:embed="rId1"/>
          <a:stretch/>
        </p:blipFill>
        <p:spPr>
          <a:xfrm>
            <a:off x="6400800" y="4794120"/>
            <a:ext cx="2743200" cy="2063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slide0054_image061"/>
          <p:cNvPicPr/>
          <p:nvPr/>
        </p:nvPicPr>
        <p:blipFill>
          <a:blip r:embed="rId2"/>
          <a:stretch/>
        </p:blipFill>
        <p:spPr>
          <a:xfrm>
            <a:off x="0" y="4572000"/>
            <a:ext cx="1922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228600"/>
            <a:ext cx="8915400" cy="71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663300"/>
                </a:solidFill>
                <a:uFillTx/>
                <a:latin typeface="Arial"/>
              </a:rPr>
              <a:t>Классификация проект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по доминирующей деятельности учащихся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по предметно-содержательной обла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по характеру координ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по характеру контак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по продолжи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по количеству участни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по форме проду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6553080" y="4191120"/>
            <a:ext cx="1828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6840" y="160020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рганизационно – подготовитель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исков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тогов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Этапы работы с проект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0" y="0"/>
            <a:ext cx="9144000" cy="61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2060"/>
                </a:solidFill>
                <a:uFillTx/>
                <a:latin typeface="Times New Roman"/>
              </a:rPr>
              <a:t>Перечень ролей, которые предстоит «прожить» учителю в ходе руководства проект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Энтузиа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Специал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Консульт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Руковод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«Человек, который задает вопрос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Координа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Экспер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0" y="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990033"/>
                </a:solidFill>
                <a:uFillTx/>
                <a:latin typeface="Arial"/>
              </a:rPr>
              <a:t>Образовательный потенциал                         проектной деятельнос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990033"/>
                </a:solidFill>
                <a:uFillTx/>
                <a:latin typeface="Arial"/>
              </a:rPr>
              <a:t>повышает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мотивацию учащихся в получении дополнительных знан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304920" y="2666880"/>
            <a:ext cx="8381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33"/>
                </a:solidFill>
                <a:uFillTx/>
                <a:latin typeface="Arial"/>
              </a:rPr>
              <a:t>воспитывае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т 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 значимые общечеловеческие ценности ; чувства ответственности, самодисциплины;  желания делать свою работу качественн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33"/>
                </a:solidFill>
                <a:uFillTx/>
                <a:latin typeface="Arial"/>
              </a:rPr>
              <a:t>развивает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способности к самоорганизации, исследовательские и творческие способ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коммуникативные умения и навы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умение планировать свою работу и 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2-11-10T15:47:27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