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gif" ContentType="image/gif"/>
  <Override PartName="/ppt/media/image6.png" ContentType="image/png"/>
  <Override PartName="/ppt/media/image7.png" ContentType="image/png"/>
  <Override PartName="/ppt/media/image8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4769C-81EF-4C68-9036-4713CE7BE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EF0FA-72DA-4728-94FF-A293F17D1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E1904-3C66-4C79-BA1C-8A4C09F23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0EC4B-D22D-459F-8724-7317E06E5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2E4AC-C8A1-427A-8562-B3F48B633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25F9C-FCE4-4348-9D28-B5ED91596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B99B3-5AF6-461D-809D-BC8638AC6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77EC6-E8A6-475D-B905-D7F134E2F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92AF9-9749-415E-A9A3-23396676E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92361-2067-4250-85A5-11EAA9A8C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DB110-0565-44A9-BA69-135CB7677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54D06-3E13-4806-8F5E-8A7233237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AE9A3-9BCC-45F6-9156-B5CBFC5AC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D0AAF-5696-42B4-94B4-FACE93BF0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F53D4-553B-49B4-8337-5194703C9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9124C-9F57-485C-AED0-06060CCE0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6ACDD-91B4-4A7A-8D0F-BC07479B0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4351FA-89E2-4D57-9393-67C7D85AD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C2966B-9E3A-4DFB-A99C-5457628EC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1BE7D8-C324-4F08-ACB7-98825137E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EC4DEC-03E9-44A6-A5A4-B122C21A4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D5DBBF-2333-4177-922A-98868B945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925A6-70F4-4363-A90D-F89ABDD46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251720-3240-45A8-807E-B1101682C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B6653E-BCD9-4972-B01D-249B4AAE8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CFB103-0648-4D2B-B0E5-4027D4BAD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03C04C-B327-4935-9BD6-190F3104D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D2256F-0474-441F-9583-C819A6ACB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78936C-1DC5-4FEB-A0AE-6CA49F8D4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DE02ED-C9D1-4732-8F06-38CF3E160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E8116C-58F2-4D51-9D13-52728EA7D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8D08AB-353C-413C-B29B-BA7BCD674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768C4B-2092-43A6-B724-2534205EF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3DF6D-5261-4551-9961-EE94026DA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7C3133-A556-4521-90A9-CADF68D9C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78FCC9-518F-44B9-AC85-81A57BDAC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5AD66E-63FA-46CC-A158-631BEB45D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40A8CC-48CE-42E4-93AB-1EA6E608C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CF996B-3C4A-4CCF-BE8E-0154A7C05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4E0D87-CD1D-40CA-BD87-0981AB413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5684E5-7DF0-4921-832B-9A8F6DC2D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95D86C-30AF-4BEB-8A3E-BFAF67674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00910C-565F-4FBB-ACCD-3A826FAF6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D9E59F-2E9B-45DC-A47D-03D7DB2C1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5DEE0-A638-4459-B1A3-0B56F7983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7C531A-B009-4A22-A51D-6A2807EB3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BCE59B-7D51-450B-BB65-CD7744A31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427E30-22B1-4238-B797-D79A612DC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60E165-FD8D-4337-8273-CC4C9F052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262020-9AE5-48DA-A048-514169472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05F629-0B36-4255-A0F1-532D8327A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55A0AA-EB5E-42B7-8E08-8E917CB83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DB0736-CDAB-41BC-A8D3-78F5763D9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0A6FDD-B033-48D2-98A9-653E76401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A01C2C-7BC7-4D22-8D8F-F3C4856A3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53A32-60A2-4ABA-B444-C3F492733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7EAA8A-7040-48DB-AC59-703CBFC83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FDA8AF-A908-4CC9-9A48-C47178EF5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F8A8B5-E343-4DB2-9906-A657D1DCE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BCF334-7592-4A02-A9DB-F9C83C548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AFBF8D-E737-4B0F-9197-F67306734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7EEDCC-4ADC-4ED5-AB4C-5783AC573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B31EDF-7BA7-48EF-BD47-4D043FC33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3FE67B-81EF-4642-ACB6-18787F3F4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61899C-9242-43E8-AB1A-BC1B656C2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EF1B03-F654-44EB-966E-B2C079CF0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95E70-A5AB-4D6C-932D-908752941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935213-21D2-4F0D-9008-268A5E474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E3E832-A54E-43DF-A1C6-2D27517EE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49172B-34E8-4BE9-A370-92F1D125D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178D83-1392-48A0-A439-923B36CEA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73B304-A36B-474A-B00E-D5D152F4C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58392C-9187-4E80-8D50-D40002EDA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DD78A1-D010-4437-9523-FD7E3E067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0782D7-441F-4B2F-972A-D511B3E60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E194C3-7D41-4442-94B4-9E634A907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6964B6-76C0-4D71-80E6-706F231D9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84190-FC24-4492-97AF-14C30AAB1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943281-A204-4F1F-B5C3-423B7FF79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881760-D620-4210-9EA8-A0450993C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D10D24-E2D6-494A-BC41-6D7E3EED3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5623A0-9ACE-4D6D-BCC4-C0054AD03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4E1CD4-E8E3-44AA-B6CC-08BD61A35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43005-F600-4AD7-9B5B-3CCEFB19A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09945-7410-48F2-A9FF-C438B6CC87E8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8A723-875A-469A-BF79-1D62DBF722C2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D6EEB-0A7A-4841-952B-B3AF03F1D13F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9268B-6F03-4AC4-84F2-18C445B21B96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412EC-5897-4B2F-8241-4697498EEA10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A76B5-3049-452A-9DD2-3AB8D3AF6EC5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08441-9C02-47DE-A0C7-5DC1FA1CC59F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356760" y="928440"/>
            <a:ext cx="8286840" cy="30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Итоговая работа </a:t>
            </a:r>
            <a:br>
              <a:rPr sz="4300"/>
            </a:br>
            <a:r>
              <a:rPr b="1" lang="ru-RU" sz="43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по теме «Литосфера»</a:t>
            </a:r>
            <a:br>
              <a:rPr sz="4300"/>
            </a:br>
            <a:r>
              <a:rPr b="1" lang="ru-RU" sz="43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6 класс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19" name="Picture 3" descr="http://tana.ucoz.ru/_ld/11/28381.gif"/>
          <p:cNvPicPr/>
          <p:nvPr/>
        </p:nvPicPr>
        <p:blipFill>
          <a:blip r:embed="rId1"/>
          <a:stretch/>
        </p:blipFill>
        <p:spPr>
          <a:xfrm>
            <a:off x="1143000" y="4786200"/>
            <a:ext cx="7286760" cy="15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 txBox="1"/>
          <p:nvPr/>
        </p:nvSpPr>
        <p:spPr>
          <a:xfrm>
            <a:off x="1213920" y="-360"/>
            <a:ext cx="7720200" cy="664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9. К топливным полезным ископаемым относят: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А) песчаник, гранит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Б) нефть, газ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В) калийная соль, торф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10. Низменность имеет высоту над уровнем моря: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А) от 200 до 500 м       Б) от 0 до 200 м    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В) выше 500 м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11. Высокие горы по абсолютной высоте бывают: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А) до 1000 м       Б) Выше 5000 м      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В) выше 2000 м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12.Литосфера включает в себя: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только земную кору,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земную кору и верхнюю часть мантии,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земную кору, верхнюю часть мантии и ядро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642960" y="142920"/>
            <a:ext cx="8291520" cy="610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13. Приподнятая равнина, с высотой, превышающей 500 м, называется…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низменностью  Б) плоскогорьем   В) возвышенностью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14. Эпицентр землетрясения — это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йон землетрясения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чаг землетрясения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чка на поверхности Земли, расположенная над очагом землетрясения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15. Мощность земной коры под океаном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5-10 км;  Б) 15-100 км; В) 10-60 км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1213920" y="214200"/>
            <a:ext cx="7720200" cy="603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13. Установите соответствие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ы горных пород:             Примеры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Магматические.             а) базальт, гнейс,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Осадочные.                     б) известняк, гипс,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Метаморфические.         в) мрамор, гипс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14. Распределите равнины по мере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величения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их высоты над уровнем моря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1) плоскогорья,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2) низменности,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3) возвышенности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Угадай объект.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4928760" y="4642920"/>
            <a:ext cx="3714840" cy="1785960"/>
          </a:xfrm>
          <a:prstGeom prst="rect">
            <a:avLst/>
          </a:prstGeom>
          <a:solidFill>
            <a:srgbClr val="ffffff"/>
          </a:solidFill>
          <a:ln w="25560">
            <a:solidFill>
              <a:srgbClr val="feb80a"/>
            </a:solidFill>
            <a:miter/>
          </a:ln>
        </p:spPr>
        <p:txBody>
          <a:bodyPr anchor="t">
            <a:normAutofit/>
          </a:bodyPr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orbe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ее 2000 м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r>
              <a:rPr b="1" lang="ru-RU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.ш. 72</a:t>
            </a:r>
            <a:r>
              <a:rPr b="1" lang="ru-RU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.д.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оло 2 млн км</a:t>
            </a:r>
            <a:r>
              <a:rPr b="1" lang="ru-RU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1" name="Прямоугольник 3"/>
          <p:cNvSpPr/>
          <p:nvPr/>
        </p:nvSpPr>
        <p:spPr>
          <a:xfrm>
            <a:off x="1000080" y="1643040"/>
            <a:ext cx="3500640" cy="1556280"/>
          </a:xfrm>
          <a:prstGeom prst="rect">
            <a:avLst/>
          </a:prstGeom>
          <a:solidFill>
            <a:srgbClr val="ffffff"/>
          </a:solidFill>
          <a:ln w="25560">
            <a:solidFill>
              <a:srgbClr val="84aa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 1000 до 2000 м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ru-RU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ю.ш. 38</a:t>
            </a:r>
            <a:r>
              <a:rPr b="1" lang="ru-RU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.д.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ее 5 млн км</a:t>
            </a:r>
            <a:r>
              <a:rPr b="1" lang="ru-RU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Прямоугольник 4"/>
          <p:cNvSpPr/>
          <p:nvPr/>
        </p:nvSpPr>
        <p:spPr>
          <a:xfrm>
            <a:off x="5143680" y="1571760"/>
            <a:ext cx="3571560" cy="1556280"/>
          </a:xfrm>
          <a:prstGeom prst="rect">
            <a:avLst/>
          </a:prstGeom>
          <a:solidFill>
            <a:srgbClr val="ffffff"/>
          </a:solidFill>
          <a:ln w="25560">
            <a:solidFill>
              <a:srgbClr val="c32d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 0 до 200 м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r>
              <a:rPr b="1" lang="ru-RU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.ш. 15</a:t>
            </a:r>
            <a:r>
              <a:rPr b="1" lang="ru-RU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.д.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ее 2 млн км</a:t>
            </a:r>
            <a:r>
              <a:rPr b="1" lang="ru-RU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3" name="TextBox 6"/>
          <p:cNvGrpSpPr/>
          <p:nvPr/>
        </p:nvGrpSpPr>
        <p:grpSpPr>
          <a:xfrm>
            <a:off x="884160" y="785880"/>
            <a:ext cx="1041480" cy="890640"/>
            <a:chOff x="884160" y="785880"/>
            <a:chExt cx="1041480" cy="890640"/>
          </a:xfrm>
        </p:grpSpPr>
        <p:pic>
          <p:nvPicPr>
            <p:cNvPr id="344" name="TextBox 6" descr=""/>
            <p:cNvPicPr/>
            <p:nvPr/>
          </p:nvPicPr>
          <p:blipFill>
            <a:blip r:embed="rId1"/>
            <a:stretch/>
          </p:blipFill>
          <p:spPr>
            <a:xfrm>
              <a:off x="884160" y="785880"/>
              <a:ext cx="1041480" cy="89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5" name=""/>
            <p:cNvSpPr/>
            <p:nvPr/>
          </p:nvSpPr>
          <p:spPr>
            <a:xfrm>
              <a:off x="1154880" y="928800"/>
              <a:ext cx="523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.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6" name="TextBox 7"/>
          <p:cNvGrpSpPr/>
          <p:nvPr/>
        </p:nvGrpSpPr>
        <p:grpSpPr>
          <a:xfrm>
            <a:off x="7748640" y="646200"/>
            <a:ext cx="1041480" cy="890640"/>
            <a:chOff x="7748640" y="646200"/>
            <a:chExt cx="1041480" cy="890640"/>
          </a:xfrm>
        </p:grpSpPr>
        <p:pic>
          <p:nvPicPr>
            <p:cNvPr id="347" name="TextBox 7" descr=""/>
            <p:cNvPicPr/>
            <p:nvPr/>
          </p:nvPicPr>
          <p:blipFill>
            <a:blip r:embed="rId2"/>
            <a:stretch/>
          </p:blipFill>
          <p:spPr>
            <a:xfrm>
              <a:off x="7748640" y="646200"/>
              <a:ext cx="1041480" cy="89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8" name=""/>
            <p:cNvSpPr/>
            <p:nvPr/>
          </p:nvSpPr>
          <p:spPr>
            <a:xfrm>
              <a:off x="8004240" y="785880"/>
              <a:ext cx="523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.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9" name="Прямоугольник 8"/>
          <p:cNvSpPr/>
          <p:nvPr/>
        </p:nvSpPr>
        <p:spPr>
          <a:xfrm>
            <a:off x="1143000" y="4643280"/>
            <a:ext cx="3500280" cy="1556280"/>
          </a:xfrm>
          <a:prstGeom prst="rect">
            <a:avLst/>
          </a:prstGeom>
          <a:solidFill>
            <a:srgbClr val="ffffff"/>
          </a:solidFill>
          <a:ln w="25560">
            <a:solidFill>
              <a:srgbClr val="475a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 200 до 500 м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r>
              <a:rPr b="1" lang="ru-RU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.ш. 150</a:t>
            </a:r>
            <a:r>
              <a:rPr b="1" lang="ru-RU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.д.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ее 3 млн км</a:t>
            </a:r>
            <a:r>
              <a:rPr b="1" lang="ru-RU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TextBox 9"/>
          <p:cNvGrpSpPr/>
          <p:nvPr/>
        </p:nvGrpSpPr>
        <p:grpSpPr>
          <a:xfrm>
            <a:off x="957240" y="3571920"/>
            <a:ext cx="1042920" cy="890640"/>
            <a:chOff x="957240" y="3571920"/>
            <a:chExt cx="1042920" cy="890640"/>
          </a:xfrm>
        </p:grpSpPr>
        <p:pic>
          <p:nvPicPr>
            <p:cNvPr id="351" name="TextBox 9" descr=""/>
            <p:cNvPicPr/>
            <p:nvPr/>
          </p:nvPicPr>
          <p:blipFill>
            <a:blip r:embed="rId3"/>
            <a:stretch/>
          </p:blipFill>
          <p:spPr>
            <a:xfrm>
              <a:off x="957240" y="3571920"/>
              <a:ext cx="1042920" cy="89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2" name=""/>
            <p:cNvSpPr/>
            <p:nvPr/>
          </p:nvSpPr>
          <p:spPr>
            <a:xfrm>
              <a:off x="1217520" y="3714840"/>
              <a:ext cx="523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.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3" name="TextBox 10"/>
          <p:cNvGrpSpPr/>
          <p:nvPr/>
        </p:nvGrpSpPr>
        <p:grpSpPr>
          <a:xfrm>
            <a:off x="7748640" y="3713040"/>
            <a:ext cx="1041480" cy="895320"/>
            <a:chOff x="7748640" y="3713040"/>
            <a:chExt cx="1041480" cy="895320"/>
          </a:xfrm>
        </p:grpSpPr>
        <p:pic>
          <p:nvPicPr>
            <p:cNvPr id="354" name="TextBox 10" descr=""/>
            <p:cNvPicPr/>
            <p:nvPr/>
          </p:nvPicPr>
          <p:blipFill>
            <a:blip r:embed="rId4"/>
            <a:stretch/>
          </p:blipFill>
          <p:spPr>
            <a:xfrm>
              <a:off x="7748640" y="3713040"/>
              <a:ext cx="1041480" cy="89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5" name=""/>
            <p:cNvSpPr/>
            <p:nvPr/>
          </p:nvSpPr>
          <p:spPr>
            <a:xfrm>
              <a:off x="8004240" y="3857760"/>
              <a:ext cx="523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4.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6" name="TextBox 11"/>
          <p:cNvSpPr/>
          <p:nvPr/>
        </p:nvSpPr>
        <p:spPr>
          <a:xfrm>
            <a:off x="439200" y="366840"/>
            <a:ext cx="53568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7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071360" y="213840"/>
            <a:ext cx="7786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Найдите соответствия, выявите признак, который положен в основу.</a:t>
            </a: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8" name="TextBox 3"/>
          <p:cNvSpPr/>
          <p:nvPr/>
        </p:nvSpPr>
        <p:spPr>
          <a:xfrm>
            <a:off x="441720" y="366840"/>
            <a:ext cx="53568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8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0" y="1285920"/>
          <a:ext cx="9144000" cy="5557680"/>
        </p:xfrm>
        <a:graphic>
          <a:graphicData uri="http://schemas.openxmlformats.org/drawingml/2006/table">
            <a:tbl>
              <a:tblPr/>
              <a:tblGrid>
                <a:gridCol w="2286000"/>
                <a:gridCol w="357120"/>
                <a:gridCol w="1928880"/>
                <a:gridCol w="2286000"/>
                <a:gridCol w="2286000"/>
              </a:tblGrid>
              <a:tr h="3988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Corbel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Corbel"/>
                        </a:rPr>
                        <a:t>1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4aa33"/>
                      </a:solidFill>
                    </a:lnL>
                    <a:lnR w="5760">
                      <a:solidFill>
                        <a:srgbClr val="84aa33"/>
                      </a:solidFill>
                    </a:lnR>
                    <a:lnT w="5760">
                      <a:solidFill>
                        <a:srgbClr val="84aa33"/>
                      </a:solidFill>
                    </a:lnT>
                    <a:lnB w="12240">
                      <a:solidFill>
                        <a:srgbClr val="84aa33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Corbel"/>
                        </a:rPr>
                        <a:t>2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4aa33"/>
                      </a:solidFill>
                    </a:lnL>
                    <a:lnR w="5760">
                      <a:solidFill>
                        <a:srgbClr val="84aa33"/>
                      </a:solidFill>
                    </a:lnR>
                    <a:lnT w="5760">
                      <a:solidFill>
                        <a:srgbClr val="84aa33"/>
                      </a:solidFill>
                    </a:lnT>
                    <a:lnB w="12240">
                      <a:solidFill>
                        <a:srgbClr val="84aa33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8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14440" indent="-5144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вказ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14440" indent="-5144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рал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14440" indent="-5144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ьпы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4aa33"/>
                      </a:solidFill>
                    </a:lnL>
                    <a:lnR w="5760">
                      <a:solidFill>
                        <a:srgbClr val="84aa33"/>
                      </a:solidFill>
                    </a:lnR>
                    <a:lnT w="12240">
                      <a:solidFill>
                        <a:srgbClr val="84aa33"/>
                      </a:solidFill>
                    </a:lnT>
                    <a:lnB w="5760">
                      <a:solidFill>
                        <a:srgbClr val="84aa33"/>
                      </a:solidFill>
                    </a:lnB>
                    <a:solidFill>
                      <a:srgbClr val="3399ff">
                        <a:alpha val="20000"/>
                      </a:srgbClr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.Монбла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. Народна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. Эльбру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4aa33"/>
                      </a:solidFill>
                    </a:lnL>
                    <a:lnR w="5760">
                      <a:solidFill>
                        <a:srgbClr val="84aa33"/>
                      </a:solidFill>
                    </a:lnR>
                    <a:lnT w="12240">
                      <a:solidFill>
                        <a:srgbClr val="84aa33"/>
                      </a:solidFill>
                    </a:lnT>
                    <a:lnB w="5760">
                      <a:solidFill>
                        <a:srgbClr val="84aa33"/>
                      </a:solidFill>
                    </a:lnB>
                    <a:solidFill>
                      <a:srgbClr val="3399ff">
                        <a:alpha val="2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Амазонская низменность</a:t>
                      </a:r>
                      <a:br>
                        <a:rPr sz="2400"/>
                      </a:b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Аравийское плоскогорье</a:t>
                      </a:r>
                      <a:br>
                        <a:rPr sz="2400"/>
                      </a:b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Великие Равнин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4aa33"/>
                      </a:solidFill>
                    </a:lnL>
                    <a:lnR w="5760">
                      <a:solidFill>
                        <a:srgbClr val="84aa33"/>
                      </a:solidFill>
                    </a:lnR>
                    <a:lnT w="12240">
                      <a:solidFill>
                        <a:srgbClr val="84aa33"/>
                      </a:solidFill>
                    </a:lnT>
                    <a:lnB w="5760">
                      <a:solidFill>
                        <a:srgbClr val="84aa33"/>
                      </a:solidFill>
                    </a:lnB>
                    <a:solidFill>
                      <a:srgbClr val="66ff33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. Евразия</a:t>
                      </a:r>
                      <a:br>
                        <a:rPr sz="2800"/>
                      </a:b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. Северная Америка</a:t>
                      </a:r>
                      <a:br>
                        <a:rPr sz="2800"/>
                      </a:b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. Южная Амери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4aa33"/>
                      </a:solidFill>
                    </a:lnL>
                    <a:lnR w="5760">
                      <a:solidFill>
                        <a:srgbClr val="84aa33"/>
                      </a:solidFill>
                    </a:lnR>
                    <a:lnT w="12240">
                      <a:solidFill>
                        <a:srgbClr val="84aa33"/>
                      </a:solidFill>
                    </a:lnT>
                    <a:lnB w="5760">
                      <a:solidFill>
                        <a:srgbClr val="84aa33"/>
                      </a:solidFill>
                    </a:lnB>
                    <a:solidFill>
                      <a:srgbClr val="66ff33">
                        <a:alpha val="20000"/>
                      </a:srgbClr>
                    </a:solidFill>
                  </a:tcPr>
                </a:tc>
              </a:tr>
              <a:tr h="3988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Corbel"/>
                        </a:rPr>
                        <a:t>3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4aa33"/>
                      </a:solidFill>
                    </a:lnL>
                    <a:lnR w="5760">
                      <a:solidFill>
                        <a:srgbClr val="84aa33"/>
                      </a:solidFill>
                    </a:lnR>
                    <a:lnT w="5760">
                      <a:solidFill>
                        <a:srgbClr val="84aa33"/>
                      </a:solidFill>
                    </a:lnT>
                    <a:lnB w="5760">
                      <a:solidFill>
                        <a:srgbClr val="84aa33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Corbel"/>
                        </a:rPr>
                        <a:t>4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4aa33"/>
                      </a:solidFill>
                    </a:lnL>
                    <a:lnR w="5760">
                      <a:solidFill>
                        <a:srgbClr val="84aa33"/>
                      </a:solidFill>
                    </a:lnR>
                    <a:lnT w="5760">
                      <a:solidFill>
                        <a:srgbClr val="84aa33"/>
                      </a:solidFill>
                    </a:lnT>
                    <a:lnB w="5760">
                      <a:solidFill>
                        <a:srgbClr val="84aa33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714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Анды</a:t>
                      </a:r>
                      <a:br>
                        <a:rPr sz="2800"/>
                      </a:b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Гималаи</a:t>
                      </a:r>
                      <a:br>
                        <a:rPr sz="2800"/>
                      </a:b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Кордильер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4aa33"/>
                      </a:solidFill>
                    </a:lnL>
                    <a:lnR w="5760">
                      <a:solidFill>
                        <a:srgbClr val="84aa33"/>
                      </a:solidFill>
                    </a:lnR>
                    <a:lnT w="5760">
                      <a:solidFill>
                        <a:srgbClr val="84aa33"/>
                      </a:solidFill>
                    </a:lnT>
                    <a:lnB w="5760">
                      <a:solidFill>
                        <a:srgbClr val="84aa33"/>
                      </a:solidFill>
                    </a:lnB>
                    <a:solidFill>
                      <a:srgbClr val="ffff00">
                        <a:alpha val="2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. Евразия</a:t>
                      </a:r>
                      <a:br>
                        <a:rPr sz="2400"/>
                      </a:b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. Южная Америка</a:t>
                      </a:r>
                      <a:br>
                        <a:rPr sz="2400"/>
                      </a:b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. Северная Амери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4aa33"/>
                      </a:solidFill>
                    </a:lnL>
                    <a:lnR w="5760">
                      <a:solidFill>
                        <a:srgbClr val="84aa33"/>
                      </a:solidFill>
                    </a:lnR>
                    <a:lnT w="5760">
                      <a:solidFill>
                        <a:srgbClr val="84aa33"/>
                      </a:solidFill>
                    </a:lnT>
                    <a:lnB w="5760">
                      <a:solidFill>
                        <a:srgbClr val="84aa33"/>
                      </a:solidFill>
                    </a:lnB>
                    <a:solidFill>
                      <a:srgbClr val="ffff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Эверест</a:t>
                      </a:r>
                      <a:br>
                        <a:rPr sz="3200"/>
                      </a:b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Эльбрус</a:t>
                      </a:r>
                      <a:br>
                        <a:rPr sz="3200"/>
                      </a:b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Мак-Кинли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4aa33"/>
                      </a:solidFill>
                    </a:lnL>
                    <a:lnR w="5760">
                      <a:solidFill>
                        <a:srgbClr val="84aa33"/>
                      </a:solidFill>
                    </a:lnR>
                    <a:lnT w="5760">
                      <a:solidFill>
                        <a:srgbClr val="84aa33"/>
                      </a:solidFill>
                    </a:lnT>
                    <a:lnB w="5760">
                      <a:solidFill>
                        <a:srgbClr val="84aa33"/>
                      </a:solidFill>
                    </a:lnB>
                    <a:solidFill>
                      <a:srgbClr val="7030a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. 5642 м.</a:t>
                      </a:r>
                      <a:br>
                        <a:rPr sz="3200"/>
                      </a:b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. 6194 м.</a:t>
                      </a:r>
                      <a:br>
                        <a:rPr sz="3200"/>
                      </a:b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. 8848 м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4aa33"/>
                      </a:solidFill>
                    </a:lnL>
                    <a:lnR w="5760">
                      <a:solidFill>
                        <a:srgbClr val="84aa33"/>
                      </a:solidFill>
                    </a:lnR>
                    <a:lnT w="5760">
                      <a:solidFill>
                        <a:srgbClr val="84aa33"/>
                      </a:solidFill>
                    </a:lnT>
                    <a:lnB w="5760">
                      <a:solidFill>
                        <a:srgbClr val="84aa33"/>
                      </a:solidFill>
                    </a:lnB>
                    <a:solidFill>
                      <a:srgbClr val="7030a0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360" name="Rectangle 29"/>
          <p:cNvSpPr/>
          <p:nvPr/>
        </p:nvSpPr>
        <p:spPr>
          <a:xfrm>
            <a:off x="98280" y="68400"/>
            <a:ext cx="114480" cy="11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 txBox="1"/>
          <p:nvPr/>
        </p:nvSpPr>
        <p:spPr>
          <a:xfrm>
            <a:off x="142920" y="1214280"/>
            <a:ext cx="428616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Высочайшая вершина Кавказских гор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Магматическая горная порода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Воронкообразное отверстие на вершине вулканического конуса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Равнина, которая находится на высоте более 500 м от уровня Мирового океана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Вулкан в Антарктиде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Тип выветривания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Источник, периодически выбрасывающий горячую воду и пар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Группа гор, расположенная в ряд на многие километры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 Высочайшие горы земного шара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aphicFrame>
        <p:nvGraphicFramePr>
          <p:cNvPr id="362" name=""/>
          <p:cNvGraphicFramePr/>
          <p:nvPr/>
        </p:nvGraphicFramePr>
        <p:xfrm>
          <a:off x="4572000" y="428760"/>
          <a:ext cx="4299120" cy="2927160"/>
        </p:xfrm>
        <a:graphic>
          <a:graphicData uri="http://schemas.openxmlformats.org/drawingml/2006/table">
            <a:tbl>
              <a:tblPr/>
              <a:tblGrid>
                <a:gridCol w="324000"/>
                <a:gridCol w="323640"/>
                <a:gridCol w="324000"/>
                <a:gridCol w="295200"/>
                <a:gridCol w="324000"/>
                <a:gridCol w="368280"/>
                <a:gridCol w="295200"/>
                <a:gridCol w="296640"/>
                <a:gridCol w="295560"/>
                <a:gridCol w="296640"/>
                <a:gridCol w="295200"/>
                <a:gridCol w="295560"/>
                <a:gridCol w="296640"/>
                <a:gridCol w="268560"/>
              </a:tblGrid>
              <a:tr h="303120">
                <a:tc gridSpan="4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Arial CYR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31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Arial CYR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7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3120">
                <a:tc gridSpan="2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Arial CYR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348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Arial CYR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312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Arial CYR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1480">
                <a:tc gridSpan="5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Arial CYR"/>
                          <a:ea typeface="Times New Roman"/>
                        </a:rPr>
                        <a:t>6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480">
                <a:tc gridSpan="4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Arial CYR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3120">
                <a:tc gridSpan="4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Arial CYR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3120">
                <a:tc gridSpan="2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Arial CYR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1071360" y="357120"/>
            <a:ext cx="761508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По данным определениям отгадайте понятие: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   </a:t>
            </a:r>
            <a:r>
              <a:rPr b="1" lang="ru-RU" sz="4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Наземный, подводный, спящий, потухший, действующий, грозный, огнедышащий, извергающийся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1" name="TextBox 7"/>
          <p:cNvSpPr/>
          <p:nvPr/>
        </p:nvSpPr>
        <p:spPr>
          <a:xfrm>
            <a:off x="437760" y="366840"/>
            <a:ext cx="54036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.</a:t>
            </a:r>
            <a:r>
              <a:rPr b="1" lang="ru-RU" sz="2800" spc="-1" strike="noStrike">
                <a:solidFill>
                  <a:srgbClr val="ff0000"/>
                </a:solidFill>
                <a:latin typeface="Corbe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TextBox 9"/>
          <p:cNvSpPr/>
          <p:nvPr/>
        </p:nvSpPr>
        <p:spPr>
          <a:xfrm>
            <a:off x="1500120" y="1714680"/>
            <a:ext cx="721512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называются горные породы, которые образовались в результате жизнедеятельности древних организмов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ведите примеры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Box 19"/>
          <p:cNvSpPr/>
          <p:nvPr/>
        </p:nvSpPr>
        <p:spPr>
          <a:xfrm>
            <a:off x="441720" y="366840"/>
            <a:ext cx="53568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TextBox 9"/>
          <p:cNvSpPr/>
          <p:nvPr/>
        </p:nvSpPr>
        <p:spPr>
          <a:xfrm>
            <a:off x="1428840" y="1143000"/>
            <a:ext cx="714384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называются горные породы, изменённые под действием огромного давления и высоких температур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ведите примеры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Box 16"/>
          <p:cNvSpPr/>
          <p:nvPr/>
        </p:nvSpPr>
        <p:spPr>
          <a:xfrm>
            <a:off x="441720" y="366840"/>
            <a:ext cx="53568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1142640" y="428400"/>
            <a:ext cx="8001000" cy="57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cccc"/>
                </a:solidFill>
                <a:latin typeface="Comic Sans MS"/>
              </a:rPr>
              <a:t>  </a:t>
            </a:r>
            <a:r>
              <a:rPr b="1" lang="ru-RU" sz="4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Определив логическую взаимосвязь по первым парам слов, отгадайте второе слово последней пары.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Гималаи – Эверест, 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Анды – Аконкагуа,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Кавказ - …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7" name="TextBox 7"/>
          <p:cNvSpPr/>
          <p:nvPr/>
        </p:nvSpPr>
        <p:spPr>
          <a:xfrm>
            <a:off x="447120" y="366840"/>
            <a:ext cx="53568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385"/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" dur="385" fill="hold"/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7" dur="385" fill="hold"/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9" dur="385" fill="hold"/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385"/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6" dur="385" fill="hold"/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8" dur="385" fill="hold"/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0" dur="385" fill="hold"/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385"/>
                                        <p:tgtEl>
                                          <p:spTgt spid="3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5" dur="385" fill="hold"/>
                                        <p:tgtEl>
                                          <p:spTgt spid="3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7" dur="385" fill="hold"/>
                                        <p:tgtEl>
                                          <p:spTgt spid="3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9" dur="385" fill="hold"/>
                                        <p:tgtEl>
                                          <p:spTgt spid="3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285920" y="285840"/>
            <a:ext cx="6943680" cy="10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ff"/>
                </a:solidFill>
                <a:latin typeface="Comic Sans MS"/>
              </a:rPr>
              <a:t> </a:t>
            </a:r>
            <a:r>
              <a:rPr b="1" lang="ru-RU" sz="29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«Третий - лишний»</a:t>
            </a:r>
            <a:br>
              <a:rPr sz="2900"/>
            </a:br>
            <a:endParaRPr b="0" lang="en-US" sz="2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1071720" y="999720"/>
            <a:ext cx="785808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1. Гималаи, Альпы, Кракатау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2. Среднерусская, Восточно – Европейская, Западно – Сибирская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3. нефть, природный газ, мрамор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4. Везувий, Кракатау, Народная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5. Кавказ, Гималаи, Уральские горы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6. Аравийское, Прикаспийская, Среднесибирское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0" name="TextBox 3"/>
          <p:cNvSpPr/>
          <p:nvPr/>
        </p:nvSpPr>
        <p:spPr>
          <a:xfrm>
            <a:off x="419400" y="366840"/>
            <a:ext cx="57708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rbel"/>
              </a:rPr>
              <a:t>5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 txBox="1"/>
          <p:nvPr/>
        </p:nvSpPr>
        <p:spPr>
          <a:xfrm>
            <a:off x="1213920" y="357120"/>
            <a:ext cx="764388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7. излившиеся, глубинные, химические</a:t>
            </a:r>
            <a:endParaRPr b="0" lang="en-US" sz="33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8. Джомолунгма, Аконкагуа, Косцюшко</a:t>
            </a:r>
            <a:endParaRPr b="0" lang="en-US" sz="33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9. средние, высокие, холмистые</a:t>
            </a:r>
            <a:endParaRPr b="0" lang="en-US" sz="33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10.ложе, возвышенность, шельф</a:t>
            </a:r>
            <a:endParaRPr b="0" lang="en-US" sz="33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11. хребет, Камерун, Везувий</a:t>
            </a:r>
            <a:endParaRPr b="0" lang="en-US" sz="33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12.пик, Альпы, Гималаи </a:t>
            </a:r>
            <a:endParaRPr b="0" lang="en-US" sz="33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26560" y="188640"/>
            <a:ext cx="785988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071720" y="357120"/>
            <a:ext cx="785808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1. Часть земного шара – твердая и одновременно пластичная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А) мантия        Б) ядро              В) земная кора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2. К метаморфическим горным породам относится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А) торф            Б) мрамор          В) базальт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3. Обломочные осадочные горные породы образовались в результате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А) осаждения из воды растворенных в ней частиц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Б) разрушения твердых пород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В) застывания магмы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4. Каким цветом на карте обозначаются низменности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А) голубым       Б) зеленым           В) желтым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4" name="TextBox 3"/>
          <p:cNvSpPr/>
          <p:nvPr/>
        </p:nvSpPr>
        <p:spPr>
          <a:xfrm>
            <a:off x="430560" y="366840"/>
            <a:ext cx="57708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rbel"/>
              </a:rPr>
              <a:t>6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1214280" y="356760"/>
            <a:ext cx="778680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5. Самой высокой вершиной мира является гора: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А) Эльбрус        Б) Монблан          В) Джомолунгма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6. Наука, изучающая землетрясения: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А) геология         Б) гляциология          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</a:t>
            </a:r>
            <a:r>
              <a:rPr b="1" lang="ru-RU" sz="25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В) сейсмология  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    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7. Какой слой присутствует в материковой земной коре, но отсутствует в океанической: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А) гранитный         Б) базальтовый          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В) осадочный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8. К группе осадочных горных пород относятся: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А) песчаник , гравий, щебень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Б) мрамор, кварцит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В) гранит, базальт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7T17:42:03Z</dcterms:created>
  <dc:creator>Дом</dc:creator>
  <dc:description/>
  <dc:language>en-US</dc:language>
  <cp:lastModifiedBy>User</cp:lastModifiedBy>
  <dcterms:modified xsi:type="dcterms:W3CDTF">2012-11-11T14:44:52Z</dcterms:modified>
  <cp:revision>13</cp:revision>
  <dc:subject/>
  <dc:title>Итоговая работа  по теме «Литосфера» 6 класс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300076331049</vt:lpwstr>
  </property>
</Properties>
</file>