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8E3-9A29-41A0-9999-61F68ABE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44E-A625-448E-8A9A-36661CAB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970-DF84-4A6B-8278-9E2E3BA4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2E7-B60A-4DE4-BC8B-1275BFC6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2338-1FB6-431D-9CD9-36A8F44A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ABC0-0CD6-4BB7-A680-BBCF5CD8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BB31-6178-4F1D-8EC4-A9F3852D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26AF-047E-4561-8627-837B007B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4C05-24A7-4068-9D6B-7158F1C7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C927-8F28-4F6E-AE24-7B33D95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1C25-991A-4736-95FA-D9983ED4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E62-C756-4AF7-BF31-A127FBF3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A7B1-0CBA-428C-A956-7C19A461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784B-05D7-41FD-846F-5B4587DA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4BD8-2DA1-40E4-AF13-FB382DB7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FEB2-6BEB-4A3A-A814-8BC8E197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625-A516-4EB0-BE99-F86E0C17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2A9-7542-4C52-90B9-B2E2A815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238-BF9A-4972-A7A4-524292F7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113-DDEE-4239-8964-B29D45AA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DB7-D736-4C90-9C80-27471A1A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398-30F6-4763-BAA4-F9C5DD8D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B8D-6AA5-4385-873B-92AF860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9E4-7515-492B-BA80-4DD2A0A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ED91-AD2B-455B-B7D0-5FECB9576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FEC-BA08-452A-B1AE-D774554E8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&amp;text=&#1082;&#1072;&#1088;&#1090;&#1080;&#1085;&#1082;&#1080;%20&#1087;&#1086;&#1079;&#1076;&#1085;&#1103;&#1103;%20&#1086;&#1089;&#1077;&#1085;&#1100;&amp;noreask=1&amp;img_url=www.interfotki.ru%2Fcontent%2Fphoto%2F13%2F56%2F135619%2Fdxm509_cont.jpg&amp;pos=99&amp;rpt=simage&amp;lr=213&amp;noj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Как я пров</a:t>
            </a:r>
            <a:r>
              <a:rPr b="1" lang="en-US" sz="4800" spc="-1" strike="noStrike">
                <a:solidFill>
                  <a:srgbClr val="feec94"/>
                </a:solidFill>
                <a:latin typeface="Arial"/>
              </a:rPr>
              <a:t>ё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л осенние каникул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4842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рсанова Серге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«Б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349360"/>
            <a:ext cx="4105440" cy="244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Arial"/>
              </a:rPr>
              <a:t>г.Волоколамск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вои осенние каникулы я провёл в горо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локоламске, на дач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256360" cy="324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Экскурсия на фабрику «Ёлочка»  г.Высоковск   6 ноября 2012 г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Rectangle 22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545080" cy="360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ход за домашними питомцам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шка Анфиса и её котёнок Масян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5600" y="1271520"/>
            <a:ext cx="5752800" cy="367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8388360" cy="13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треча с другом Антоно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гра в шахматы с дедо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6121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408720" cy="4388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Чтение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076480"/>
            <a:ext cx="706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256000" cy="374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Конец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0:18:23Z</dcterms:created>
  <dc:creator>мариша</dc:creator>
  <dc:description/>
  <dc:language>en-US</dc:language>
  <cp:lastModifiedBy>Admin</cp:lastModifiedBy>
  <dcterms:modified xsi:type="dcterms:W3CDTF">2012-11-11T14:38:50Z</dcterms:modified>
  <cp:revision>7</cp:revision>
  <dc:subject/>
  <dc:title>Сочинение на тему  «Как я провела осенние каникулы»</dc:title>
</cp:coreProperties>
</file>