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BD3F-C0F3-4B09-8065-8588AC6097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EBC1-4CE0-4CCB-A3C0-686DE5409C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64A6-B1E7-4344-B814-C078BC1250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5739-7549-4E18-A41C-865DE414C5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03AC-4EF3-4D79-81BC-6B2309769C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8334-250E-489F-AF78-1EC86D5083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EEA0-2297-435E-81A7-8F61B7436D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6169-2EBC-4E4B-BD9B-2628034556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9822-627F-49D7-8115-E7961E8D0F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C2C1-EEEE-40EB-9E39-7E7E74BF53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392E-748C-4CD0-BDC3-1C9E715F80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963-5A27-4BC3-BD8B-91C84187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484-959E-4D9D-A37B-1865C8AD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3C0BB-F94B-4557-97A6-80B96D6A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2A2E3D-67DF-4C42-A3CC-045674FC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24BB1D-6C45-4F23-A48B-FD098FBB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C02C04-616F-4FD6-B152-49A3CA8D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DF5051-5237-4754-9482-805453FE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5ED9EE-75C0-440D-9F4B-62C1994F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979FF2-A914-468C-A8B4-3655183E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3C0E3F-6C5E-45B0-BC09-47816908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83B1D0-4B12-40EF-95E1-16F8C450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354C4-57DD-4FB0-90F9-24EB0132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35D-20DB-43B4-81EB-2C6D7E29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03156-882A-46A6-9AF5-0C2AC17C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5C958-E5E6-4787-B841-BBCC1649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5A859-F52F-43AA-934B-31C9C737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91BBE-B3CB-4371-9110-FC5ADBB1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4A5F7-5274-4E2A-A164-7AE457BE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6F93D-266D-49AF-AD9F-7BE3CCDA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22D588-97CA-44AF-A0D3-EABF8C38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E0356-71A4-40F1-A1DF-65A4F643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D17F2-255D-4FAA-A44D-26E3E1ED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8C501-8F77-4EAE-93CD-4EBBA484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779-7CF3-468A-8EA8-1B67D38F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FA7E7-8785-450D-BAF7-C37F4F62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21CBD-490C-49D6-9275-2125C277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765C6-3477-4B94-B7A5-71758060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FAE12-976E-4271-AFF4-A27265F4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F1654-2D32-4010-A40C-CF194F89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965C3-159E-452F-97DD-75761F50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3B065-2C34-4DDB-80A0-1D6090B4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A4851-0EAA-4D36-98F4-15CB5CC8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B135E-0BB6-4094-8D1A-B8CAD003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E0647-DA26-416A-B4D7-9F2CF495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D9B4-21FA-413B-AF65-B69FCEB9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5DA1A-D879-4BFC-9F50-01777C64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C2836-D6AF-4C6B-BBF8-700999FF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8E184-096C-461D-9D5E-B22374E0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7D9A-3CC6-4218-B3A8-5EDB9539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CD39-CD27-45B5-A9B7-6A9B0996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972D-B201-46CB-B9D3-5F0A604E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DC71-F450-4B33-A5DD-192BEE6A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3156-2861-4510-8265-8E6B88DC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56EF-013D-40D4-8C38-86BE02C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3CD-4B01-4359-AB21-2C3900DB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3BD7-5AE2-4916-BBD1-811894FA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0E4F-5122-4BC9-9146-A4A738BD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4996-F340-4FD4-8EFE-C01C0B03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AF6B-BD1A-411F-AEC4-337D764C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6562-A6C0-417A-949A-92AC475D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4DD8-E178-458A-ADD9-E4D44CC0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15D82-5A8C-4E07-B771-A830C001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8A70-E711-4BB0-B0D7-86C210DF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30BF-28DF-4014-8BEE-85AEF3E6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E2A5-CD88-4653-A987-C49369B3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08F-D02B-4EE0-A1A5-9D5BFD3A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545A-CFF3-4ECC-9F15-789A1721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47E9-19D7-4021-9835-BD26DD6C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2783-AC76-45B1-81AA-C09615B3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8D7D9-0AD6-4244-A118-4A188760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8A94-BF12-4060-8956-A1CA96F6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F6DB9-9D76-41C8-B332-67F9F92F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52B0F-1FE1-4AAF-BEED-4DAEDAE7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51C42-D18C-40FC-A867-029953DE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73C4-50D5-436B-B0A7-AE803D24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3FA57-56AF-4054-B887-ECD4AA76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6DF-FE31-4E96-94E5-65CD19D2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88C4D-D35E-4A55-B828-83EFD0A6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4D3E5-EAF2-43F6-8EBD-EBB7804E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6977-B2B7-4990-A35B-57239B64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67CE4-6C2C-44CB-8567-CAA722C7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D6D5-10AF-4562-BCE4-03592536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574B0-FD8C-42D6-BCAF-1B7A2057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AA91E-AF06-489A-99B7-2CEEE810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4BDFD-CF9A-4C8C-B944-551FD1B5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2C090-C5F4-469D-953C-99681C58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07CB8-3231-4DAB-A129-912704E4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CBC-4696-4AF2-B66A-51F623CF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8A259-B0F7-4453-A4C8-4763C79A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D7C37-5AD5-413F-9AE1-7C1CE5C6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32F2F-2328-4D7A-8585-AC145305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D6CC5-9E5B-48F0-95B0-5AF26165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58B2E-056A-41CB-AB13-4B40266A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D768A-7FF5-4CA2-BA67-4D798AB5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9DFB4-ED0E-48FE-899F-5E521279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6C88D-CF5B-42FB-98CE-2046B387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83AF7-14A0-4446-928D-0C530B64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2AB28-633B-4AC2-A8E0-FF06F6F3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5CE-2C9D-4B2B-B3AF-1F3F3B74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48DCC-1D4A-4BE4-9845-A8109A7E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FC329-BF63-4BA0-AF34-B6C8AC91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A8891-925D-4DBF-8683-9F2DA11B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13FDE-BBA0-40AD-82E5-9213A4A2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04E54-37B5-45BF-BFD3-1BB3727B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0D19E-09B1-48DD-B9EF-23AB7DA5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838AE-0F89-48DD-993A-FC269B15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EB276-50B8-4CE2-BBC5-442AFCB0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F9867-C55B-4E8B-8B83-CD2DC9A6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CFEC3-A18B-4D3D-886E-C38FF4DD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39D-F222-4D7D-84B8-4076A502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D367A-7211-439F-9D9D-7DDC9111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72622-0C7E-402E-821F-48BFA53D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2E521-D2DD-4EB4-AF29-C89413C1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B9A41-4FD2-49AB-8678-F2A561AB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CB6C7-5FBB-4B5B-99E1-515C024C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BC1AB-B9CA-4CB8-80E4-C5850F97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640F7-8700-4501-926D-64F1BC3C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8DE2A-B6A9-491A-8F63-E48D263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3B84-2B4A-40DB-BA25-1AC6F599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DFF47-BEA4-4DE0-9F6C-E690B52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977-363C-4CCA-9285-6152B37F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DAA37-3214-4EE3-B60D-21B68C1E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0D7EE-E243-47DF-A3A1-251AE08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4EB45-B66A-4C29-A9EF-1E6DB423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02AAE-348C-47E1-BEDE-7617DFBF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348CD-F374-4030-A49F-9CE24408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FDE3B-A884-4DED-9257-3B0227E0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6B436-DB48-4448-B911-DA21B56C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9B2EE-9301-408C-AD49-7EF9FD2F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3AFAA-3120-4653-AF59-25F41B9F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6F05A-2A56-45AA-9361-807B4597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FD7-3A32-4199-B999-1246DC4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47EC3-2B12-4CD9-845E-173F37E6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58407-7486-474F-8F45-E03200EE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CDD10-629F-437D-A048-A996E342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23DD9-EFF1-43F7-92BE-59D5C58D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91986-3E98-4073-9D99-01A9BEFA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55118-7A31-438C-ADD8-DCC18912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FD8FB-7B40-49F6-AC32-4AEF5591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F9F0F3-2762-432B-863B-7650F3E6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75F1F1-8D34-4F37-87E1-7C55725F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032777-16CC-4B4D-9373-F490BE23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AB09-3700-4444-84CB-D3A9B2ED5F9B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27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15D8-303E-4A7A-98E0-30A8D726A4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84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4989-79DA-4B0C-A457-355EEDD11A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C9EF-613C-4D2F-B915-34BCBD8BC8BC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172B-F513-4827-A6F4-61845CD6B4F1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6868-DA26-4C64-B94B-1B8A5CA750CE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86E8-9F22-4636-B895-B5156A380473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96FA-F332-45D4-9176-7B3B248E0885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941E-7F5F-45CE-9B52-8580F54F4218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1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1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C565-462A-4ED3-B57D-5251BAB13B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6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7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7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8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49F1-C944-4322-BDE3-7383AA5905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Горизонтальный свиток 4"/>
          <p:cNvSpPr/>
          <p:nvPr/>
        </p:nvSpPr>
        <p:spPr>
          <a:xfrm>
            <a:off x="324000" y="0"/>
            <a:ext cx="7848360" cy="3411360"/>
          </a:xfrm>
          <a:prstGeom prst="horizontalScroll">
            <a:avLst>
              <a:gd name="adj" fmla="val 12500"/>
            </a:avLst>
          </a:prstGeom>
          <a:solidFill>
            <a:srgbClr val="edeee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b3d17"/>
                </a:solidFill>
                <a:latin typeface="Arial"/>
              </a:rPr>
              <a:t>М.Ломоносов </a:t>
            </a:r>
            <a:br>
              <a:rPr sz="4800"/>
            </a:br>
            <a:r>
              <a:rPr b="1" lang="en-US" sz="4800" spc="-1" strike="noStrike">
                <a:solidFill>
                  <a:srgbClr val="7b3d17"/>
                </a:solidFill>
                <a:latin typeface="Arial"/>
              </a:rPr>
              <a:t>и </a:t>
            </a:r>
            <a:br>
              <a:rPr sz="4800"/>
            </a:br>
            <a:r>
              <a:rPr b="1" lang="en-US" sz="4800" spc="-1" strike="noStrike">
                <a:solidFill>
                  <a:srgbClr val="7b3d17"/>
                </a:solidFill>
                <a:latin typeface="Arial"/>
              </a:rPr>
              <a:t>физ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724360" y="4797360"/>
            <a:ext cx="3167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у выполн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 10 «Б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оярской школы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ужников Владисла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250920" y="2857680"/>
            <a:ext cx="3352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Box 5"/>
          <p:cNvSpPr/>
          <p:nvPr/>
        </p:nvSpPr>
        <p:spPr>
          <a:xfrm>
            <a:off x="250920" y="5084640"/>
            <a:ext cx="3240000" cy="459720"/>
          </a:xfrm>
          <a:prstGeom prst="rect">
            <a:avLst/>
          </a:prstGeom>
          <a:solidFill>
            <a:srgbClr val="d5d1d1"/>
          </a:solidFill>
          <a:ln w="9360">
            <a:solidFill>
              <a:srgbClr val="0c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Arial"/>
              </a:rPr>
              <a:t>Торсионные п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067280" y="907920"/>
            <a:ext cx="49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рода крепко держится своих законов и всюду одинакова”. В своих исследованиях Ломоносов широко использовал закон сохранения материи и движения. Природа, по Ломоносову, “состоит в действии и противодействии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419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1042920" y="5229360"/>
            <a:ext cx="66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овые идеи у Ломоносова не были случайными догадкам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ни являлись результатом его стройного научного материалистического мировоззре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5"/>
          <p:cNvSpPr/>
          <p:nvPr/>
        </p:nvSpPr>
        <p:spPr>
          <a:xfrm>
            <a:off x="6227640" y="5300640"/>
            <a:ext cx="2665440" cy="1191240"/>
          </a:xfrm>
          <a:prstGeom prst="rect">
            <a:avLst/>
          </a:prstGeom>
          <a:solidFill>
            <a:srgbClr val="d5d1d1"/>
          </a:solidFill>
          <a:ln w="9360">
            <a:solidFill>
              <a:srgbClr val="0c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Эйлер Леонар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1707-1783). Математик, механик, физик и астро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24000" y="4046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омоносов является одним из основоположников кинетической теории теплоты и газов, автором закона сохранения материи и дви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Все изменения, случающиеся в природе, происходят так, что если что-либо прибавится к чему-либо, то столько же отнимется от чего-то другого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из письма Л. Эйлеру (1748 г.)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13240" y="189000"/>
            <a:ext cx="38307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5651640" y="115920"/>
            <a:ext cx="349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Так, сколько часов я употребляю на сон, столько же отнимаю от бдения и т. 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как этот закон природы всеобщ, то он простирается даже и в правила движения, и тело, побуждающее своим толчком другое к движению, столько же теряет своего движения, сколько сообщает другому, движимому им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5486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Рисунок 4" descr="http://www.varson.ru/images/Himia_jpeg_big/4-03.jpg"/>
          <p:cNvPicPr/>
          <p:nvPr/>
        </p:nvPicPr>
        <p:blipFill>
          <a:blip r:embed="rId1"/>
          <a:srcRect l="2434" t="9928" r="58342" b="65324"/>
          <a:stretch/>
        </p:blipFill>
        <p:spPr>
          <a:xfrm>
            <a:off x="6300720" y="1052640"/>
            <a:ext cx="2592360" cy="2305080"/>
          </a:xfrm>
          <a:prstGeom prst="rect">
            <a:avLst/>
          </a:prstGeom>
          <a:ln w="9360">
            <a:solidFill>
              <a:srgbClr val="0c0909"/>
            </a:solidFill>
            <a:miter/>
          </a:ln>
        </p:spPr>
      </p:pic>
      <p:pic>
        <p:nvPicPr>
          <p:cNvPr id="957" name="Рисунок 5" descr="http://www.varson.ru/images/Himia_jpeg_big/4-03.jpg"/>
          <p:cNvPicPr/>
          <p:nvPr/>
        </p:nvPicPr>
        <p:blipFill>
          <a:blip r:embed="rId2"/>
          <a:srcRect l="60073" t="10068" r="2306" b="65183"/>
          <a:stretch/>
        </p:blipFill>
        <p:spPr>
          <a:xfrm>
            <a:off x="6372360" y="3573360"/>
            <a:ext cx="2511360" cy="2016360"/>
          </a:xfrm>
          <a:prstGeom prst="rect">
            <a:avLst/>
          </a:prstGeom>
          <a:ln w="9360">
            <a:solidFill>
              <a:srgbClr val="0c0909"/>
            </a:solidFill>
            <a:miter/>
          </a:ln>
        </p:spPr>
      </p:pic>
      <p:sp>
        <p:nvSpPr>
          <p:cNvPr id="958" name="Выгнутая влево стрелка 6"/>
          <p:cNvSpPr/>
          <p:nvPr/>
        </p:nvSpPr>
        <p:spPr>
          <a:xfrm rot="21003600">
            <a:off x="5568480" y="3125520"/>
            <a:ext cx="801720" cy="1611360"/>
          </a:xfrm>
          <a:custGeom>
            <a:avLst/>
            <a:gdLst>
              <a:gd name="textAreaLeft" fmla="*/ 107280 w 801720"/>
              <a:gd name="textAreaRight" fmla="*/ 694440 w 801720"/>
              <a:gd name="textAreaTop" fmla="*/ 327600 h 1611360"/>
              <a:gd name="textAreaBottom" fmla="*/ 1183680 h 161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85" stAng="-5400000" swAng="-5400000"/>
                <a:lnTo>
                  <a:pt x="0" y="11472"/>
                </a:lnTo>
                <a:arcTo wR="21600" hR="8785" stAng="10800000" swAng="-3455452"/>
                <a:lnTo>
                  <a:pt x="16200" y="21321"/>
                </a:lnTo>
                <a:lnTo>
                  <a:pt x="21600" y="18914"/>
                </a:lnTo>
                <a:lnTo>
                  <a:pt x="16200" y="15948"/>
                </a:lnTo>
                <a:lnTo>
                  <a:pt x="16200" y="17291"/>
                </a:lnTo>
                <a:arcTo wR="21600" hR="8785" stAng="7344548" swAng="3239367"/>
                <a:lnTo>
                  <a:pt x="254" y="10129"/>
                </a:lnTo>
                <a:arcTo wR="21600" hR="8785" stAng="-10583915" swAng="5183915"/>
                <a:close/>
              </a:path>
              <a:path fill="darkenLess" w="21600" h="21600">
                <a:moveTo>
                  <a:pt x="21600" y="0"/>
                </a:moveTo>
                <a:arcTo wR="21600" hR="8785" stAng="-5400000" swAng="-5400000"/>
                <a:lnTo>
                  <a:pt x="0" y="8785"/>
                </a:lnTo>
                <a:arcTo wR="21600" hR="8785" stAng="10800000" swAng="-216085"/>
                <a:lnTo>
                  <a:pt x="254" y="10129"/>
                </a:lnTo>
                <a:arcTo wR="21600" hR="8785" stAng="-10583915" swAng="5183915"/>
                <a:close/>
              </a:path>
            </a:pathLst>
          </a:custGeom>
          <a:solidFill>
            <a:srgbClr val="cadcd8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9" name="Рисунок 7" descr="http://www.varson.ru/images/Himia_jpeg_big/4-03.jpg"/>
          <p:cNvPicPr/>
          <p:nvPr/>
        </p:nvPicPr>
        <p:blipFill>
          <a:blip r:embed="rId3"/>
          <a:srcRect l="33638" t="34822" r="33925" b="54023"/>
          <a:stretch/>
        </p:blipFill>
        <p:spPr>
          <a:xfrm>
            <a:off x="6372360" y="5732640"/>
            <a:ext cx="2520720" cy="81576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108000" y="189000"/>
            <a:ext cx="62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моносов впервые предсказал существование абсолютного нуля температуры, объяснил из кинетических соображений закон Бойля. Введя в химию весы, он доказал неправильность мнения об увеличении веса металлов при их обжигании в “заплавленных накрепко стеклянных сосудах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4"/>
          <a:stretch/>
        </p:blipFill>
        <p:spPr>
          <a:xfrm>
            <a:off x="3132000" y="3357720"/>
            <a:ext cx="26607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4788000" y="1268280"/>
            <a:ext cx="43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впервые высказал мысль о связи электрических и световых явлений, об электрической природе северного сияния, о вертикальных течениях как источнике атмосферного электри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457440" cy="258264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400356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250920" y="476280"/>
            <a:ext cx="41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щищая волновую теорию света, Ломоносов в оптике проделал большую работу по конструированию оптических приборов, по цветам и красителям, по преломлению с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427640" y="4046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блюдая прохождение Венеры по солнечному диску, Ломоносов обнаружил наличие у Венеры атмосф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505944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2" descr="http://dic.academic.ru/pictures/brokgauz_efron/b80_547-1.jpg"/>
          <p:cNvPicPr/>
          <p:nvPr/>
        </p:nvPicPr>
        <p:blipFill>
          <a:blip r:embed="rId1"/>
          <a:srcRect l="0" t="0" r="12477" b="16897"/>
          <a:stretch/>
        </p:blipFill>
        <p:spPr>
          <a:xfrm>
            <a:off x="250920" y="189000"/>
            <a:ext cx="1955880" cy="2952720"/>
          </a:xfrm>
          <a:prstGeom prst="rect">
            <a:avLst/>
          </a:prstGeom>
          <a:ln w="9360">
            <a:solidFill>
              <a:srgbClr val="0c0909"/>
            </a:solidFill>
            <a:miter/>
          </a:ln>
        </p:spPr>
      </p:pic>
      <p:sp>
        <p:nvSpPr>
          <p:cNvPr id="969" name="TextBox 5"/>
          <p:cNvSpPr/>
          <p:nvPr/>
        </p:nvSpPr>
        <p:spPr>
          <a:xfrm>
            <a:off x="395280" y="6165720"/>
            <a:ext cx="3097080" cy="459720"/>
          </a:xfrm>
          <a:prstGeom prst="rect">
            <a:avLst/>
          </a:prstGeom>
          <a:solidFill>
            <a:srgbClr val="f1ccb5"/>
          </a:solidFill>
          <a:ln w="9360">
            <a:solidFill>
              <a:srgbClr val="0c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Arial"/>
              </a:rPr>
              <a:t>Электроме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140360" y="62064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писывая, например, наблюдение, что “наэлектризованная чаша весов притягивается к железной плите”, Ломоносов делает вывод: “Весами можно весить электрическую силу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было реализовано В. Томсоном в абсолютном электромет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26510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2" descr="http://svt66.ru/d/70962/d/snap61_6.jpg"/>
          <p:cNvPicPr/>
          <p:nvPr/>
        </p:nvPicPr>
        <p:blipFill>
          <a:blip r:embed="rId1"/>
          <a:stretch/>
        </p:blipFill>
        <p:spPr>
          <a:xfrm>
            <a:off x="5364000" y="981000"/>
            <a:ext cx="3529080" cy="2486160"/>
          </a:xfrm>
          <a:prstGeom prst="rect">
            <a:avLst/>
          </a:prstGeom>
          <a:ln w="9360">
            <a:solidFill>
              <a:srgbClr val="513e1b"/>
            </a:solidFill>
            <a:miter/>
          </a:ln>
        </p:spPr>
      </p:pic>
      <p:pic>
        <p:nvPicPr>
          <p:cNvPr id="973" name="Picture 4" descr="http://kbogdanov5.narod.ru/6.files/image010.jpg"/>
          <p:cNvPicPr/>
          <p:nvPr/>
        </p:nvPicPr>
        <p:blipFill>
          <a:blip r:embed="rId2"/>
          <a:stretch/>
        </p:blipFill>
        <p:spPr>
          <a:xfrm>
            <a:off x="5292720" y="4292640"/>
            <a:ext cx="3600360" cy="2124000"/>
          </a:xfrm>
          <a:prstGeom prst="rect">
            <a:avLst/>
          </a:prstGeom>
          <a:ln w="9360">
            <a:solidFill>
              <a:srgbClr val="513e1b"/>
            </a:solidFill>
            <a:miter/>
          </a:ln>
        </p:spPr>
      </p:pic>
      <p:sp>
        <p:nvSpPr>
          <p:cNvPr id="974" name="TextBox 7"/>
          <p:cNvSpPr/>
          <p:nvPr/>
        </p:nvSpPr>
        <p:spPr>
          <a:xfrm>
            <a:off x="5364000" y="3645000"/>
            <a:ext cx="3529080" cy="459720"/>
          </a:xfrm>
          <a:prstGeom prst="rect">
            <a:avLst/>
          </a:prstGeom>
          <a:solidFill>
            <a:srgbClr val="dbddcd"/>
          </a:solidFill>
          <a:ln w="9360">
            <a:solidFill>
              <a:srgbClr val="0c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Arial"/>
              </a:rPr>
              <a:t>Оптический пинц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24000" y="476280"/>
            <a:ext cx="4572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нимаясь электричеством, он делает пометку: “Надо поставить опыт, будет ли луч света иначе преломляться в наэлектризованном стекле и воде”. Такой опыт был проведен в 1875 г. Керром, открывшим двойное преломление луча в электрическом п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3:06:02Z</dcterms:created>
  <dc:creator>Igor</dc:creator>
  <dc:description/>
  <dc:language>en-US</dc:language>
  <cp:lastModifiedBy>ZYK</cp:lastModifiedBy>
  <dcterms:modified xsi:type="dcterms:W3CDTF">2011-11-19T18:23:54Z</dcterms:modified>
  <cp:revision>28</cp:revision>
  <dc:subject/>
  <dc:title>М.Ломоносов  и  физ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90000000000010250300207f7000400038000</vt:lpwstr>
  </property>
</Properties>
</file>