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2B9D-98AE-448F-97EB-3665D694B3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меры выполняются в тетрадях. Проверка - фронт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йствия – в тетрадях. Проверка - фронт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40F-28C7-448A-85A6-F31CE788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7DD7-49D4-4C2F-89E0-B18E6300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EA6-2795-4B3D-AC65-CAF19BEE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E64-177A-416D-8D93-62773BC9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A78-B071-426B-8126-E84531F4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F0B-DDBB-4732-B800-EC046705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B32-CAB7-433C-BC47-5C5A345A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81B-3B54-4A6D-8499-A3DAAFC2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B71-588E-4066-B929-285B13CD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BDC-C476-49A0-90F1-FC6228F6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863-4003-45B0-B0B8-0B7CE8B3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977-1D05-42C3-B3CC-4E8C6167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376D-4F6C-4978-9F15-8BE2E213A8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20890200">
            <a:off x="899640" y="1052640"/>
            <a:ext cx="7961400" cy="49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Умножение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обыкновенных  дробей.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5105520"/>
            <a:ext cx="874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0000cc"/>
              </a:solidFill>
              <a:latin typeface="Georgi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9000"/>
            <a:ext cx="38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2800440" cy="2619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6000" y="404640"/>
            <a:ext cx="3889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Georgia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2428920" y="1461960"/>
            <a:ext cx="4309920" cy="4309560"/>
            <a:chOff x="2428920" y="1461960"/>
            <a:chExt cx="4309920" cy="4309560"/>
          </a:xfrm>
        </p:grpSpPr>
        <p:sp>
          <p:nvSpPr>
            <p:cNvPr id="130" name="_s13347"/>
            <p:cNvSpPr/>
            <p:nvPr/>
          </p:nvSpPr>
          <p:spPr>
            <a:xfrm flipH="1" flipV="1">
              <a:off x="3820680" y="2854080"/>
              <a:ext cx="382680" cy="38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3346"/>
            <p:cNvSpPr/>
            <p:nvPr/>
          </p:nvSpPr>
          <p:spPr>
            <a:xfrm>
              <a:off x="2901960" y="1935000"/>
              <a:ext cx="1077840" cy="10774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3345"/>
            <p:cNvSpPr/>
            <p:nvPr/>
          </p:nvSpPr>
          <p:spPr>
            <a:xfrm flipH="1">
              <a:off x="3505320" y="361620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3344"/>
            <p:cNvSpPr/>
            <p:nvPr/>
          </p:nvSpPr>
          <p:spPr>
            <a:xfrm>
              <a:off x="2428920" y="3078000"/>
              <a:ext cx="1077840" cy="10774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3343"/>
            <p:cNvSpPr/>
            <p:nvPr/>
          </p:nvSpPr>
          <p:spPr>
            <a:xfrm flipH="1">
              <a:off x="3820680" y="3995640"/>
              <a:ext cx="382680" cy="38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3342"/>
            <p:cNvSpPr/>
            <p:nvPr/>
          </p:nvSpPr>
          <p:spPr>
            <a:xfrm>
              <a:off x="2901960" y="4221000"/>
              <a:ext cx="1077840" cy="10774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3341"/>
            <p:cNvSpPr/>
            <p:nvPr/>
          </p:nvSpPr>
          <p:spPr>
            <a:xfrm>
              <a:off x="4583160" y="415260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3340"/>
            <p:cNvSpPr/>
            <p:nvPr/>
          </p:nvSpPr>
          <p:spPr>
            <a:xfrm>
              <a:off x="4044960" y="4694040"/>
              <a:ext cx="1077840" cy="10774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3339"/>
            <p:cNvSpPr/>
            <p:nvPr/>
          </p:nvSpPr>
          <p:spPr>
            <a:xfrm>
              <a:off x="4962600" y="3995640"/>
              <a:ext cx="382680" cy="38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3338"/>
            <p:cNvSpPr/>
            <p:nvPr/>
          </p:nvSpPr>
          <p:spPr>
            <a:xfrm>
              <a:off x="5187960" y="4221000"/>
              <a:ext cx="1077840" cy="10774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3336"/>
            <p:cNvSpPr/>
            <p:nvPr/>
          </p:nvSpPr>
          <p:spPr>
            <a:xfrm>
              <a:off x="5119560" y="361620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3335"/>
            <p:cNvSpPr/>
            <p:nvPr/>
          </p:nvSpPr>
          <p:spPr>
            <a:xfrm>
              <a:off x="5661000" y="3078000"/>
              <a:ext cx="1077840" cy="10774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3334"/>
            <p:cNvSpPr/>
            <p:nvPr/>
          </p:nvSpPr>
          <p:spPr>
            <a:xfrm flipV="1">
              <a:off x="4962600" y="2854080"/>
              <a:ext cx="382680" cy="38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3333"/>
            <p:cNvSpPr/>
            <p:nvPr/>
          </p:nvSpPr>
          <p:spPr>
            <a:xfrm>
              <a:off x="5187960" y="1935000"/>
              <a:ext cx="1077840" cy="10774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3332"/>
            <p:cNvSpPr/>
            <p:nvPr/>
          </p:nvSpPr>
          <p:spPr>
            <a:xfrm flipV="1">
              <a:off x="4583160" y="2538360"/>
              <a:ext cx="0" cy="54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3331"/>
            <p:cNvSpPr/>
            <p:nvPr/>
          </p:nvSpPr>
          <p:spPr>
            <a:xfrm>
              <a:off x="4044960" y="1461960"/>
              <a:ext cx="1077840" cy="10774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3330"/>
            <p:cNvSpPr/>
            <p:nvPr/>
          </p:nvSpPr>
          <p:spPr>
            <a:xfrm>
              <a:off x="4044960" y="3079440"/>
              <a:ext cx="1077840" cy="1077840"/>
            </a:xfrm>
            <a:prstGeom prst="ellipse">
              <a:avLst/>
            </a:prstGeom>
            <a:solidFill>
              <a:srgbClr val="f8c8ea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Х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067280" y="476280"/>
            <a:ext cx="1008000" cy="98568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0360" y="1268280"/>
            <a:ext cx="1008000" cy="98604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32720" y="3068640"/>
            <a:ext cx="1008000" cy="98568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5013360"/>
            <a:ext cx="1008000" cy="98568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5661000"/>
            <a:ext cx="1008000" cy="98604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4941720"/>
            <a:ext cx="1008000" cy="98604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3141720"/>
            <a:ext cx="1008000" cy="98568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1197000"/>
            <a:ext cx="1008360" cy="98568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32000" y="1413000"/>
            <a:ext cx="6840360" cy="1295280"/>
          </a:xfrm>
          <a:prstGeom prst="wedgeRoundRectCallout">
            <a:avLst>
              <a:gd name="adj1" fmla="val -45893"/>
              <a:gd name="adj2" fmla="val 200736"/>
              <a:gd name="adj3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f8c8ea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00"/>
                </a:solidFill>
                <a:latin typeface="Georgia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333360"/>
            <a:ext cx="2663640" cy="2087640"/>
          </a:xfrm>
          <a:custGeom>
            <a:avLst/>
            <a:gdLst/>
            <a:ahLst/>
            <a:rect l="l" t="t" r="r" b="b"/>
            <a:pathLst>
              <a:path w="1678" h="1315">
                <a:moveTo>
                  <a:pt x="0" y="0"/>
                </a:moveTo>
                <a:cubicBezTo>
                  <a:pt x="106" y="11"/>
                  <a:pt x="449" y="19"/>
                  <a:pt x="638" y="64"/>
                </a:cubicBezTo>
                <a:cubicBezTo>
                  <a:pt x="827" y="109"/>
                  <a:pt x="983" y="154"/>
                  <a:pt x="1134" y="272"/>
                </a:cubicBezTo>
                <a:cubicBezTo>
                  <a:pt x="1285" y="390"/>
                  <a:pt x="1451" y="597"/>
                  <a:pt x="1542" y="771"/>
                </a:cubicBezTo>
                <a:cubicBezTo>
                  <a:pt x="1633" y="945"/>
                  <a:pt x="1655" y="1130"/>
                  <a:pt x="1678" y="1315"/>
                </a:cubicBezTo>
              </a:path>
            </a:pathLst>
          </a:custGeom>
          <a:noFill/>
          <a:ln w="85680">
            <a:solidFill>
              <a:srgbClr val="00ff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D:\флешка\doc21.gif"/>
          <p:cNvPicPr/>
          <p:nvPr/>
        </p:nvPicPr>
        <p:blipFill>
          <a:blip r:embed="rId1"/>
          <a:stretch/>
        </p:blipFill>
        <p:spPr>
          <a:xfrm>
            <a:off x="0" y="981000"/>
            <a:ext cx="3798720" cy="3600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5"/>
          <p:cNvSpPr/>
          <p:nvPr/>
        </p:nvSpPr>
        <p:spPr>
          <a:xfrm>
            <a:off x="2411280" y="1197000"/>
            <a:ext cx="6357960" cy="2928960"/>
          </a:xfrm>
          <a:prstGeom prst="wedgeRoundRectCallout">
            <a:avLst>
              <a:gd name="adj1" fmla="val -69351"/>
              <a:gd name="adj2" fmla="val -14092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fdfd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>
                <a:alpha val="81000"/>
              </a:srgbClr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умножить дробь на натуральное число,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надо её числитель умножить на это число, а знаменатель оставить без изм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D:\флешка\doc21.gif"/>
          <p:cNvPicPr/>
          <p:nvPr/>
        </p:nvPicPr>
        <p:blipFill>
          <a:blip r:embed="rId1"/>
          <a:stretch/>
        </p:blipFill>
        <p:spPr>
          <a:xfrm>
            <a:off x="0" y="1341360"/>
            <a:ext cx="3419640" cy="4103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195640" y="1052640"/>
            <a:ext cx="6624360" cy="3240000"/>
          </a:xfrm>
          <a:prstGeom prst="wedgeRoundRectCallout">
            <a:avLst>
              <a:gd name="adj1" fmla="val -65407"/>
              <a:gd name="adj2" fmla="val -5023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При умножении  двух дробей  перемножают  числитель  с  числителем, знаменатель со знаменателем, а потом  </a:t>
            </a:r>
            <a:r>
              <a:rPr b="1" i="1" lang="en-US" sz="2800" spc="-1" strike="noStrike">
                <a:solidFill>
                  <a:srgbClr val="ff3300"/>
                </a:solidFill>
                <a:latin typeface="Georgia"/>
              </a:rPr>
              <a:t>первое  произведение  пишут  в числителе, а второе – в знаменате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D:\флешка\doc21.gif"/>
          <p:cNvPicPr/>
          <p:nvPr/>
        </p:nvPicPr>
        <p:blipFill>
          <a:blip r:embed="rId1"/>
          <a:stretch/>
        </p:blipFill>
        <p:spPr>
          <a:xfrm>
            <a:off x="0" y="2349360"/>
            <a:ext cx="4572000" cy="3888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2484360" y="2492280"/>
            <a:ext cx="6357960" cy="2928960"/>
          </a:xfrm>
          <a:prstGeom prst="wedgeRoundRectCallout">
            <a:avLst>
              <a:gd name="adj1" fmla="val -69351"/>
              <a:gd name="adj2" fmla="val -14092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fdfd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>
                <a:alpha val="81000"/>
              </a:srgbClr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 выполнить  умножение  смешанных  чисел,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надо  их  записать  в  виде  неправильных  дробей, а  затем  воспользоваться  правилом  умножения  др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D:\флешка\doc21.gif"/>
          <p:cNvPicPr/>
          <p:nvPr/>
        </p:nvPicPr>
        <p:blipFill>
          <a:blip r:embed="rId1"/>
          <a:stretch/>
        </p:blipFill>
        <p:spPr>
          <a:xfrm>
            <a:off x="0" y="1773360"/>
            <a:ext cx="4067280" cy="396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68360" y="1125360"/>
            <a:ext cx="6624720" cy="4751640"/>
          </a:xfrm>
          <a:prstGeom prst="wedgeRoundRectCallout">
            <a:avLst>
              <a:gd name="adj1" fmla="val -65407"/>
              <a:gd name="adj2" fmla="val -10240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Чтобы  умножить смешанное  число  на  натуральное  число, </a:t>
            </a: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можно умножить  целую  часть  на  натуральное  число, умножить  дробную  часть  на  это  натуральное  число, сложить  полученные 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68360" y="333360"/>
            <a:ext cx="6553440" cy="649440"/>
          </a:xfrm>
          <a:prstGeom prst="wedgeRoundRectCallout">
            <a:avLst>
              <a:gd name="adj1" fmla="val -67782"/>
              <a:gd name="adj2" fmla="val 152199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ыполните  умн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413080" y="1557360"/>
            <a:ext cx="1854000" cy="5078880"/>
            <a:chOff x="2413080" y="1557360"/>
            <a:chExt cx="1854000" cy="5078880"/>
          </a:xfrm>
        </p:grpSpPr>
        <p:sp>
          <p:nvSpPr>
            <p:cNvPr id="68" name=""/>
            <p:cNvSpPr/>
            <p:nvPr/>
          </p:nvSpPr>
          <p:spPr>
            <a:xfrm>
              <a:off x="2413080" y="1557360"/>
              <a:ext cx="441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cc"/>
                  </a:solidFill>
                  <a:uFillTx/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557360"/>
              <a:ext cx="43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cc"/>
                  </a:solidFill>
                  <a:uFillTx/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17800" y="1701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13080" y="2852640"/>
              <a:ext cx="441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cc"/>
                  </a:solidFill>
                  <a:uFillTx/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2852640"/>
              <a:ext cx="43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cc"/>
                  </a:solidFill>
                  <a:uFillTx/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17800" y="2997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13080" y="4149720"/>
              <a:ext cx="441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cc"/>
                  </a:solidFill>
                  <a:uFillTx/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59280" y="4149720"/>
              <a:ext cx="79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cc"/>
                  </a:solidFill>
                  <a:uFillTx/>
                  <a:latin typeface="Arial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17800" y="4294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13080" y="5445000"/>
              <a:ext cx="441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cc"/>
                  </a:solidFill>
                  <a:uFillTx/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76720" y="5445000"/>
              <a:ext cx="43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cc"/>
                  </a:solidFill>
                  <a:uFillTx/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17800" y="5589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80000" y="1773360"/>
              <a:ext cx="48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80000" y="3068640"/>
              <a:ext cx="48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80000" y="4365720"/>
              <a:ext cx="48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80000" y="5661000"/>
              <a:ext cx="48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211640" y="1052640"/>
            <a:ext cx="1297080" cy="2016000"/>
          </a:xfrm>
          <a:prstGeom prst="irregularSeal1">
            <a:avLst/>
          </a:prstGeom>
          <a:solidFill>
            <a:srgbClr val="f8c8ea"/>
          </a:solidFill>
          <a:ln w="9360">
            <a:solidFill>
              <a:srgbClr val="f8c8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421000"/>
            <a:ext cx="1296720" cy="20160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3716280"/>
            <a:ext cx="1296720" cy="201636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5013360"/>
            <a:ext cx="1296720" cy="2016000"/>
          </a:xfrm>
          <a:prstGeom prst="irregularSeal1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1557360"/>
            <a:ext cx="431640" cy="2592360"/>
          </a:xfrm>
          <a:custGeom>
            <a:avLst/>
            <a:gdLst>
              <a:gd name="textAreaLeft" fmla="*/ 0 w 431640"/>
              <a:gd name="textAreaRight" fmla="*/ 155880 w 4316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27640" y="2421000"/>
            <a:ext cx="230508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Срав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20000" y="2565360"/>
            <a:ext cx="934920" cy="482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1640" y="4265640"/>
            <a:ext cx="431640" cy="2592360"/>
          </a:xfrm>
          <a:custGeom>
            <a:avLst/>
            <a:gdLst>
              <a:gd name="textAreaLeft" fmla="*/ 0 w 431640"/>
              <a:gd name="textAreaRight" fmla="*/ 155880 w 4316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27640" y="5084640"/>
            <a:ext cx="230508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Найт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4437000"/>
            <a:ext cx="1297080" cy="2016360"/>
          </a:xfrm>
          <a:prstGeom prst="irregularSeal1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877080" y="4797360"/>
            <a:ext cx="803160" cy="1191240"/>
            <a:chOff x="6877080" y="4797360"/>
            <a:chExt cx="803160" cy="1191240"/>
          </a:xfrm>
        </p:grpSpPr>
        <p:sp>
          <p:nvSpPr>
            <p:cNvPr id="95" name=""/>
            <p:cNvSpPr/>
            <p:nvPr/>
          </p:nvSpPr>
          <p:spPr>
            <a:xfrm>
              <a:off x="6877080" y="5086080"/>
              <a:ext cx="43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8880" y="4797360"/>
              <a:ext cx="441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cc"/>
                  </a:solidFill>
                  <a:uFillTx/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.11538 E">
                                      <p:cBhvr>
                                        <p:cTn id="10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96532E-006 L 0.39375 -0.09433 E">
                                      <p:cBhvr>
                                        <p:cTn id="10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95640" y="189000"/>
            <a:ext cx="6624360" cy="1079280"/>
          </a:xfrm>
          <a:prstGeom prst="wedgeRoundRectCallout">
            <a:avLst>
              <a:gd name="adj1" fmla="val -66486"/>
              <a:gd name="adj2" fmla="val 85000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ставьте пропущенные чис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1989000"/>
            <a:ext cx="43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2133720"/>
            <a:ext cx="48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66920" y="21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27280" y="2060640"/>
            <a:ext cx="432000" cy="914400"/>
          </a:xfrm>
          <a:prstGeom prst="ellipse">
            <a:avLst/>
          </a:prstGeom>
          <a:solidFill>
            <a:srgbClr val="f8c8ea"/>
          </a:solidFill>
          <a:ln w="9360">
            <a:solidFill>
              <a:srgbClr val="f8c8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0920" y="1989000"/>
            <a:ext cx="43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872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63640" y="3860640"/>
            <a:ext cx="87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005360"/>
            <a:ext cx="4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400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3932280"/>
            <a:ext cx="431640" cy="914400"/>
          </a:xfrm>
          <a:prstGeom prst="ellipse">
            <a:avLst/>
          </a:prstGeom>
          <a:solidFill>
            <a:srgbClr val="f8c8ea"/>
          </a:solidFill>
          <a:ln w="9360">
            <a:solidFill>
              <a:srgbClr val="f8c8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3860640"/>
            <a:ext cx="43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98920" y="40766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5280" y="1989000"/>
            <a:ext cx="87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2133720"/>
            <a:ext cx="4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21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2060640"/>
            <a:ext cx="431640" cy="914400"/>
          </a:xfrm>
          <a:prstGeom prst="ellipse">
            <a:avLst/>
          </a:prstGeom>
          <a:solidFill>
            <a:srgbClr val="f8c8ea"/>
          </a:solidFill>
          <a:ln w="9360">
            <a:solidFill>
              <a:srgbClr val="f8c8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59640" y="2133720"/>
            <a:ext cx="4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220680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3789360"/>
            <a:ext cx="87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9440" y="3933720"/>
            <a:ext cx="4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7080" y="39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3860640"/>
            <a:ext cx="432000" cy="914400"/>
          </a:xfrm>
          <a:prstGeom prst="ellipse">
            <a:avLst/>
          </a:prstGeom>
          <a:solidFill>
            <a:srgbClr val="f8c8ea"/>
          </a:solidFill>
          <a:ln w="9360">
            <a:solidFill>
              <a:srgbClr val="f8c8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1080" y="3789360"/>
            <a:ext cx="4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3789360"/>
            <a:ext cx="5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Содержимое 3" descr="1252125772_book1.jpg"/>
          <p:cNvPicPr/>
          <p:nvPr/>
        </p:nvPicPr>
        <p:blipFill>
          <a:blip r:embed="rId1"/>
          <a:stretch/>
        </p:blipFill>
        <p:spPr>
          <a:xfrm>
            <a:off x="-181080" y="1628640"/>
            <a:ext cx="4469040" cy="4511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987640" y="1628640"/>
            <a:ext cx="5940360" cy="3024360"/>
          </a:xfrm>
          <a:prstGeom prst="wedgeRoundRectCallout">
            <a:avLst>
              <a:gd name="adj1" fmla="val -52055"/>
              <a:gd name="adj2" fmla="val 2912"/>
              <a:gd name="adj3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Georgia"/>
              </a:rPr>
              <a:t>Упражнения  для  г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Georgia"/>
              </a:rPr>
              <a:t>Будем  делать  мы  сей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Georgia"/>
              </a:rPr>
              <a:t>Смотрим  вверх  и  смотрим 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Georgia"/>
              </a:rPr>
              <a:t>Смотрим  вдаль  и  смотрим  вблиз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Georgia"/>
              </a:rPr>
              <a:t>И  десяток  раз  моргнё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Georgia"/>
              </a:rPr>
              <a:t>И  зажмуримся  п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Georgia"/>
              </a:rPr>
              <a:t>Если  глазки  устают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Georgia"/>
              </a:rPr>
              <a:t>Упражнения  спасу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332080"/>
            <a:ext cx="258768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050920" y="404640"/>
            <a:ext cx="6840720" cy="1295640"/>
          </a:xfrm>
          <a:prstGeom prst="wedgeRoundRectCallout">
            <a:avLst>
              <a:gd name="adj1" fmla="val -52365"/>
              <a:gd name="adj2" fmla="val 213601"/>
              <a:gd name="adj3" fmla="val 16667"/>
            </a:avLst>
          </a:prstGeom>
          <a:gradFill rotWithShape="0">
            <a:gsLst>
              <a:gs pos="0">
                <a:srgbClr val="00ff00"/>
              </a:gs>
              <a:gs pos="50000">
                <a:srgbClr val="f8c8ea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00"/>
                </a:solidFill>
                <a:latin typeface="Georgia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8:25:57Z</dcterms:created>
  <dc:creator>MAMA</dc:creator>
  <dc:description/>
  <dc:language>en-US</dc:language>
  <cp:lastModifiedBy>Komp</cp:lastModifiedBy>
  <dcterms:modified xsi:type="dcterms:W3CDTF">2006-01-11T21:54:14Z</dcterms:modified>
  <cp:revision>9</cp:revision>
  <dc:subject/>
  <dc:title>Слайд 1</dc:title>
</cp:coreProperties>
</file>