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36C-22AB-422D-B0FB-92779BAB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03B-E394-41AB-813A-CB8F0832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580-5B7F-4DCD-B2E6-1A5ADA43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980-82A9-41EC-8CDB-9961A12B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D74D-EA26-4BEE-A55B-EF221C20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4C9B-2B19-4850-BD6F-8111142D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04DF-10B4-4F3B-A1DF-7CFD24E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CA99-1689-4C2C-8900-DFEF934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5285-C7FD-4471-A745-DD8F5FB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FFC8-2195-41FB-B9D3-DC24E29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8C8-77C8-4B5D-A160-28280EC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436-54A5-43CE-97AA-582DD094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A85-D738-4F13-BCC9-D0C4458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1E63-0B78-4CF5-85D8-4F9DD0A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B39-62AD-4890-898C-C984D1D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B3A1-E365-4249-8E97-D75B2BDC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EEA-37BC-4ABE-BE52-A2FB5E5C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0CB-4069-4848-9D3B-5E34B21F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F0A-CF7C-4FEF-A410-B0DD70C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987-B620-4172-BE39-62E3DB2F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41B-3EAA-4A8E-9BC6-97A03A2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1A1-5B5F-4346-9759-0354A7A8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0CF-5DBB-4483-BB94-630F00A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DE9-83FE-4EA2-8AB5-7958D3E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A924-0267-4BB9-82A5-A0000AFC30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E7CC-67CC-4D5C-8CAF-F173BFC2C6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stsoch.com/uroki/scenarii-prazdnikov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ookmix.ru/book.phtml?id=230556" TargetMode="External"/><Relationship Id="rId2" Type="http://schemas.openxmlformats.org/officeDocument/2006/relationships/hyperlink" Target="http://bookmix.ru/book.phtml?id=23055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Н.В.Гоголь «Ночь перед Рождеством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яточные гуля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хожане приглашали знакомых и родственников на святочные гуляния. И стар, и млад славил рождение Христа на улицах и перекрестках. Дети ходили по домам с раскрашенной бумажной рождественской звездой и вертепом – ящиком в виде пещеры, где родился Иисус. Этот обычай появился в 16 – 17 вв. в  Мало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очь на Рождество, по народному поверью, творятся всякие чудеса. Считается, что в эту ночь «отверзаются» небеса, все земные воды, источники наделяются волшебной целительной силой. Загаданное в эту ночь желание обязательно сбудется. Существует обычай в рождественскую полночь смотреть на небо: взорам людей, живущих праведной жизнью, открываются небесные высоты немыслимой красоты. В канун Рождества на Руси соблюдали обычай колядования. Парни и девушки собирались и ходили по домам, распевая песни-коляды и выпрашивали у хозяев угощения и деньги. Ночь перед праздником – время благоприятное для действий черта. Это время особой свободы поведения.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аздн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вязанные с ним поверья выводят жизнь из её обычной колеи и делают невозможное возможн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Последний день перед Рождеством прошел…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ую роль играет пейзаж в развитии действия повести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ие фантастические черты несет пейзаж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Почему черт украл месяц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За что черт так зол на кузнец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с текст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" y="3924360"/>
            <a:ext cx="4038480" cy="2171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 глава (читаем до конца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Как можно озаглавить эту главу?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Почему некоторые сноски сделаны самим Гоголем, а некоторые – составителями хрестоматии?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гла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Озаглавьте её 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Какие качества характера Чуба проявляются в этом эпизод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324036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&amp;Icy;&amp;lcy;&amp;lcy;&amp;yucy;&amp;scy;&amp;tcy;&amp;rcy;&amp;acy;&amp;tscy;&amp;icy;&amp;yacy; &amp;numero; 7 &amp;kcy; &amp;kcy;&amp;ncy;&amp;icy;&amp;gcy;&amp;iecy; &quot;&amp;Vcy;&amp;iecy;&amp;chcy;&amp;iecy;&amp;rcy;&amp;acy; &amp;ncy;&amp;acy; &amp;khcy;&amp;ucy;&amp;tcy;&amp;ocy;&amp;rcy;&amp;iecy; &amp;bcy;&amp;lcy;&amp;icy;&amp;zcy; &amp;Dcy;&amp;icy;&amp;kcy;&amp;acy;&amp;ncy;&amp;softcy;&amp;kcy;&amp;icy;&quot;, &amp;fcy;&amp;ocy;&amp;tcy;&amp;ocy;&amp;gcy;&amp;rcy;&amp;acy;&amp;fcy;&amp;icy;&amp;yacy;, &amp;icy;&amp;zcy;&amp;ocy;&amp;bcy;&amp;rcy;&amp;acy;&amp;zhcy;&amp;iecy;&amp;ncy;&amp;icy;&amp;iecy;, &amp;kcy;&amp;acy;&amp;rcy;&amp;tcy;&amp;icy;&amp;ncy;&amp;kcy;&amp;acy;"/>
          <p:cNvPicPr/>
          <p:nvPr/>
        </p:nvPicPr>
        <p:blipFill>
          <a:blip r:embed="rId5"/>
          <a:stretch/>
        </p:blipFill>
        <p:spPr>
          <a:xfrm>
            <a:off x="611280" y="4653000"/>
            <a:ext cx="33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ервые две главы пове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ые две главы служат завязкой повести. Произведению Гоголя свойственны фольклорные мотивы, сочетание фантастичности, сказочности и реальности, юмор. Злые силы изображены не страшными, а забавными, смеш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608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ртины народной жизни в пове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я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ерескажите  3 глав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Дайте характеристику Оксане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Почему «как красавица», ведь она и была красавицей?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Какую героиню пушкинской сказки напоминает Оксана, любующаяся собой в зеркало?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Прочитайте главу по рол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564000" cy="28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чему Солоху считают ведьмо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чему Солоха ссорила своего сына Вакулу с казаком Чубо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59480" cy="3395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3527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Больно поколотил проклятый кузнец!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: прочитайте эту главу по рол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88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Юм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голь заставляет нас смеяться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 он это делает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Что такое юмор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МОР – это изображение героев в смешном виде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МОР – смех весёлый, доброжелательный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Каким способом достигается юмористический эффект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ую роль сыграл пейзаж в этих событи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Достань, кузнец, царицыны черевички, выйду за тебя замуж 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468648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Как достигается необыкновенная поэтичность и красота описания пейзажа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Как ведёт себя Окса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2305080" cy="3311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456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стория создания «Вечеров.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Н.В.Гоголь начал работать над этим циклом повестей в 1829 году, в 1931 году вышла первая книга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Вечеров…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, а через год – вторая. Известно, что прозаик использовал для создания своей первой книги не только украинские исторические предания и фольклор, которые ему помогали собирать его родные и друзья, но и другие источники, такие как рукопись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История руссов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 и переводные повести немецких романтиков.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Вечера на хуторе близ Диканьки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0" lang="ru-RU" sz="1800" spc="-1" strike="noStrike">
                <a:solidFill>
                  <a:srgbClr val="ffffcc"/>
                </a:solidFill>
                <a:latin typeface="Comic Sans MS"/>
              </a:rPr>
              <a:t> были встречены положительными рецензиями критиков. Они отмечали неподдельную весёлость, простоту и правдивость, яркость национального колорита и увлекательность народного предания в повестях  Н.В.Гого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19760" y="1738440"/>
            <a:ext cx="348588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треная Солох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читайте главу по ролям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В чем юмор ситуации этого эпизо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2448000" cy="287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348000" cy="3240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484360" y="2276640"/>
            <a:ext cx="3311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чем здесь лежат эти мешки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чём особенность этого эпизо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2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ключения кузнеца в поисках черевичек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Что задумал кузнец Вакул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Зачем Вакула отправился к Пузатому Пацюку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Что мы узнаем от автора о Пацюке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 помощь какого приема изображен данный персонаж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ие чудеса увидел Вакула у Пацю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3168720" cy="266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223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чему чёрт так радовался, что Вакула готов погубить свою душу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 Вакула победил чёрта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рашной ли изображается в повести нечистая си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т тебе и Солох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ния: перескажите  этот эпизод , прочитайте выразительно диалог по ролям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 ведёт себя Чуб, выбравшись из мешка? Почему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чему Чуб и голова начали говорить о погоде и о сапогах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 чем строится смешная ситуация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е значение для судьбы Оксаны и Вакулы имело происшествие  смешками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узнец летит на черт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468648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Что чувствует, наблюдает Вакула, летя на черте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им видится Вакуле Петербург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ие черты характера проявляет Вакула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2519280" cy="324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30240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акула у запорожц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 приняли запорожцы Вакулу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Что в этом эпизоде реалистическое, а что фантастическ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0x01 graphic"/>
          <p:cNvPicPr/>
          <p:nvPr/>
        </p:nvPicPr>
        <p:blipFill>
          <a:blip r:embed="rId1"/>
          <a:stretch/>
        </p:blipFill>
        <p:spPr>
          <a:xfrm>
            <a:off x="4211640" y="1628640"/>
            <a:ext cx="475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акула во дворц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 изображен путь во дворец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Чьими глазами мы смотрим на дворец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Как соотносятся реалистическое и фантастическое в сцене во дворц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т тебе и кузнец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плетни диканьских баб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 создается юмористический эффект в этой сце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уда ж это, в самом деле запропастился кузнец?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 изменилось отношение Оксаны к Вакуле, когда она поняла, что потеряла его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 описывает автор сцену в церкв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частливое возвращение кузне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В чем виноват Вакула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 он хочет искупить свою вину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чему Чуб соглашается выдать Оксану за Вакулу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ак Оксана приняла то, что кузнец выполнил её услов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0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Они изумили меня. Вот настоящая веселость, искренняя, непринужденная, без жеманства, без чопорности… Все это так необыкновенно в нашей нынешней литературе, что я доселе не образумился.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(А.С. Пушк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ключительный эпиз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ний эпизод является эпилогом. Из него мы узнаем о счастливой семейной жизни Вакулы и Оксаны и о том, что кузнец выдержал церковное покаяни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аким чувством проникнуто все произведение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акие эпизоды показались вам особенно интерес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ЯТОЧНЫЙ РАССКА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2800" y="1600200"/>
            <a:ext cx="8208360" cy="4462560"/>
            <a:chOff x="442800" y="1600200"/>
            <a:chExt cx="8208360" cy="4462560"/>
          </a:xfrm>
        </p:grpSpPr>
        <p:cxnSp>
          <p:nvCxnSpPr>
            <p:cNvPr id="193" name="_s87045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536800" y="23940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87046"/>
            <p:cNvCxnSpPr>
              <a:stCxn id="197" idx="0"/>
              <a:endCxn id="195" idx="2"/>
            </p:cNvCxnSpPr>
            <p:nvPr/>
          </p:nvCxnSpPr>
          <p:spPr>
            <a:xfrm flipV="1">
              <a:off x="4547160" y="338436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87047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664000" y="23943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87048"/>
            <p:cNvSpPr/>
            <p:nvPr/>
          </p:nvSpPr>
          <p:spPr>
            <a:xfrm>
              <a:off x="3315600" y="16002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ВЯТОЧНЫЙ РАССКА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87049"/>
            <p:cNvSpPr/>
            <p:nvPr/>
          </p:nvSpPr>
          <p:spPr>
            <a:xfrm>
              <a:off x="4428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ФАНТАСТИЧ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87050"/>
            <p:cNvSpPr/>
            <p:nvPr/>
          </p:nvSpPr>
          <p:spPr>
            <a:xfrm>
              <a:off x="331560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РАВОУЧЕНИ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87051"/>
            <p:cNvSpPr/>
            <p:nvPr/>
          </p:nvSpPr>
          <p:spPr>
            <a:xfrm>
              <a:off x="6188760" y="42778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ЕСЁЛЫЙ ХАРАКТЕР ПОВЕСТВ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Спасибо за </a:t>
            </a: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урок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Пушкинская оценка была поддержана другим великим литературным авторитетом – Белинским. Родоначальник русской классической критики приветствовал появление нового таланта и точно определил своеобразные черты 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Вечеров…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 Что это за черты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?</a:t>
            </a: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 Это прежде всего художественный синтез возвышенного и комического, оптимистический пафос, позволивший Гоголю пророчески определить великое будущее России, и всеохватывающее воспроизведение 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смешного</a:t>
            </a:r>
            <a:r>
              <a:rPr b="1" lang="en-US" sz="1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 в русской жизни почти во всех его вариантах.</a:t>
            </a:r>
            <a:r>
              <a:rPr b="1" lang="ru-RU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03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ечера на хуторе близ 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икань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книга (1831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Сорочинская ярмар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ечер накануне Ивана Купа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Майская ночь, или утопленниц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Пропавшая грамо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книга (1832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Ночь перед рождество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трашная месть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Иван Фёдорович Шпонька и его тётуш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Заколдованное мес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290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Ночь перед Рождеством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титульном листе было напечатано: «Повести, изданные пасичником Рудым Паньком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Что это за человек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чему Гоголь издает повести под вымышленным именем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то из писателей применял такой же прие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3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продукции Куинджи и Реп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7367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1944720" cy="260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23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96000" y="3716280"/>
            <a:ext cx="2160720" cy="2963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19640" y="4149720"/>
            <a:ext cx="2103120" cy="251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348000" y="1628640"/>
            <a:ext cx="251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ждество Христо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Царит над миром ночь святая, утих вседневный шум забот» Над Россией несется волнующий и радостный благовест. Во всех церквях поют: «Рождество Твоё, Христе Боже, возсия мириви свет разума…» 7 января Русская Православная Церковь празднует Рожде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71560"/>
            <a:ext cx="4762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чему же так почитаем  христианами праздник Рождеств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360" y="1655280"/>
            <a:ext cx="40323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эту ночь в небе зажглась новая звезда, возвестившая миру о приходе Спасителя рода человеческого – Иисуса Христа. На Руси накануне Рождества в домах украшали ёлки – символ вечной обновляющей жизни. Наверх вешали звезду из бумаги или дерева. Она изображала евангельскую звезду , которая показала волхвам путь  к родившемуся Иисус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6840" y="3246480"/>
            <a:ext cx="9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21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7:40:50Z</dcterms:created>
  <dc:creator>Владелец</dc:creator>
  <dc:description/>
  <dc:language>en-US</dc:language>
  <cp:lastModifiedBy>Владелец</cp:lastModifiedBy>
  <dcterms:modified xsi:type="dcterms:W3CDTF">2012-11-11T17:23:28Z</dcterms:modified>
  <cp:revision>8</cp:revision>
  <dc:subject/>
  <dc:title>Н.В.Гоголь «Ночь перед Рождеством»</dc:title>
</cp:coreProperties>
</file>