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26.gif" ContentType="image/gif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4.wmf" ContentType="image/x-wmf"/>
  <Override PartName="/ppt/media/image4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3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34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54.png" ContentType="image/png"/>
  <Override PartName="/ppt/media/image46.jpeg" ContentType="image/jpeg"/>
  <Override PartName="/ppt/media/image45.png" ContentType="image/png"/>
  <Override PartName="/ppt/media/image33.jpeg" ContentType="image/jpeg"/>
  <Override PartName="/ppt/media/image35.png" ContentType="image/png"/>
  <Override PartName="/ppt/media/image43.jpeg" ContentType="image/jpeg"/>
  <Override PartName="/ppt/media/image50.png" ContentType="image/png"/>
  <Override PartName="/ppt/media/image48.jpeg" ContentType="image/jpeg"/>
  <Override PartName="/ppt/media/image53.jpeg" ContentType="image/jpeg"/>
  <Override PartName="/ppt/media/image5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13.wmf" ContentType="image/x-wmf"/>
  <Override PartName="/ppt/media/image52.png" ContentType="image/png"/>
  <Override PartName="/ppt/media/image51.png" ContentType="image/png"/>
  <Override PartName="/ppt/media/image12.wmf" ContentType="image/x-wmf"/>
  <Override PartName="/ppt/media/image6.wmf" ContentType="image/x-wmf"/>
  <Override PartName="/ppt/media/image47.jpeg" ContentType="image/jpeg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2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F56-49FB-445B-84EB-0FD9CCA9D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6B38-8B75-4E13-AEF6-268AC20F85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Е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DC2-7F13-4A6A-8376-85B66E42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613-1CDB-4575-84B6-B11364B2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2E6-1DD4-439C-A2FC-24C056B5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DB8-0689-4B9E-A853-A67AE7E1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711-A07F-4CA8-A12F-0E55BD37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401C-EDC5-4870-B1A0-89C4426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D91-EB8E-4CA9-B07D-7D0BB97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5D4-99B4-49E8-8958-531ED5E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7E25-929E-4F57-A9C7-5D0CB6B4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9D6E-380A-40BF-9DF1-8E74221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F950-0278-4C7C-AA40-AD9D61B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D55-CBE6-4776-AEF0-55266CE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0F1C-903E-42B3-A18B-3D06E36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8698-FDEB-43D8-BF64-B6E8180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801-B8BC-489F-808C-B3CEBCC0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555-44F4-4924-9AF3-C4814331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39B8-2211-4648-AAD2-6A1CDECE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1A6-2D3F-4E3F-9489-61556865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2D4-FD36-4419-8CD7-739FD3F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434-1FD7-465D-8AF6-B33FA0E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32F-F8CA-454F-BFF6-DCEBFAF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318-8274-4E6E-B77C-E4AB1DA9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B7C-BB8A-4DED-A3C2-768447D8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4C9-BF29-4620-9D87-975DE48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8310-E7AE-43E4-AAC8-DB3A1F37697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cript MT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555-E974-4348-9778-B5682AA548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1.jpeg"/><Relationship Id="rId5" Type="http://schemas.openxmlformats.org/officeDocument/2006/relationships/image" Target="../media/image2.gi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3780000" y="765000"/>
            <a:ext cx="5040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ccff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cript MT Bold"/>
              </a:rPr>
              <a:t>МОУ "Колыванская средняя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ccff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ccff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cript MT Bold"/>
              </a:rPr>
              <a:t>общеобразовательная школа"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ccff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411280" y="5516640"/>
            <a:ext cx="47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тонова Ирина Александровна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18" name="Picture 7" descr="школа фасад"/>
          <p:cNvPicPr/>
          <p:nvPr/>
        </p:nvPicPr>
        <p:blipFill>
          <a:blip r:embed="rId1"/>
          <a:stretch/>
        </p:blipFill>
        <p:spPr>
          <a:xfrm>
            <a:off x="250920" y="189000"/>
            <a:ext cx="3251160" cy="2438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Rectangle 29"/>
          <p:cNvSpPr/>
          <p:nvPr/>
        </p:nvSpPr>
        <p:spPr>
          <a:xfrm>
            <a:off x="684360" y="2997360"/>
            <a:ext cx="7559640" cy="2160360"/>
          </a:xfrm>
          <a:prstGeom prst="rect">
            <a:avLst/>
          </a:prstGeom>
          <a:noFill/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Деятельность учителя математики 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в рамках информатизаци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Vivaldi"/>
              </a:rPr>
              <a:t>образовательного процесса.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6"/>
          <p:cNvSpPr/>
          <p:nvPr/>
        </p:nvSpPr>
        <p:spPr>
          <a:xfrm>
            <a:off x="1332000" y="54936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Результаты успеваемости  по  математике  в отдельном  классе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за три года (2004-2005,2005-2006,2006-2007)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16000" y="2637000"/>
          <a:ext cx="705636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37000"/>
                    <a:ext cx="705636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18" descr="co4"/>
          <p:cNvPicPr/>
          <p:nvPr/>
        </p:nvPicPr>
        <p:blipFill>
          <a:blip r:embed="rId3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684360" y="260280"/>
            <a:ext cx="7990920" cy="6127200"/>
            <a:chOff x="684360" y="260280"/>
            <a:chExt cx="7990920" cy="6127200"/>
          </a:xfrm>
        </p:grpSpPr>
        <p:graphicFrame>
          <p:nvGraphicFramePr>
            <p:cNvPr id="199" name="Object 4"/>
            <p:cNvGraphicFramePr/>
            <p:nvPr/>
          </p:nvGraphicFramePr>
          <p:xfrm>
            <a:off x="684360" y="1390320"/>
            <a:ext cx="7990920" cy="49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390320"/>
                      <a:ext cx="7990920" cy="49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Rectangle 5"/>
            <p:cNvSpPr/>
            <p:nvPr/>
          </p:nvSpPr>
          <p:spPr>
            <a:xfrm>
              <a:off x="2117160" y="260280"/>
              <a:ext cx="6028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Script MT Bold"/>
                </a:rPr>
                <a:t>Результаты  сдачи  ЕГЭ 2009 год коррекционного  класса  (выполнение заданий в %)</a:t>
              </a:r>
              <a:r>
                <a:rPr b="1" i="1" lang="ru-RU" sz="2000" spc="-1" strike="noStrike">
                  <a:solidFill>
                    <a:srgbClr val="ccffcc"/>
                  </a:solidFill>
                  <a:latin typeface="Script MT Bol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202" name="Picture 6" descr="co4"/>
          <p:cNvPicPr/>
          <p:nvPr/>
        </p:nvPicPr>
        <p:blipFill>
          <a:blip r:embed="rId3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Презентации опыта работы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448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Педсо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айонные методические конфе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айонные предметные выстав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Региональные выставки при АКИПК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Всероссийская конференция «Актуальные проблемы современного математического образования». – 2007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Всероссийская конференция «Актуальные проблемы современного математического образования». – 2009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Краевая конференции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 Природа  и культура  Алтая  в  современном  школьном  образовании» «Реализация  регионального  компонента  в содержании образования»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БАРНАУЛ : АКИПКРО.2009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co4"/>
          <p:cNvPicPr/>
          <p:nvPr/>
        </p:nvPicPr>
        <p:blipFill>
          <a:blip r:embed="rId8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15920"/>
          <a:ext cx="8359560" cy="6781680"/>
        </p:xfrm>
        <a:graphic>
          <a:graphicData uri="http://schemas.openxmlformats.org/drawingml/2006/table">
            <a:tbl>
              <a:tblPr/>
              <a:tblGrid>
                <a:gridCol w="1131840"/>
                <a:gridCol w="3614760"/>
                <a:gridCol w="3612960"/>
              </a:tblGrid>
              <a:tr h="288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выступал учител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выступл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«Творческая групповая работа учителей  математики   и  физи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. Уроки  геометрии. Самоподготовка  учащих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 неделя. МО шко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 проектов. Различные  виды  самостоятельных работ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сентябр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сероссийская   научно-практическая  конференция «Актуальные  проблемы  математического образования в школе и педвузе». БГП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рганизация «понимающего  усвоения»   математических  знаний»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апре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. АКИПКРО. Краевая  конференц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блемы  и необходимость  внедрения профильного  и предпрофильного  обучения  в  сельской   школ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 рай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личные  виды  самостоятельных рабо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ла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ая  сессия .  БГПА . Курьинская  СОШ. Работа  над исследовательским  проектом (выступление творческой группы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ктуальные  проблемы  современной  науки. Организация  работы  с одаренными деть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 рай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 работы  с одаренными детьми.  Организация исследовательской  работы  по  математике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дека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ление   на МО школы . Презентац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  « ситуации успеха»  в урочной и во внеурочной  деятельности  учителя  математики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 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сероссийская   научно-практическая  конференция  «Актуальные  проблемы  математического образования в школе и педвузе». БГП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 с одаренными деть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ная  направленность  математики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. АКИПКРО  Материалы конференции  «Природа  и культура  Алтая  в  современном  школьном  образовании»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ализация  регионального  компонента  в содержании образования». Презент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pic>
        <p:nvPicPr>
          <p:cNvPr id="207" name="Picture 233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708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аспространение педагогического опыта: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7543800" cy="15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Проведение открытых уро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и внеклассных мероприя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Представление опыта работы в </a:t>
            </a:r>
            <a:r>
              <a:rPr b="1" i="1" lang="ru-RU" sz="2400" spc="-1" strike="noStrike">
                <a:solidFill>
                  <a:srgbClr val="ff99ff"/>
                </a:solidFill>
                <a:latin typeface="Script MT Bold"/>
              </a:rPr>
              <a:t>печ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и в   </a:t>
            </a:r>
            <a:r>
              <a:rPr b="1" i="1" lang="ru-RU" sz="2400" spc="-1" strike="noStrike">
                <a:solidFill>
                  <a:srgbClr val="ff99ff"/>
                </a:solidFill>
                <a:latin typeface="Script MT Bold"/>
              </a:rPr>
              <a:t>ИНТЕРНЕТЕ</a:t>
            </a:r>
            <a:r>
              <a:rPr b="1" lang="ru-RU" sz="2400" spc="-1" strike="noStrike">
                <a:solidFill>
                  <a:srgbClr val="ff99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516720" y="620640"/>
            <a:ext cx="2314440" cy="3313080"/>
          </a:xfrm>
          <a:prstGeom prst="rect">
            <a:avLst/>
          </a:prstGeom>
          <a:ln w="38160">
            <a:solidFill>
              <a:srgbClr val="cc99ff"/>
            </a:solidFill>
            <a:miter/>
          </a:ln>
          <a:effectLst>
            <a:outerShdw dist="107932" dir="18900000" blurRad="0" rotWithShape="0">
              <a:srgbClr val="ccffcc">
                <a:alpha val="50000"/>
              </a:srgbClr>
            </a:outerShdw>
          </a:effectLst>
        </p:spPr>
      </p:pic>
      <p:graphicFrame>
        <p:nvGraphicFramePr>
          <p:cNvPr id="211" name=""/>
          <p:cNvGraphicFramePr/>
          <p:nvPr/>
        </p:nvGraphicFramePr>
        <p:xfrm>
          <a:off x="465120" y="-1135080"/>
          <a:ext cx="655560" cy="777960"/>
        </p:xfrm>
        <a:graphic>
          <a:graphicData uri="http://schemas.openxmlformats.org/drawingml/2006/table">
            <a:tbl>
              <a:tblPr/>
              <a:tblGrid>
                <a:gridCol w="218880"/>
                <a:gridCol w="4366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4840" y="-1125360"/>
          <a:ext cx="207720" cy="502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0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15" descr="empty"/>
          <p:cNvPicPr/>
          <p:nvPr/>
        </p:nvPicPr>
        <p:blipFill>
          <a:blip r:embed="rId5"/>
          <a:stretch/>
        </p:blipFill>
        <p:spPr>
          <a:xfrm>
            <a:off x="768240" y="-1089000"/>
            <a:ext cx="619200" cy="9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empty"/>
          <p:cNvPicPr/>
          <p:nvPr/>
        </p:nvPicPr>
        <p:blipFill>
          <a:blip r:embed="rId6"/>
          <a:stretch/>
        </p:blipFill>
        <p:spPr>
          <a:xfrm>
            <a:off x="806400" y="-32544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4" descr="журнал МАТЕМАТИКА В ШКОЛЕ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196920" y="3141720"/>
            <a:ext cx="2496960" cy="3311640"/>
          </a:xfrm>
          <a:prstGeom prst="rect">
            <a:avLst/>
          </a:prstGeom>
          <a:ln w="57240">
            <a:solidFill>
              <a:srgbClr val="cc99ff"/>
            </a:solidFill>
            <a:miter/>
          </a:ln>
          <a:effectLst>
            <a:outerShdw dist="107932" dir="13500000" blurRad="0" rotWithShape="0">
              <a:srgbClr val="cc99ff">
                <a:alpha val="50000"/>
              </a:srgbClr>
            </a:outerShdw>
          </a:effectLst>
        </p:spPr>
      </p:pic>
      <p:pic>
        <p:nvPicPr>
          <p:cNvPr id="216" name="Picture 65" descr="сканирование0002"/>
          <p:cNvPicPr/>
          <p:nvPr/>
        </p:nvPicPr>
        <p:blipFill>
          <a:blip r:embed="rId8"/>
          <a:stretch/>
        </p:blipFill>
        <p:spPr>
          <a:xfrm>
            <a:off x="2987640" y="3068640"/>
            <a:ext cx="2336760" cy="3355920"/>
          </a:xfrm>
          <a:prstGeom prst="rect">
            <a:avLst/>
          </a:prstGeom>
          <a:ln w="57240">
            <a:solidFill>
              <a:srgbClr val="cc99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Picture 11" descr=""/>
          <p:cNvPicPr/>
          <p:nvPr/>
        </p:nvPicPr>
        <p:blipFill>
          <a:blip r:embed="rId9"/>
          <a:stretch/>
        </p:blipFill>
        <p:spPr>
          <a:xfrm>
            <a:off x="5543640" y="4149720"/>
            <a:ext cx="3600360" cy="2282760"/>
          </a:xfrm>
          <a:prstGeom prst="rect">
            <a:avLst/>
          </a:prstGeom>
          <a:ln w="57240">
            <a:solidFill>
              <a:srgbClr val="4b0096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dd7df"/>
                </a:solidFill>
                <a:latin typeface="Script MT Bold"/>
              </a:rPr>
              <a:t>Творческие конкурсы, фестивали.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5438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фестиваль педагогических ид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Открытый урок»,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2009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фестиваль педагогических ид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«Портфолио»,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2009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сероссийский  проект  «Источник  знаний» портала</a:t>
            </a:r>
            <a:r>
              <a:rPr b="0" lang="ru-RU" sz="2400" spc="-1" strike="noStrike">
                <a:solidFill>
                  <a:srgbClr val="993300"/>
                </a:solidFill>
                <a:latin typeface="Tahoma"/>
              </a:rPr>
              <a:t>   «Учительская  газета»,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009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4" descr="сканирование0019"/>
          <p:cNvPicPr/>
          <p:nvPr/>
        </p:nvPicPr>
        <p:blipFill>
          <a:blip r:embed="rId4"/>
          <a:stretch/>
        </p:blipFill>
        <p:spPr>
          <a:xfrm>
            <a:off x="6227640" y="3645000"/>
            <a:ext cx="1947960" cy="2806560"/>
          </a:xfrm>
          <a:prstGeom prst="rect">
            <a:avLst/>
          </a:prstGeom>
          <a:ln w="76320">
            <a:solidFill>
              <a:srgbClr val="993300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</p:pic>
      <p:pic>
        <p:nvPicPr>
          <p:cNvPr id="221" name="Picture 5" descr="co4"/>
          <p:cNvPicPr/>
          <p:nvPr/>
        </p:nvPicPr>
        <p:blipFill>
          <a:blip r:embed="rId5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8022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276720" y="3760920"/>
            <a:ext cx="2363760" cy="309708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85328" dir="20006097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Конкурсы методических разработок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209080" cy="6021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18900000" blurRad="0" rotWithShape="0">
              <a:srgbClr val="ff66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Учитель – учителю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Современный урок»</a:t>
            </a:r>
            <a:r>
              <a:rPr b="1" lang="ru-RU" sz="24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007г, 2008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йонные конкурсы разработок уроков и сценари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Творческих разработок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 портале « Сеть творческих учителей» 2009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Мастерская  учителя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«Завуч.инф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4b0096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российский конкурс 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«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Pro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Школу.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ru</a:t>
            </a:r>
            <a:r>
              <a:rPr b="1" lang="ru-RU" sz="2400" spc="-1" strike="noStrike">
                <a:solidFill>
                  <a:srgbClr val="993300"/>
                </a:solidFill>
                <a:latin typeface="Tahoma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, (общероссийский образовательный порта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5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1168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егиональные выставки АКИПКРО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815840"/>
            <a:ext cx="8229600" cy="50418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В 2006 году приняла  участие  в  конкурсе  «Инновационные  технологии», проводимого АКИПКРО и  получила краевую грамоту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« За привитие интереса к предмету и умелое использование интернет-ресурсо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В  2007 году  за   участие  в   этом же  конкурсе  получила  краевой Дип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«За реализацию принципов личностно ориентированного обучения</a:t>
            </a: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4" descr="Акипкро"/>
          <p:cNvPicPr/>
          <p:nvPr/>
        </p:nvPicPr>
        <p:blipFill>
          <a:blip r:embed="rId1"/>
          <a:stretch/>
        </p:blipFill>
        <p:spPr>
          <a:xfrm>
            <a:off x="3780000" y="907920"/>
            <a:ext cx="3492360" cy="176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ffcc">
                <a:alpha val="50000"/>
              </a:srgbClr>
            </a:outerShdw>
          </a:effectLst>
        </p:spPr>
      </p:pic>
      <p:pic>
        <p:nvPicPr>
          <p:cNvPr id="229" name="Picture 5" descr="co4"/>
          <p:cNvPicPr/>
          <p:nvPr/>
        </p:nvPicPr>
        <p:blipFill>
          <a:blip r:embed="rId2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66288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Самообразование,</a:t>
            </a:r>
            <a:br>
              <a:rPr sz="3200"/>
            </a:b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 курсовая переподготовк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920" y="2119320"/>
          <a:ext cx="8137440" cy="4735440"/>
        </p:xfrm>
        <a:graphic>
          <a:graphicData uri="http://schemas.openxmlformats.org/drawingml/2006/table">
            <a:tbl>
              <a:tblPr/>
              <a:tblGrid>
                <a:gridCol w="4030560"/>
                <a:gridCol w="4106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19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АКИПК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 Особенности  орган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методической работы  в  услов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176040"/>
                          <a:tab algn="l" pos="80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обновления школьного   образования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144 час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» марта 200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БГПА     «Актуальные проблемы    современной науки и  техники. Организация  работы  с  одаренными  учащимися» в объ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8 часов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6» октября 2008 год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АКИПК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Актуальные  проблемы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математического  образования  в школ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и педагогическом  вузе»  в  объ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66ff33"/>
                        </a:buClr>
                        <a:buSzPct val="70000"/>
                        <a:buFont typeface="Calisto MT"/>
                        <a:buAutoNum type="arabicPlain" startAt="2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часа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66ff33"/>
                          </a:solidFill>
                          <a:latin typeface="Calisto MT"/>
                        </a:rPr>
                        <a:t>«10»  августа 2009 г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pic>
        <p:nvPicPr>
          <p:cNvPr id="232" name="Picture 78" descr="сканирование0023"/>
          <p:cNvPicPr/>
          <p:nvPr/>
        </p:nvPicPr>
        <p:blipFill>
          <a:blip r:embed="rId1"/>
          <a:stretch/>
        </p:blipFill>
        <p:spPr>
          <a:xfrm>
            <a:off x="5508720" y="260280"/>
            <a:ext cx="3457440" cy="2198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33" name="Picture 99" descr="co4"/>
          <p:cNvPicPr/>
          <p:nvPr/>
        </p:nvPicPr>
        <p:blipFill>
          <a:blip r:embed="rId2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Отслеживание результатов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Мониторинг качества знаний и успеваемости учащихся по предмету каждую четверть по каждому кл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Портфолио учителя (как в печатном, так и в электронном вариант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Различные формы диагнос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1619280" y="1739160"/>
            <a:ext cx="6624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  <a:ea typeface="Times New Roman"/>
              </a:rPr>
              <a:t>Направление методической  работы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Внедрение ИКТ</a:t>
            </a:r>
            <a:r>
              <a:rPr b="1" i="1" lang="ru-RU" sz="2800" spc="-1" strike="noStrike">
                <a:solidFill>
                  <a:srgbClr val="00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в педагогическую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21" name="Picture 10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j0441335"/>
          <p:cNvPicPr/>
          <p:nvPr/>
        </p:nvPicPr>
        <p:blipFill>
          <a:blip r:embed="rId2"/>
          <a:stretch/>
        </p:blipFill>
        <p:spPr>
          <a:xfrm>
            <a:off x="755640" y="285264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3"/>
          <a:stretch/>
        </p:blipFill>
        <p:spPr>
          <a:xfrm>
            <a:off x="334800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179280" y="5445000"/>
            <a:ext cx="4608720" cy="979560"/>
          </a:xfrm>
          <a:prstGeom prst="upArrowCallout">
            <a:avLst>
              <a:gd name="adj1" fmla="val 144601"/>
              <a:gd name="adj2" fmla="val 91919"/>
              <a:gd name="adj3" fmla="val 29134"/>
              <a:gd name="adj4" fmla="val 95749"/>
            </a:avLst>
          </a:prstGeom>
          <a:solidFill>
            <a:srgbClr val="9999ff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52320" y="5999040"/>
            <a:ext cx="3544920" cy="679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66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Государственные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0096"/>
                </a:solidFill>
                <a:latin typeface="Arial"/>
              </a:rPr>
              <a:t>стандарты образования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239" name="Group 28"/>
          <p:cNvGrpSpPr/>
          <p:nvPr/>
        </p:nvGrpSpPr>
        <p:grpSpPr>
          <a:xfrm>
            <a:off x="539640" y="5084640"/>
            <a:ext cx="3900600" cy="844560"/>
            <a:chOff x="539640" y="5084640"/>
            <a:chExt cx="3900600" cy="844560"/>
          </a:xfrm>
        </p:grpSpPr>
        <p:sp>
          <p:nvSpPr>
            <p:cNvPr id="240" name="AutoShape 8"/>
            <p:cNvSpPr/>
            <p:nvPr/>
          </p:nvSpPr>
          <p:spPr>
            <a:xfrm>
              <a:off x="539640" y="5084640"/>
              <a:ext cx="3900600" cy="844560"/>
            </a:xfrm>
            <a:prstGeom prst="upArrowCallout">
              <a:avLst>
                <a:gd name="adj1" fmla="val 117569"/>
                <a:gd name="adj2" fmla="val 58779"/>
                <a:gd name="adj3" fmla="val 31032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1839600" y="5560920"/>
              <a:ext cx="11815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уроки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2" name="Group 10"/>
          <p:cNvGrpSpPr/>
          <p:nvPr/>
        </p:nvGrpSpPr>
        <p:grpSpPr>
          <a:xfrm>
            <a:off x="539640" y="4365720"/>
            <a:ext cx="3900600" cy="934920"/>
            <a:chOff x="539640" y="4365720"/>
            <a:chExt cx="3900600" cy="934920"/>
          </a:xfrm>
        </p:grpSpPr>
        <p:sp>
          <p:nvSpPr>
            <p:cNvPr id="243" name="AutoShape 11"/>
            <p:cNvSpPr/>
            <p:nvPr/>
          </p:nvSpPr>
          <p:spPr>
            <a:xfrm>
              <a:off x="539640" y="436572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28412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4" name="Text Box 12"/>
            <p:cNvSpPr/>
            <p:nvPr/>
          </p:nvSpPr>
          <p:spPr>
            <a:xfrm>
              <a:off x="835200" y="4716360"/>
              <a:ext cx="35449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Самостоятельные 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539640" y="3645000"/>
            <a:ext cx="3900600" cy="934920"/>
            <a:chOff x="539640" y="3645000"/>
            <a:chExt cx="3900600" cy="934920"/>
          </a:xfrm>
        </p:grpSpPr>
        <p:sp>
          <p:nvSpPr>
            <p:cNvPr id="246" name="AutoShape 14"/>
            <p:cNvSpPr/>
            <p:nvPr/>
          </p:nvSpPr>
          <p:spPr>
            <a:xfrm>
              <a:off x="539640" y="364500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32000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1129680" y="4056480"/>
              <a:ext cx="313164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Контрольные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539640" y="2925720"/>
            <a:ext cx="3900600" cy="934920"/>
            <a:chOff x="539640" y="2925720"/>
            <a:chExt cx="3900600" cy="934920"/>
          </a:xfrm>
        </p:grpSpPr>
        <p:sp>
          <p:nvSpPr>
            <p:cNvPr id="249" name="AutoShape 17"/>
            <p:cNvSpPr/>
            <p:nvPr/>
          </p:nvSpPr>
          <p:spPr>
            <a:xfrm>
              <a:off x="539640" y="2925720"/>
              <a:ext cx="3900600" cy="934920"/>
            </a:xfrm>
            <a:prstGeom prst="upArrowCallout">
              <a:avLst>
                <a:gd name="adj1" fmla="val 106206"/>
                <a:gd name="adj2" fmla="val 53098"/>
                <a:gd name="adj3" fmla="val 30208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0" name="Text Box 18"/>
            <p:cNvSpPr/>
            <p:nvPr/>
          </p:nvSpPr>
          <p:spPr>
            <a:xfrm>
              <a:off x="776520" y="3336840"/>
              <a:ext cx="342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1129680" y="3336840"/>
              <a:ext cx="3190320" cy="36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Индивидуальные занятия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539640" y="2205000"/>
            <a:ext cx="3900600" cy="1045440"/>
            <a:chOff x="539640" y="2205000"/>
            <a:chExt cx="3900600" cy="1045440"/>
          </a:xfrm>
        </p:grpSpPr>
        <p:sp>
          <p:nvSpPr>
            <p:cNvPr id="253" name="AutoShape 21"/>
            <p:cNvSpPr/>
            <p:nvPr/>
          </p:nvSpPr>
          <p:spPr>
            <a:xfrm>
              <a:off x="539640" y="2205000"/>
              <a:ext cx="3900600" cy="915840"/>
            </a:xfrm>
            <a:prstGeom prst="upArrowCallout">
              <a:avLst>
                <a:gd name="adj1" fmla="val 108418"/>
                <a:gd name="adj2" fmla="val 54204"/>
                <a:gd name="adj3" fmla="val 27588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893880" y="2607840"/>
              <a:ext cx="354600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Внеклассные игры и конкурс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255" name="Group 23"/>
          <p:cNvGrpSpPr/>
          <p:nvPr/>
        </p:nvGrpSpPr>
        <p:grpSpPr>
          <a:xfrm>
            <a:off x="539640" y="1484280"/>
            <a:ext cx="3900600" cy="1050480"/>
            <a:chOff x="539640" y="1484280"/>
            <a:chExt cx="3900600" cy="1050480"/>
          </a:xfrm>
        </p:grpSpPr>
        <p:sp>
          <p:nvSpPr>
            <p:cNvPr id="256" name="AutoShape 24"/>
            <p:cNvSpPr/>
            <p:nvPr/>
          </p:nvSpPr>
          <p:spPr>
            <a:xfrm>
              <a:off x="539640" y="1484280"/>
              <a:ext cx="3900600" cy="927720"/>
            </a:xfrm>
            <a:prstGeom prst="upArrowCallout">
              <a:avLst>
                <a:gd name="adj1" fmla="val 110651"/>
                <a:gd name="adj2" fmla="val 55320"/>
                <a:gd name="adj3" fmla="val 31171"/>
                <a:gd name="adj4" fmla="val 66660"/>
              </a:avLst>
            </a:prstGeom>
            <a:solidFill>
              <a:srgbClr val="9999ff"/>
            </a:solidFill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57" name="Text Box 25"/>
            <p:cNvSpPr/>
            <p:nvPr/>
          </p:nvSpPr>
          <p:spPr>
            <a:xfrm>
              <a:off x="835200" y="1892160"/>
              <a:ext cx="354492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b00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6600"/>
                  </a:solidFill>
                  <a:latin typeface="Arial"/>
                </a:rPr>
                <a:t>Творческие  и  исследовательские  работы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258" name="Rectangle 26"/>
          <p:cNvSpPr/>
          <p:nvPr/>
        </p:nvSpPr>
        <p:spPr>
          <a:xfrm>
            <a:off x="324000" y="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Script MT Bold"/>
              </a:rPr>
              <a:t>Мониторинг качества знаний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580000" y="189000"/>
            <a:ext cx="33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Отслеживание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состояния 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Script MT Bold"/>
              </a:rPr>
              <a:t>успеваемости</a:t>
            </a:r>
            <a:endParaRPr b="0" lang="en-US" sz="2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5183280" y="1628640"/>
            <a:ext cx="3709800" cy="530460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Script MT Bold"/>
              </a:rPr>
              <a:t>процент успеваемости</a:t>
            </a:r>
            <a:r>
              <a:rPr b="0" lang="ru-RU" sz="2000" spc="-1" strike="noStrike">
                <a:solidFill>
                  <a:srgbClr val="99ffcc"/>
                </a:solidFill>
                <a:latin typeface="Script MT Bold"/>
              </a:rPr>
              <a:t> -  УО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Script MT Bold"/>
              </a:rPr>
              <a:t>процент качества</a:t>
            </a:r>
            <a:r>
              <a:rPr b="0" lang="ru-RU" sz="2000" spc="-1" strike="noStrike">
                <a:solidFill>
                  <a:srgbClr val="ffccff"/>
                </a:solidFill>
                <a:latin typeface="Script MT Bold"/>
              </a:rPr>
              <a:t>  -  КЗ,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Script MT Bold"/>
              </a:rPr>
              <a:t>степень 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Script MT Bold"/>
              </a:rPr>
              <a:t>обученности учащихся</a:t>
            </a:r>
            <a:r>
              <a:rPr b="0" lang="ru-RU" sz="2000" spc="-1" strike="noStrike">
                <a:solidFill>
                  <a:srgbClr val="ccecff"/>
                </a:solidFill>
                <a:latin typeface="Script MT Bold"/>
              </a:rPr>
              <a:t>   - СОУ</a:t>
            </a:r>
            <a:r>
              <a:rPr b="0" lang="ru-RU" sz="20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Script MT Bold"/>
              </a:rPr>
              <a:t>Формулы расчёта: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УО = (n “5” + n “4” + n “3”) : n;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КЗ = (n “5” + n “4”) : n;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cript MT Bold"/>
              </a:rPr>
              <a:t>СОУ = (n “5” · 100% + n “4” · 64% + n “3” ·36% + n “2” · 16%) : n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61" name="Picture 33" descr="co4"/>
          <p:cNvPicPr/>
          <p:nvPr/>
        </p:nvPicPr>
        <p:blipFill>
          <a:blip r:embed="rId1"/>
          <a:stretch/>
        </p:blipFill>
        <p:spPr>
          <a:xfrm>
            <a:off x="8799480" y="6283440"/>
            <a:ext cx="3445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324000" y="1413000"/>
            <a:ext cx="8237160" cy="5849640"/>
            <a:chOff x="324000" y="1413000"/>
            <a:chExt cx="8237160" cy="5849640"/>
          </a:xfrm>
        </p:grpSpPr>
        <p:sp>
          <p:nvSpPr>
            <p:cNvPr id="263" name="AutoShape 5"/>
            <p:cNvSpPr/>
            <p:nvPr/>
          </p:nvSpPr>
          <p:spPr>
            <a:xfrm>
              <a:off x="324000" y="1413000"/>
              <a:ext cx="8237160" cy="58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4" name="_s1028"/>
            <p:cNvSpPr/>
            <p:nvPr/>
          </p:nvSpPr>
          <p:spPr>
            <a:xfrm>
              <a:off x="3204000" y="1560240"/>
              <a:ext cx="2471040" cy="2339640"/>
            </a:xfrm>
            <a:prstGeom prst="rect">
              <a:avLst/>
            </a:prstGeom>
            <a:blipFill rotWithShape="0">
              <a:blip r:embed="rId1">
                <a:alphaModFix amt="0"/>
              </a:blip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0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cxnSp>
          <p:nvCxnSpPr>
            <p:cNvPr id="265" name="_s1029"/>
            <p:cNvCxnSpPr>
              <a:stCxn id="266" idx="0"/>
              <a:endCxn id="267" idx="2"/>
            </p:cNvCxnSpPr>
            <p:nvPr/>
          </p:nvCxnSpPr>
          <p:spPr>
            <a:xfrm rot="5400000">
              <a:off x="4755960" y="4128120"/>
              <a:ext cx="2257560" cy="2872080"/>
            </a:xfrm>
            <a:prstGeom prst="bentConnector5">
              <a:avLst>
                <a:gd name="adj1" fmla="val -5055"/>
                <a:gd name="adj2" fmla="val 49993"/>
                <a:gd name="adj3" fmla="val 110047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68" name="_s1030"/>
            <p:cNvCxnSpPr>
              <a:stCxn id="269" idx="0"/>
              <a:endCxn id="267" idx="2"/>
            </p:cNvCxnSpPr>
            <p:nvPr/>
          </p:nvCxnSpPr>
          <p:spPr>
            <a:xfrm rot="5400000">
              <a:off x="3312360" y="2678760"/>
              <a:ext cx="5150520" cy="2878200"/>
            </a:xfrm>
            <a:prstGeom prst="bentConnector5">
              <a:avLst>
                <a:gd name="adj1" fmla="val -2215"/>
                <a:gd name="adj2" fmla="val 50025"/>
                <a:gd name="adj3" fmla="val 104403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70" name="_s1031"/>
            <p:cNvCxnSpPr>
              <a:stCxn id="271" idx="0"/>
              <a:endCxn id="267" idx="2"/>
            </p:cNvCxnSpPr>
            <p:nvPr/>
          </p:nvCxnSpPr>
          <p:spPr>
            <a:xfrm flipH="1" rot="16200000">
              <a:off x="1872360" y="4115160"/>
              <a:ext cx="2274120" cy="2880720"/>
            </a:xfrm>
            <a:prstGeom prst="bentConnector5">
              <a:avLst>
                <a:gd name="adj1" fmla="val -5018"/>
                <a:gd name="adj2" fmla="val 49943"/>
                <a:gd name="adj3" fmla="val 109958"/>
              </a:avLst>
            </a:prstGeom>
            <a:ln w="28440">
              <a:solidFill>
                <a:srgbClr val="6600cc"/>
              </a:solidFill>
              <a:miter/>
            </a:ln>
          </p:spPr>
        </p:cxnSp>
        <p:cxnSp>
          <p:nvCxnSpPr>
            <p:cNvPr id="272" name="_s1032"/>
            <p:cNvCxnSpPr>
              <a:stCxn id="273" idx="0"/>
              <a:endCxn id="267" idx="2"/>
            </p:cNvCxnSpPr>
            <p:nvPr/>
          </p:nvCxnSpPr>
          <p:spPr>
            <a:xfrm flipH="1" rot="16200000">
              <a:off x="434160" y="2677320"/>
              <a:ext cx="5150520" cy="2880720"/>
            </a:xfrm>
            <a:prstGeom prst="bentConnector5">
              <a:avLst>
                <a:gd name="adj1" fmla="val -2215"/>
                <a:gd name="adj2" fmla="val 49943"/>
                <a:gd name="adj3" fmla="val 104403"/>
              </a:avLst>
            </a:prstGeom>
            <a:ln w="28440">
              <a:solidFill>
                <a:srgbClr val="6600cc"/>
              </a:solidFill>
              <a:miter/>
            </a:ln>
          </p:spPr>
        </p:cxnSp>
        <p:sp>
          <p:nvSpPr>
            <p:cNvPr id="267" name="_s1033"/>
            <p:cNvSpPr/>
            <p:nvPr/>
          </p:nvSpPr>
          <p:spPr>
            <a:xfrm>
              <a:off x="3214800" y="4353480"/>
              <a:ext cx="2471760" cy="2339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0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Копилка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Script MT Bold"/>
                </a:rPr>
                <a:t>наглядностей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73" name="_s1034"/>
            <p:cNvSpPr/>
            <p:nvPr/>
          </p:nvSpPr>
          <p:spPr>
            <a:xfrm>
              <a:off x="334800" y="1543680"/>
              <a:ext cx="2468520" cy="233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РАЗРАБОТКИ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(УРОКОВ,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РОЕКТОВ)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ПО  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МАТЕМАТИКЕ</a:t>
              </a:r>
              <a:endParaRPr b="0" lang="en-US" sz="21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71" name="_s1035"/>
            <p:cNvSpPr/>
            <p:nvPr/>
          </p:nvSpPr>
          <p:spPr>
            <a:xfrm>
              <a:off x="334800" y="4419720"/>
              <a:ext cx="2468520" cy="233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ЭКРАН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ВОРЧЕСКИХ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ХОДОК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9" name="_s1036"/>
            <p:cNvSpPr/>
            <p:nvPr/>
          </p:nvSpPr>
          <p:spPr>
            <a:xfrm>
              <a:off x="6092280" y="1543680"/>
              <a:ext cx="2468520" cy="2339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ИДАКТИЧЕСКИЙ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ДАТОЧНЫЙ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АТЕРИАЛ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266" name="_s1037"/>
            <p:cNvSpPr/>
            <p:nvPr/>
          </p:nvSpPr>
          <p:spPr>
            <a:xfrm>
              <a:off x="6084000" y="4436280"/>
              <a:ext cx="2468520" cy="233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00ff00"/>
              </a:solidFill>
              <a:miter/>
            </a:ln>
            <a:effectLst>
              <a:outerShdw dist="63504" dir="19383909" blurRad="0" rotWithShape="0">
                <a:srgbClr val="0796b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НЕКЛАССНАЯ 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Методические копилки в печатном 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 и электронном  варианте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3564000" y="2421000"/>
            <a:ext cx="243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ПОРТФОЛИ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76" name="Picture 21" descr="co4"/>
          <p:cNvPicPr/>
          <p:nvPr/>
        </p:nvPicPr>
        <p:blipFill>
          <a:blip r:embed="rId7"/>
          <a:stretch/>
        </p:blipFill>
        <p:spPr>
          <a:xfrm>
            <a:off x="8729640" y="6165720"/>
            <a:ext cx="41436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90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Результаты внедрения ИКТ в педагогическую деятельность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провожу занятия с использованием ИКТ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имею л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осваиваю новые программные продук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создаю собственные на основе имеющихся програм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32"/>
          <p:cNvPicPr/>
          <p:nvPr/>
        </p:nvPicPr>
        <p:blipFill>
          <a:blip r:embed="rId2"/>
          <a:stretch/>
        </p:blipFill>
        <p:spPr>
          <a:xfrm>
            <a:off x="7740720" y="404640"/>
            <a:ext cx="1047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0"/>
          <a:ext cx="2805120" cy="517680"/>
        </p:xfrm>
        <a:graphic>
          <a:graphicData uri="http://schemas.openxmlformats.org/drawingml/2006/table">
            <a:tbl>
              <a:tblPr/>
              <a:tblGrid>
                <a:gridCol w="2586240"/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2" name="Picture 11" descr="email08"/>
          <p:cNvPicPr/>
          <p:nvPr/>
        </p:nvPicPr>
        <p:blipFill>
          <a:blip r:embed="rId3"/>
          <a:stretch/>
        </p:blipFill>
        <p:spPr>
          <a:xfrm>
            <a:off x="3419640" y="2637000"/>
            <a:ext cx="11142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6240" y="320400"/>
            <a:ext cx="67323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Созданные проекты</a:t>
            </a:r>
            <a:br>
              <a:rPr sz="3200"/>
            </a:b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Творческая  мастерская. Формулы. 5 класс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Умножение дробей.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Пропорция.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Вектор . 8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Урок- обобщения. Творческая  мастерская. 8 класс. «Вектор»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роект. Творческая  мастерская. Виды уравнений. 9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урок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геометрии. 8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геометрии. 10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четы по алгебре. 10-11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серия уро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сследовательская работа  по математике. Золотая пропорция  вокруг нас.  6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групповая  работа, 14 час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42236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Исследовательская работа. Принцип «золотой пропорции» в изделиях  мастеров камнерезов завода им. Ползунова.  7 класс»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(творческая   индивидуальная рабо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4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8"/>
          <p:cNvSpPr/>
          <p:nvPr/>
        </p:nvSpPr>
        <p:spPr>
          <a:xfrm>
            <a:off x="284328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Rockwell Extra Bold"/>
              </a:rPr>
              <a:t>Реализация  ПРОЕКТОВ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48000" y="692280"/>
            <a:ext cx="4140360" cy="28288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288" name="Picture 12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2360" cy="26863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7"/>
          <p:cNvGrpSpPr/>
          <p:nvPr/>
        </p:nvGrpSpPr>
        <p:grpSpPr>
          <a:xfrm>
            <a:off x="250920" y="476280"/>
            <a:ext cx="3024000" cy="3122640"/>
            <a:chOff x="250920" y="476280"/>
            <a:chExt cx="3024000" cy="3122640"/>
          </a:xfrm>
        </p:grpSpPr>
        <p:pic>
          <p:nvPicPr>
            <p:cNvPr id="290" name="Picture 14" descr=""/>
            <p:cNvPicPr/>
            <p:nvPr/>
          </p:nvPicPr>
          <p:blipFill>
            <a:blip r:embed="rId3"/>
            <a:stretch/>
          </p:blipFill>
          <p:spPr>
            <a:xfrm>
              <a:off x="293400" y="476280"/>
              <a:ext cx="2836800" cy="31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5" descr=""/>
            <p:cNvPicPr/>
            <p:nvPr/>
          </p:nvPicPr>
          <p:blipFill>
            <a:blip r:embed="rId4"/>
            <a:stretch/>
          </p:blipFill>
          <p:spPr>
            <a:xfrm>
              <a:off x="718920" y="476280"/>
              <a:ext cx="212688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16"/>
            <p:cNvSpPr/>
            <p:nvPr/>
          </p:nvSpPr>
          <p:spPr>
            <a:xfrm>
              <a:off x="250920" y="2806560"/>
              <a:ext cx="3024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л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инейные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  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д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робные</a:t>
              </a:r>
              <a:r>
                <a:rPr b="0" lang="ru-RU" sz="1600" spc="-1" strike="noStrike">
                  <a:solidFill>
                    <a:srgbClr val="4b0096"/>
                  </a:solidFill>
                  <a:latin typeface="Rockwell Extra Bold"/>
                </a:rPr>
                <a:t>       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Arial"/>
                </a:rPr>
                <a:t>к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вадратные</a:t>
              </a:r>
              <a:r>
                <a:rPr b="1" lang="ru-RU" sz="1600" spc="-1" strike="noStrike">
                  <a:solidFill>
                    <a:srgbClr val="ffffff"/>
                  </a:solidFill>
                  <a:latin typeface="Rockwell Extra Bold"/>
                </a:rPr>
                <a:t> 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1600" spc="-1" strike="noStrike">
                  <a:solidFill>
                    <a:srgbClr val="4b0096"/>
                  </a:solidFill>
                  <a:latin typeface="Rockwell Extra Bold"/>
                </a:rPr>
                <a:t>уравнения</a:t>
              </a:r>
              <a:endParaRPr b="0" lang="en-US" sz="16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293" name="Picture 4" descr="проект  ГОРОДКА"/>
          <p:cNvPicPr/>
          <p:nvPr/>
        </p:nvPicPr>
        <p:blipFill>
          <a:blip r:embed="rId5"/>
          <a:stretch/>
        </p:blipFill>
        <p:spPr>
          <a:xfrm>
            <a:off x="179280" y="3716280"/>
            <a:ext cx="4248360" cy="2924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4"/>
          <p:cNvSpPr/>
          <p:nvPr/>
        </p:nvSpPr>
        <p:spPr>
          <a:xfrm>
            <a:off x="539640" y="3860640"/>
            <a:ext cx="331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0096"/>
                </a:solidFill>
                <a:latin typeface="Script MT Bold"/>
              </a:rPr>
              <a:t>Городок   МАТЕМАТИК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643280" y="3860640"/>
            <a:ext cx="20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0096"/>
                </a:solidFill>
                <a:latin typeface="Script MT Bold"/>
              </a:rPr>
              <a:t>«ВЕКТОР»  8класс</a:t>
            </a:r>
            <a:endParaRPr b="0" lang="en-US" sz="20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296" name="Picture 5" descr="IMG_4091"/>
          <p:cNvPicPr/>
          <p:nvPr/>
        </p:nvPicPr>
        <p:blipFill>
          <a:blip r:embed="rId7"/>
          <a:stretch/>
        </p:blipFill>
        <p:spPr>
          <a:xfrm>
            <a:off x="179280" y="3716280"/>
            <a:ext cx="4248360" cy="28814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297" name="Picture 11" descr=""/>
          <p:cNvPicPr/>
          <p:nvPr/>
        </p:nvPicPr>
        <p:blipFill>
          <a:blip r:embed="rId8"/>
          <a:stretch/>
        </p:blipFill>
        <p:spPr>
          <a:xfrm>
            <a:off x="4572000" y="3645000"/>
            <a:ext cx="4032360" cy="30067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692360" y="260280"/>
            <a:ext cx="61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Vivaldi"/>
              </a:rPr>
              <a:t>Внеклассная работа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79280" y="2133720"/>
            <a:ext cx="2808360" cy="1871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Внеклассны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тематически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мероприяти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недели математики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школьные конференции)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012000" y="2205000"/>
            <a:ext cx="2665440" cy="1800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Олимпиады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различны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уровней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  «Кенгуру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Авангард»).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348000" y="4221000"/>
            <a:ext cx="2664000" cy="24037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Исследовательская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учащихс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(«</a:t>
            </a: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Будущее Алтая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Первые шаги в науке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cript MT Bold"/>
              </a:rPr>
              <a:t>«ИКТ в Образовании»,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cript MT Bold"/>
              </a:rPr>
              <a:t>«Моя малая Родина»</a:t>
            </a:r>
            <a:r>
              <a:rPr b="0" lang="ru-RU" sz="16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1547640" y="1197000"/>
            <a:ext cx="2880000" cy="100800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4427640" y="1197000"/>
            <a:ext cx="3240000" cy="936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2771640" y="1197000"/>
            <a:ext cx="1656000" cy="352728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4427640" y="1197000"/>
            <a:ext cx="73080" cy="3168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826920" y="4797360"/>
            <a:ext cx="2305080" cy="1297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конкурсы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(«Умники и Умницы»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«Эрудиты Планеты»).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07" name="Picture 12" descr="co4"/>
          <p:cNvPicPr/>
          <p:nvPr/>
        </p:nvPicPr>
        <p:blipFill>
          <a:blip r:embed="rId1"/>
          <a:stretch/>
        </p:blipFill>
        <p:spPr>
          <a:xfrm>
            <a:off x="8532720" y="6093000"/>
            <a:ext cx="344520" cy="5745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4"/>
          <p:cNvSpPr/>
          <p:nvPr/>
        </p:nvSpPr>
        <p:spPr>
          <a:xfrm>
            <a:off x="6227640" y="4724280"/>
            <a:ext cx="2664000" cy="13240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bff2f9"/>
              </a:gs>
              <a:gs pos="100000">
                <a:srgbClr val="9999ff"/>
              </a:gs>
            </a:gsLst>
            <a:lin ang="18900000"/>
          </a:gra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астие  в форума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конференциях по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у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уч.инфо,</a:t>
            </a:r>
            <a:endParaRPr b="0" lang="en-US" sz="14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cript MT Bold"/>
              </a:rPr>
              <a:t>Национальная систем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нтеграция»)</a:t>
            </a:r>
            <a:endParaRPr b="0" lang="en-US" sz="1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4427640" y="1268280"/>
            <a:ext cx="2160360" cy="338472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2" descr="портфолио ДИПЛОМ"/>
          <p:cNvPicPr/>
          <p:nvPr/>
        </p:nvPicPr>
        <p:blipFill>
          <a:blip r:embed="rId1"/>
          <a:stretch/>
        </p:blipFill>
        <p:spPr>
          <a:xfrm>
            <a:off x="6804000" y="3500280"/>
            <a:ext cx="1530360" cy="21052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2089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Награды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-253692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14" name="Picture 16" descr="открытый"/>
          <p:cNvPicPr/>
          <p:nvPr/>
        </p:nvPicPr>
        <p:blipFill>
          <a:blip r:embed="rId2"/>
          <a:stretch/>
        </p:blipFill>
        <p:spPr>
          <a:xfrm>
            <a:off x="4356000" y="3573360"/>
            <a:ext cx="1293840" cy="1841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File0003"/>
          <p:cNvPicPr/>
          <p:nvPr/>
        </p:nvPicPr>
        <p:blipFill>
          <a:blip r:embed="rId3"/>
          <a:stretch/>
        </p:blipFill>
        <p:spPr>
          <a:xfrm>
            <a:off x="2195640" y="333360"/>
            <a:ext cx="2311200" cy="1665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8" descr="сканирование0002"/>
          <p:cNvPicPr/>
          <p:nvPr/>
        </p:nvPicPr>
        <p:blipFill>
          <a:blip r:embed="rId4"/>
          <a:stretch/>
        </p:blipFill>
        <p:spPr>
          <a:xfrm>
            <a:off x="250920" y="3933720"/>
            <a:ext cx="1844640" cy="26719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317" name="Picture 19" descr="File0005"/>
          <p:cNvPicPr/>
          <p:nvPr/>
        </p:nvPicPr>
        <p:blipFill>
          <a:blip r:embed="rId5"/>
          <a:stretch/>
        </p:blipFill>
        <p:spPr>
          <a:xfrm>
            <a:off x="4687920" y="260280"/>
            <a:ext cx="2081160" cy="29876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318" name="Picture 20" descr="File0006"/>
          <p:cNvPicPr/>
          <p:nvPr/>
        </p:nvPicPr>
        <p:blipFill>
          <a:blip r:embed="rId6"/>
          <a:stretch/>
        </p:blipFill>
        <p:spPr>
          <a:xfrm>
            <a:off x="179280" y="981000"/>
            <a:ext cx="1976400" cy="2801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1" descr="открытый урок ДИПЛОМ"/>
          <p:cNvPicPr/>
          <p:nvPr/>
        </p:nvPicPr>
        <p:blipFill>
          <a:blip r:embed="rId7"/>
          <a:stretch/>
        </p:blipFill>
        <p:spPr>
          <a:xfrm>
            <a:off x="3059280" y="4410000"/>
            <a:ext cx="1719000" cy="244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3" descr="сканирование0021"/>
          <p:cNvPicPr/>
          <p:nvPr/>
        </p:nvPicPr>
        <p:blipFill>
          <a:blip r:embed="rId8"/>
          <a:stretch/>
        </p:blipFill>
        <p:spPr>
          <a:xfrm>
            <a:off x="7380360" y="4581360"/>
            <a:ext cx="1512720" cy="208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5" descr=""/>
          <p:cNvPicPr/>
          <p:nvPr/>
        </p:nvPicPr>
        <p:blipFill>
          <a:blip r:embed="rId9"/>
          <a:stretch/>
        </p:blipFill>
        <p:spPr>
          <a:xfrm>
            <a:off x="6921360" y="260280"/>
            <a:ext cx="2025720" cy="2952720"/>
          </a:xfrm>
          <a:prstGeom prst="rect">
            <a:avLst/>
          </a:prstGeom>
          <a:ln w="57240">
            <a:solidFill>
              <a:srgbClr val="00ccff"/>
            </a:solidFill>
            <a:miter/>
          </a:ln>
          <a:effectLst>
            <a:outerShdw dist="107932" dir="18900000" blurRad="0" rotWithShape="0">
              <a:srgbClr val="6600cc">
                <a:alpha val="50000"/>
              </a:srgbClr>
            </a:outerShdw>
          </a:effectLst>
        </p:spPr>
      </p:pic>
      <p:pic>
        <p:nvPicPr>
          <p:cNvPr id="322" name="Picture 26" descr=""/>
          <p:cNvPicPr/>
          <p:nvPr/>
        </p:nvPicPr>
        <p:blipFill>
          <a:blip r:embed="rId10"/>
          <a:stretch/>
        </p:blipFill>
        <p:spPr>
          <a:xfrm>
            <a:off x="5435640" y="4292640"/>
            <a:ext cx="1670040" cy="2376360"/>
          </a:xfrm>
          <a:prstGeom prst="rect">
            <a:avLst/>
          </a:prstGeom>
          <a:ln w="57240">
            <a:solidFill>
              <a:srgbClr val="cc99ff"/>
            </a:solidFill>
            <a:miter/>
          </a:ln>
        </p:spPr>
      </p:pic>
      <p:pic>
        <p:nvPicPr>
          <p:cNvPr id="323" name="Picture 29" descr=""/>
          <p:cNvPicPr/>
          <p:nvPr/>
        </p:nvPicPr>
        <p:blipFill>
          <a:blip r:embed="rId11"/>
          <a:stretch/>
        </p:blipFill>
        <p:spPr>
          <a:xfrm>
            <a:off x="2340000" y="2133720"/>
            <a:ext cx="176220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2" descr=""/>
          <p:cNvPicPr/>
          <p:nvPr/>
        </p:nvPicPr>
        <p:blipFill>
          <a:blip r:embed="rId1"/>
          <a:stretch/>
        </p:blipFill>
        <p:spPr>
          <a:xfrm>
            <a:off x="4140360" y="563400"/>
            <a:ext cx="3384360" cy="221616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pic>
        <p:nvPicPr>
          <p:cNvPr id="325" name="Picture 15" descr="сканирование0001"/>
          <p:cNvPicPr/>
          <p:nvPr/>
        </p:nvPicPr>
        <p:blipFill>
          <a:blip r:embed="rId2"/>
          <a:stretch/>
        </p:blipFill>
        <p:spPr>
          <a:xfrm>
            <a:off x="324000" y="549360"/>
            <a:ext cx="3527280" cy="223200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graphicFrame>
        <p:nvGraphicFramePr>
          <p:cNvPr id="326" name=""/>
          <p:cNvGraphicFramePr/>
          <p:nvPr/>
        </p:nvGraphicFramePr>
        <p:xfrm>
          <a:off x="2050920" y="3141720"/>
          <a:ext cx="6169320" cy="3809880"/>
        </p:xfrm>
        <a:graphic>
          <a:graphicData uri="http://schemas.openxmlformats.org/drawingml/2006/table">
            <a:tbl>
              <a:tblPr/>
              <a:tblGrid>
                <a:gridCol w="1378080"/>
                <a:gridCol w="4791240"/>
              </a:tblGrid>
              <a:tr h="1554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сударственная Дума Федерального Собрания Российской Федераци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стерство образования и науки Российской Федерации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деральное агентство по образованию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деральное космическое агентство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система развития научной, творческой и инновационной деятельности  молодежи России "Интеграция"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НА ВСЕРОССИЙСКУЮ ДЕТСКУЮ КОНФЕРЕНЦИЮ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ВЫЕ ШАГИ В НАУК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66ffcc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комитет сообщает, что по итогам заочного этапа IV Всероссийского детского конкурса «Первые шаги в науке» приглашаютс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руководители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а Ирина Александр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(и)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ебеснова Елизавета Дмитрие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«Колыванская СОШ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ыв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66ff33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Стрижкова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66ff33"/>
                      </a:solidFill>
                    </a:lnR>
                    <a:lnT>
                      <a:noFill/>
                    </a:lnT>
                    <a:lnB w="18720">
                      <a:solidFill>
                        <a:srgbClr val="66ff33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796b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27" name="Text Box 43"/>
          <p:cNvSpPr/>
          <p:nvPr/>
        </p:nvSpPr>
        <p:spPr>
          <a:xfrm>
            <a:off x="1332000" y="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Script MT Bold"/>
              </a:rPr>
              <a:t>Участие  в форумах  и конференциях по  предмету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43"/>
          <p:cNvSpPr/>
          <p:nvPr/>
        </p:nvSpPr>
        <p:spPr>
          <a:xfrm>
            <a:off x="7740720" y="2349360"/>
            <a:ext cx="503280" cy="25196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268360" y="1844640"/>
            <a:ext cx="1079640" cy="1152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179280" y="2565360"/>
            <a:ext cx="792360" cy="223200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1" name="Line 8"/>
          <p:cNvSpPr/>
          <p:nvPr/>
        </p:nvSpPr>
        <p:spPr>
          <a:xfrm flipV="1">
            <a:off x="4716360" y="1268280"/>
            <a:ext cx="1440000" cy="1441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Script MT Bold"/>
              </a:rPr>
              <a:t>Великая радость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Script MT Bold"/>
              </a:rPr>
              <a:t>– работа!</a:t>
            </a:r>
            <a:br>
              <a:rPr sz="2400"/>
            </a:b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pic>
        <p:nvPicPr>
          <p:cNvPr id="333" name="Picture 18" descr="готовимся к олимпиаде"/>
          <p:cNvPicPr/>
          <p:nvPr/>
        </p:nvPicPr>
        <p:blipFill>
          <a:blip r:embed="rId1"/>
          <a:stretch/>
        </p:blipFill>
        <p:spPr>
          <a:xfrm>
            <a:off x="6156360" y="260280"/>
            <a:ext cx="2782800" cy="208764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graphicFrame>
        <p:nvGraphicFramePr>
          <p:cNvPr id="334" name=""/>
          <p:cNvGraphicFramePr/>
          <p:nvPr/>
        </p:nvGraphicFramePr>
        <p:xfrm>
          <a:off x="3857760" y="2714760"/>
          <a:ext cx="415800" cy="5173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Picture 36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32720" cy="2357640"/>
          </a:xfrm>
          <a:prstGeom prst="rect">
            <a:avLst/>
          </a:prstGeom>
          <a:ln w="38160">
            <a:solidFill>
              <a:srgbClr val="ccffcc"/>
            </a:solidFill>
            <a:miter/>
          </a:ln>
        </p:spPr>
      </p:pic>
      <p:pic>
        <p:nvPicPr>
          <p:cNvPr id="336" name="Picture 48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1751040" cy="20764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337" name="Picture 39" descr=""/>
          <p:cNvPicPr/>
          <p:nvPr/>
        </p:nvPicPr>
        <p:blipFill>
          <a:blip r:embed="rId4"/>
          <a:stretch/>
        </p:blipFill>
        <p:spPr>
          <a:xfrm>
            <a:off x="0" y="4770360"/>
            <a:ext cx="1692360" cy="208764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338" name="Picture 19" descr="эрудиты планеты"/>
          <p:cNvPicPr/>
          <p:nvPr/>
        </p:nvPicPr>
        <p:blipFill>
          <a:blip r:embed="rId5"/>
          <a:stretch/>
        </p:blipFill>
        <p:spPr>
          <a:xfrm>
            <a:off x="6372360" y="4797360"/>
            <a:ext cx="2550960" cy="19144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339" name="Text Box 49"/>
          <p:cNvSpPr/>
          <p:nvPr/>
        </p:nvSpPr>
        <p:spPr>
          <a:xfrm>
            <a:off x="179280" y="6267600"/>
            <a:ext cx="1548000" cy="58068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Мой друг и наставник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395280" y="2205000"/>
            <a:ext cx="1512720" cy="58068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Моя  ученица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1" name="Text Box 51"/>
          <p:cNvSpPr/>
          <p:nvPr/>
        </p:nvSpPr>
        <p:spPr>
          <a:xfrm>
            <a:off x="6804000" y="1989000"/>
            <a:ext cx="2089080" cy="33732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Скоро</a:t>
            </a:r>
            <a:r>
              <a:rPr b="1" i="1" lang="ru-RU" sz="1600" spc="-1" strike="noStrike">
                <a:solidFill>
                  <a:srgbClr val="ffffff"/>
                </a:solidFill>
                <a:latin typeface="Script MT Bold"/>
              </a:rPr>
              <a:t>  </a:t>
            </a: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олимпиада!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6443640" y="6308640"/>
            <a:ext cx="2232000" cy="337320"/>
          </a:xfrm>
          <a:prstGeom prst="rect">
            <a:avLst/>
          </a:prstGeom>
          <a:solidFill>
            <a:srgbClr val="6600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ffcc"/>
                </a:solidFill>
                <a:latin typeface="Script MT Bold"/>
              </a:rPr>
              <a:t>В онлайн….</a:t>
            </a: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343" name="04chopin.wav" descr=""/>
          <p:cNvPicPr/>
          <p:nvPr/>
        </p:nvPicPr>
        <p:blipFill>
          <a:blip r:embed="rId6"/>
          <a:stretch/>
        </p:blipFill>
        <p:spPr>
          <a:xfrm>
            <a:off x="8675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ffcc"/>
                </a:solidFill>
                <a:latin typeface="Script MT Bold"/>
              </a:rPr>
              <a:t>28 ЛЕТ НАЗАД</a:t>
            </a:r>
            <a:endParaRPr b="1" lang="en-US" sz="2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5" descr="ТАКОЙ Я ПРИШЛА  В ШКОЛУ УЧИТЕЛЬНИЦЕЙ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4861080"/>
          </a:xfrm>
          <a:prstGeom prst="rect">
            <a:avLst/>
          </a:prstGeom>
          <a:ln w="0">
            <a:noFill/>
          </a:ln>
        </p:spPr>
      </p:pic>
      <p:pic>
        <p:nvPicPr>
          <p:cNvPr id="347" name="MSj0278.wav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2020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cc"/>
                </a:solidFill>
                <a:latin typeface="Script MT Bold"/>
              </a:rPr>
              <a:t>Тема  самообразования</a:t>
            </a:r>
            <a:endParaRPr b="1" lang="en-US" sz="3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Script MT Bold"/>
              </a:rPr>
              <a:t>    </a:t>
            </a:r>
            <a:r>
              <a:rPr b="1" i="1" lang="ru-RU" sz="3200" spc="-1" strike="noStrike">
                <a:solidFill>
                  <a:srgbClr val="66ff33"/>
                </a:solidFill>
                <a:latin typeface="Script MT Bold"/>
              </a:rPr>
              <a:t>Активизация   познавательного интереса учащихся к математике через  проектную деятельность  на уроках и во внеурочное время,  используя ИК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co4"/>
          <p:cNvPicPr/>
          <p:nvPr/>
        </p:nvPicPr>
        <p:blipFill>
          <a:blip r:embed="rId1"/>
          <a:stretch/>
        </p:blipFill>
        <p:spPr>
          <a:xfrm>
            <a:off x="8459640" y="6021360"/>
            <a:ext cx="34452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50920" y="5157720"/>
            <a:ext cx="3529080" cy="122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рост качества обучения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50920" y="3860640"/>
            <a:ext cx="3529080" cy="136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плотнение содержательной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части урок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356000" y="4076640"/>
            <a:ext cx="4464000" cy="1366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отслеживание результат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обучения школьник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о математик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284720" y="2708280"/>
            <a:ext cx="453708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активизация деятельности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школьников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(творческой, исследовательской,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чебно-поисковой)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356000" y="5373720"/>
            <a:ext cx="44640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анализ личног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едагогического опыт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284720" y="1268280"/>
            <a:ext cx="4464000" cy="144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100000">
                <a:srgbClr val="00ccff"/>
              </a:gs>
            </a:gsLst>
            <a:lin ang="5400000"/>
          </a:gra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формирование  навыков работы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учащихся с образовательным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010"/>
                </a:solidFill>
                <a:latin typeface="Arial"/>
              </a:rPr>
              <a:t>программам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92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250920" y="981000"/>
            <a:ext cx="3589200" cy="1224000"/>
            <a:chOff x="250920" y="981000"/>
            <a:chExt cx="3589200" cy="1224000"/>
          </a:xfrm>
        </p:grpSpPr>
        <p:sp>
          <p:nvSpPr>
            <p:cNvPr id="135" name="AutoShape 10"/>
            <p:cNvSpPr/>
            <p:nvPr/>
          </p:nvSpPr>
          <p:spPr>
            <a:xfrm>
              <a:off x="250920" y="981000"/>
              <a:ext cx="3589200" cy="1224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539640" y="1341360"/>
              <a:ext cx="3117960" cy="6426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использование ресурсов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Интернет</a:t>
              </a:r>
              <a:r>
                <a:rPr b="0" lang="ru-RU" sz="1800" spc="-1" strike="noStrike">
                  <a:solidFill>
                    <a:srgbClr val="08001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179280" y="2349360"/>
            <a:ext cx="3600720" cy="1439640"/>
            <a:chOff x="179280" y="2349360"/>
            <a:chExt cx="3600720" cy="1439640"/>
          </a:xfrm>
        </p:grpSpPr>
        <p:sp>
          <p:nvSpPr>
            <p:cNvPr id="138" name="AutoShape 13"/>
            <p:cNvSpPr/>
            <p:nvPr/>
          </p:nvSpPr>
          <p:spPr>
            <a:xfrm>
              <a:off x="179280" y="2349360"/>
              <a:ext cx="3600720" cy="14396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51520" y="2674800"/>
              <a:ext cx="2979360" cy="916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внедрение  новых  образовательных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80010"/>
                  </a:solidFill>
                  <a:latin typeface="Arial"/>
                </a:rPr>
                <a:t>технологий</a:t>
              </a: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140" name="Text Box 15"/>
          <p:cNvSpPr/>
          <p:nvPr/>
        </p:nvSpPr>
        <p:spPr>
          <a:xfrm>
            <a:off x="2411280" y="260280"/>
            <a:ext cx="5329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132000" y="33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Rockwell Extra Bold"/>
              </a:rPr>
              <a:t>      </a:t>
            </a:r>
            <a:r>
              <a:rPr b="0" i="1" lang="ru-RU" sz="3200" spc="-1" strike="noStrike">
                <a:solidFill>
                  <a:srgbClr val="ffffcc"/>
                </a:solidFill>
                <a:latin typeface="Rockwell Extra Bold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42" name="Picture 17" descr="MCj03394680000[1]"/>
          <p:cNvPicPr/>
          <p:nvPr/>
        </p:nvPicPr>
        <p:blipFill>
          <a:blip r:embed="rId1"/>
          <a:stretch/>
        </p:blipFill>
        <p:spPr>
          <a:xfrm>
            <a:off x="0" y="595296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j03394700000[1]"/>
          <p:cNvPicPr/>
          <p:nvPr/>
        </p:nvPicPr>
        <p:blipFill>
          <a:blip r:embed="rId2"/>
          <a:stretch/>
        </p:blipFill>
        <p:spPr>
          <a:xfrm>
            <a:off x="7956720" y="476280"/>
            <a:ext cx="9046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Diagram 86"/>
          <p:cNvGrpSpPr/>
          <p:nvPr/>
        </p:nvGrpSpPr>
        <p:grpSpPr>
          <a:xfrm>
            <a:off x="179280" y="1197000"/>
            <a:ext cx="8784720" cy="5105160"/>
            <a:chOff x="179280" y="1197000"/>
            <a:chExt cx="8784720" cy="5105160"/>
          </a:xfrm>
        </p:grpSpPr>
        <p:sp>
          <p:nvSpPr>
            <p:cNvPr id="145" name="AutoShape 87"/>
            <p:cNvSpPr/>
            <p:nvPr/>
          </p:nvSpPr>
          <p:spPr>
            <a:xfrm>
              <a:off x="179280" y="1197000"/>
              <a:ext cx="8784720" cy="510516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ccffc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6" name="_s7289"/>
            <p:cNvSpPr/>
            <p:nvPr/>
          </p:nvSpPr>
          <p:spPr>
            <a:xfrm flipV="1">
              <a:off x="4571640" y="2535480"/>
              <a:ext cx="0" cy="6058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7" name="_s7257"/>
            <p:cNvSpPr/>
            <p:nvPr/>
          </p:nvSpPr>
          <p:spPr>
            <a:xfrm>
              <a:off x="3530880" y="1323720"/>
              <a:ext cx="2080800" cy="1212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Самообразовани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8" name="_s7288"/>
            <p:cNvSpPr/>
            <p:nvPr/>
          </p:nvSpPr>
          <p:spPr>
            <a:xfrm flipV="1">
              <a:off x="5470920" y="3139560"/>
              <a:ext cx="90000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49" name="_s7259"/>
            <p:cNvSpPr/>
            <p:nvPr/>
          </p:nvSpPr>
          <p:spPr>
            <a:xfrm>
              <a:off x="6230160" y="2230560"/>
              <a:ext cx="2080800" cy="1212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ортфолио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0" name="_s7287"/>
            <p:cNvSpPr/>
            <p:nvPr/>
          </p:nvSpPr>
          <p:spPr>
            <a:xfrm>
              <a:off x="5475600" y="4049280"/>
              <a:ext cx="899280" cy="3002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1" name="_s7261"/>
            <p:cNvSpPr/>
            <p:nvPr/>
          </p:nvSpPr>
          <p:spPr>
            <a:xfrm>
              <a:off x="6234840" y="4046400"/>
              <a:ext cx="2080800" cy="1212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Участие  в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офессиональных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  </a:t>
              </a: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конкурсах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2" name="_s7286"/>
            <p:cNvSpPr/>
            <p:nvPr/>
          </p:nvSpPr>
          <p:spPr>
            <a:xfrm>
              <a:off x="4575240" y="4354560"/>
              <a:ext cx="0" cy="6037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3" name="_s7263"/>
            <p:cNvSpPr/>
            <p:nvPr/>
          </p:nvSpPr>
          <p:spPr>
            <a:xfrm>
              <a:off x="3534840" y="4958640"/>
              <a:ext cx="2080800" cy="1212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опаганда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опы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4" name="_s7285"/>
            <p:cNvSpPr/>
            <p:nvPr/>
          </p:nvSpPr>
          <p:spPr>
            <a:xfrm flipH="1">
              <a:off x="2771640" y="4051440"/>
              <a:ext cx="90000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5" name="_s7265"/>
            <p:cNvSpPr/>
            <p:nvPr/>
          </p:nvSpPr>
          <p:spPr>
            <a:xfrm>
              <a:off x="831960" y="4051440"/>
              <a:ext cx="2080800" cy="1212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Методическая 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рабо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6" name="_s7284"/>
            <p:cNvSpPr/>
            <p:nvPr/>
          </p:nvSpPr>
          <p:spPr>
            <a:xfrm flipH="1" flipV="1">
              <a:off x="2768040" y="3141720"/>
              <a:ext cx="899280" cy="3027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7" name="_s7267"/>
            <p:cNvSpPr/>
            <p:nvPr/>
          </p:nvSpPr>
          <p:spPr>
            <a:xfrm>
              <a:off x="826920" y="2232720"/>
              <a:ext cx="2080800" cy="1212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Внеклассная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работа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8" name="_s7268"/>
            <p:cNvSpPr/>
            <p:nvPr/>
          </p:nvSpPr>
          <p:spPr>
            <a:xfrm>
              <a:off x="3530880" y="3142080"/>
              <a:ext cx="2080800" cy="1212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Преподавани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ccffcc"/>
                  </a:solidFill>
                  <a:latin typeface="Arial"/>
                </a:rPr>
                <a:t>в  школе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59" name="Picture 129"/>
            <p:cNvSpPr/>
            <p:nvPr/>
          </p:nvSpPr>
          <p:spPr>
            <a:xfrm>
              <a:off x="2989440" y="3358440"/>
              <a:ext cx="9504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sp>
        <p:nvSpPr>
          <p:cNvPr id="160" name="Rectangle 102"/>
          <p:cNvSpPr/>
          <p:nvPr/>
        </p:nvSpPr>
        <p:spPr>
          <a:xfrm>
            <a:off x="68436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Область деятельност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61" name="Picture 130" descr="co4"/>
          <p:cNvPicPr/>
          <p:nvPr/>
        </p:nvPicPr>
        <p:blipFill>
          <a:blip r:embed="rId8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cc"/>
                </a:solidFill>
                <a:latin typeface="Script MT Bold"/>
              </a:rPr>
              <a:t>Методическая работа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3600360"/>
            <a:ext cx="7543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4360" y="1773360"/>
            <a:ext cx="3095640" cy="100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cccc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подготовке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оведени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х совет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580000" y="1773360"/>
            <a:ext cx="3095640" cy="1008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в проведении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йонных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042920" y="3500280"/>
            <a:ext cx="3384720" cy="1079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 в школьном МО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7" name="Line 8"/>
          <p:cNvSpPr/>
          <p:nvPr/>
        </p:nvSpPr>
        <p:spPr>
          <a:xfrm flipH="1">
            <a:off x="2771640" y="1341360"/>
            <a:ext cx="1944720" cy="22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4716360" y="1341360"/>
            <a:ext cx="1871640" cy="2158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69" name="Line 10"/>
          <p:cNvSpPr/>
          <p:nvPr/>
        </p:nvSpPr>
        <p:spPr>
          <a:xfrm flipH="1">
            <a:off x="3132000" y="1341360"/>
            <a:ext cx="1511280" cy="4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4716360" y="1341360"/>
            <a:ext cx="1511280" cy="4320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71" name="Picture 12" descr="co4"/>
          <p:cNvPicPr/>
          <p:nvPr/>
        </p:nvPicPr>
        <p:blipFill>
          <a:blip r:embed="rId1"/>
          <a:stretch/>
        </p:blipFill>
        <p:spPr>
          <a:xfrm>
            <a:off x="8532720" y="5950080"/>
            <a:ext cx="344520" cy="574560"/>
          </a:xfrm>
          <a:prstGeom prst="rect">
            <a:avLst/>
          </a:prstGeom>
          <a:ln w="0">
            <a:noFill/>
          </a:ln>
        </p:spPr>
      </p:pic>
      <p:sp>
        <p:nvSpPr>
          <p:cNvPr id="172" name="Line 13"/>
          <p:cNvSpPr/>
          <p:nvPr/>
        </p:nvSpPr>
        <p:spPr>
          <a:xfrm>
            <a:off x="4716360" y="1413000"/>
            <a:ext cx="0" cy="35287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2195640" y="4941720"/>
            <a:ext cx="5184720" cy="1916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в сообществе клуба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Учителя математики»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 портале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Школу.ру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 учитель-эксперт),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в сообществе  «Ноу-Хау»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Сеть творческих учителей»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5076720" y="3500280"/>
            <a:ext cx="3457800" cy="107964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cccc00"/>
              </a:gs>
              <a:gs pos="100000">
                <a:srgbClr val="66ff33"/>
              </a:gs>
            </a:gsLst>
            <a:lin ang="189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х уроков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920520" y="20520"/>
            <a:ext cx="776808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040" rIns="90000" tIns="152280" bIns="3816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Используемые образовательные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cc"/>
                </a:solidFill>
                <a:latin typeface="Script MT Bold"/>
              </a:rPr>
              <a:t>технологии</a:t>
            </a: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6800" y="2201760"/>
            <a:ext cx="837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Уровневая дифференциация  (УД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коллективный способ (КСО); 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метод укрепленных дидактических единиц  (УДЕ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технология  интенсификации обучения на  основе  схемных и знаковых  моделей  учебного  материала ( В.Ф.Шаталов);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  <a:p>
            <a:pPr marL="343080" indent="-343080">
              <a:lnSpc>
                <a:spcPct val="100000"/>
              </a:lnSpc>
              <a:buClr>
                <a:srgbClr val="cccc00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метод проектов.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77" name="Group 225"/>
          <p:cNvGrpSpPr/>
          <p:nvPr/>
        </p:nvGrpSpPr>
        <p:grpSpPr>
          <a:xfrm>
            <a:off x="-192600" y="2248920"/>
            <a:ext cx="1069200" cy="1371600"/>
            <a:chOff x="-192600" y="2248920"/>
            <a:chExt cx="1069200" cy="1371600"/>
          </a:xfrm>
        </p:grpSpPr>
        <p:sp>
          <p:nvSpPr>
            <p:cNvPr id="178" name="Freeform 226"/>
            <p:cNvSpPr/>
            <p:nvPr/>
          </p:nvSpPr>
          <p:spPr>
            <a:xfrm flipH="1" rot="12052800">
              <a:off x="360" y="2329560"/>
              <a:ext cx="676080" cy="1209960"/>
            </a:xfrm>
            <a:custGeom>
              <a:avLst/>
              <a:gdLst>
                <a:gd name="textAreaLeft" fmla="*/ 360 w 676080"/>
                <a:gd name="textAreaRight" fmla="*/ 676800 w 676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79" name="Freeform 227"/>
            <p:cNvSpPr/>
            <p:nvPr/>
          </p:nvSpPr>
          <p:spPr>
            <a:xfrm flipH="1" rot="12052800">
              <a:off x="668160" y="2445120"/>
              <a:ext cx="171360" cy="236160"/>
            </a:xfrm>
            <a:custGeom>
              <a:avLst/>
              <a:gdLst>
                <a:gd name="textAreaLeft" fmla="*/ 360 w 171360"/>
                <a:gd name="textAreaRight" fmla="*/ 172080 w 171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50000">
                  <a:srgbClr val="ff9900"/>
                </a:gs>
                <a:gs pos="100000">
                  <a:srgbClr val="4b0096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80" name="Freeform 228"/>
            <p:cNvSpPr/>
            <p:nvPr/>
          </p:nvSpPr>
          <p:spPr>
            <a:xfrm flipH="1" rot="12052800">
              <a:off x="794160" y="2474280"/>
              <a:ext cx="64800" cy="89280"/>
            </a:xfrm>
            <a:custGeom>
              <a:avLst/>
              <a:gdLst>
                <a:gd name="textAreaLeft" fmla="*/ 360 w 64800"/>
                <a:gd name="textAreaRight" fmla="*/ 65520 w 648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sp>
          <p:nvSpPr>
            <p:cNvPr id="181" name="Freeform 229"/>
            <p:cNvSpPr/>
            <p:nvPr/>
          </p:nvSpPr>
          <p:spPr>
            <a:xfrm flipH="1" rot="12052800">
              <a:off x="19080" y="2518920"/>
              <a:ext cx="590400" cy="1011240"/>
            </a:xfrm>
            <a:custGeom>
              <a:avLst/>
              <a:gdLst>
                <a:gd name="textAreaLeft" fmla="*/ 360 w 590400"/>
                <a:gd name="textAreaRight" fmla="*/ 591120 w 5904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</p:grpSp>
      <p:pic>
        <p:nvPicPr>
          <p:cNvPr id="182" name="Picture 9" descr="co4"/>
          <p:cNvPicPr/>
          <p:nvPr/>
        </p:nvPicPr>
        <p:blipFill>
          <a:blip r:embed="rId1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C 0.00469 0.04537 0.0033 0.09468 -0.00069 0.14167 C -0.00156 0.18079 -0.00086 0.19908 -0.00468 0.23079 C -0.00225 0.27894 -0.00312 0.29584 -0.00277 0.36366 C -0.00312 0.36736 -0.00416 0.37454 -0.00416 0.375 E">
                                      <p:cBhvr>
                                        <p:cTn id="83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9280" y="620640"/>
          <a:ext cx="8748720" cy="5550120"/>
        </p:xfrm>
        <a:graphic>
          <a:graphicData uri="http://schemas.openxmlformats.org/drawingml/2006/table">
            <a:tbl>
              <a:tblPr/>
              <a:tblGrid>
                <a:gridCol w="1702080"/>
                <a:gridCol w="2339640"/>
                <a:gridCol w="1214640"/>
                <a:gridCol w="3492360"/>
              </a:tblGrid>
              <a:tr h="306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дека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е мероприяти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. Сорев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й б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«Разложение многочлена на множител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сентя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урок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т. 10 класс. Геометрия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зачет: «Аксиомы стереометр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октябр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Счастливый случай: «Логарифмы». Работа в  малых групп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  5 м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. «Вектор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ая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 мастерская. «Виды  уравнений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открытых  дверей. Ур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е виды деятельности на уроках  математики. Устный счет. Работа в пар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2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. Ур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отое сечение». КС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14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дека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ур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множение дробей». Метод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cript MT Bol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84" name="Text Box 280"/>
          <p:cNvSpPr/>
          <p:nvPr/>
        </p:nvSpPr>
        <p:spPr>
          <a:xfrm>
            <a:off x="3059280" y="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cc"/>
                </a:solidFill>
                <a:latin typeface="Script MT Bold"/>
              </a:rPr>
              <a:t>Школьный  уровень</a:t>
            </a:r>
            <a:endParaRPr b="0" lang="en-US" sz="2400" spc="-1" strike="noStrike">
              <a:solidFill>
                <a:srgbClr val="ffffff"/>
              </a:solidFill>
              <a:latin typeface="Script MT Bold"/>
            </a:endParaRPr>
          </a:p>
        </p:txBody>
      </p:sp>
      <p:pic>
        <p:nvPicPr>
          <p:cNvPr id="185" name="Picture 292" descr="co4"/>
          <p:cNvPicPr/>
          <p:nvPr/>
        </p:nvPicPr>
        <p:blipFill>
          <a:blip r:embed="rId1"/>
          <a:stretch/>
        </p:blipFill>
        <p:spPr>
          <a:xfrm>
            <a:off x="8604360" y="6165720"/>
            <a:ext cx="3445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05280" y="189000"/>
            <a:ext cx="82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cc"/>
                </a:solidFill>
                <a:latin typeface="Script MT Bold"/>
              </a:rPr>
              <a:t>Результаты  успеваемости  за три года</a:t>
            </a:r>
            <a:r>
              <a:rPr b="0" lang="ru-RU" sz="1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cript MT Bold"/>
            </a:endParaRPr>
          </a:p>
        </p:txBody>
      </p:sp>
      <p:grpSp>
        <p:nvGrpSpPr>
          <p:cNvPr id="187" name="Group 7"/>
          <p:cNvGrpSpPr/>
          <p:nvPr/>
        </p:nvGrpSpPr>
        <p:grpSpPr>
          <a:xfrm>
            <a:off x="250920" y="1052640"/>
            <a:ext cx="8893080" cy="5688000"/>
            <a:chOff x="250920" y="1052640"/>
            <a:chExt cx="8893080" cy="5688000"/>
          </a:xfrm>
        </p:grpSpPr>
        <p:sp>
          <p:nvSpPr>
            <p:cNvPr id="188" name="Text Box 3"/>
            <p:cNvSpPr/>
            <p:nvPr/>
          </p:nvSpPr>
          <p:spPr>
            <a:xfrm>
              <a:off x="250920" y="1052640"/>
              <a:ext cx="8893080" cy="5545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Script MT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( 2006-2007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2007-2008,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Script MT Bold"/>
                </a:rPr>
                <a:t>2008-2009)</a:t>
              </a:r>
              <a:endParaRPr b="0" lang="en-US" sz="2000" spc="-1" strike="noStrike">
                <a:solidFill>
                  <a:srgbClr val="ffffff"/>
                </a:solidFill>
                <a:latin typeface="Script MT Bold"/>
              </a:endParaRPr>
            </a:p>
          </p:txBody>
        </p:sp>
        <p:graphicFrame>
          <p:nvGraphicFramePr>
            <p:cNvPr id="189" name="Object 4"/>
            <p:cNvGraphicFramePr/>
            <p:nvPr/>
          </p:nvGraphicFramePr>
          <p:xfrm>
            <a:off x="490680" y="1963800"/>
            <a:ext cx="7927920" cy="437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0680" y="1963800"/>
                      <a:ext cx="7927920" cy="437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1" name="Picture 6" descr="co4"/>
            <p:cNvPicPr/>
            <p:nvPr/>
          </p:nvPicPr>
          <p:blipFill>
            <a:blip r:embed="rId3"/>
            <a:stretch/>
          </p:blipFill>
          <p:spPr>
            <a:xfrm>
              <a:off x="8604360" y="6165720"/>
              <a:ext cx="344520" cy="57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02:00Z</dcterms:created>
  <dc:creator>Admin</dc:creator>
  <dc:description/>
  <dc:language>en-US</dc:language>
  <cp:lastModifiedBy>DNA7 X86</cp:lastModifiedBy>
  <dcterms:modified xsi:type="dcterms:W3CDTF">2012-11-11T04:02:41Z</dcterms:modified>
  <cp:revision>88</cp:revision>
  <dc:subject/>
  <dc:title>Слайд 1</dc:title>
</cp:coreProperties>
</file>