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wmf" ContentType="image/x-wmf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4.wmf" ContentType="image/x-wmf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D14-D545-467D-A572-2BFB9C1C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A4B-2CC2-4D89-82FD-B68E6ECE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BC9-39BF-472B-B4D2-96A98A9A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73A-A39A-4D1E-9E48-7198E6FF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33A-4B1E-457A-B38F-18BAF235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AB81-8323-4DA2-A4C5-C5E4E6C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E1F-4C9C-4E10-9863-B1BF51A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A8DF-31C7-4221-AEB1-EC308670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8A99-F119-4F8D-939B-773C5AF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DD4-33DB-4FE0-B1A2-2FBDDB5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232-26CF-4BAD-9F88-885A048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D4D-FB3C-402E-8EA1-4F652E9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C978-4709-4C6D-A892-2F4B3B5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474B-A7AA-42C2-9630-54CBE50B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E0B2-15DE-463E-A76A-075E8BB7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826-9DE5-46E1-B216-3F634421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51A-0483-46FF-926D-A0E59B7B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443-E34F-446D-B045-A6FB4DE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AFA-AA5E-467D-A32F-E4DB1E2C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E43-2799-4AF4-8EAC-8EFC919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480-E0BD-467B-826D-65B7E69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028-6885-4795-A158-F7BAC9E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77E-2AC5-41B1-8940-77503D5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34B-CE33-47CC-9257-7943C80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31C-6D78-4E13-B79E-105722BF83D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A934-3FD7-4F78-A538-21B46EDDCE4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29600" cy="2792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0492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-182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одинское сражение-самая кровопролитная битва в истории среди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дноднев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сражений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усские потеряли в Бородинской битве 44 тыс. чел., французы и их союзники — свыше 58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0_4d0df_672d6b6d_XL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581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Бородино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стихотворение Михаила Юрьевича Лермонтова посвящено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Бородинскому сражению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7 сентября 1812 года, в котором русская армия сражалась против наполеоновского войс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549760" y="3008160"/>
            <a:ext cx="359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абил заряд я в пушку туг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умал: угощу я друга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й-ка, брат мусью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ут хитрить, пожалуй к бою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 мы пойдем ломить стено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 постоим мы головою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родину свою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914400" y="2746440"/>
            <a:ext cx="4199040" cy="327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йской военной и народной традиции Бородинское сражение осталось как символ стойкости и героизма в защите Род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01"/>
          <p:cNvPicPr/>
          <p:nvPr/>
        </p:nvPicPr>
        <p:blipFill>
          <a:blip r:embed="rId2"/>
          <a:stretch/>
        </p:blipFill>
        <p:spPr>
          <a:xfrm>
            <a:off x="38088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MG_1116"/>
          <p:cNvPicPr/>
          <p:nvPr/>
        </p:nvPicPr>
        <p:blipFill>
          <a:blip r:embed="rId3"/>
          <a:stretch/>
        </p:blipFill>
        <p:spPr>
          <a:xfrm>
            <a:off x="3352680" y="2133720"/>
            <a:ext cx="2514600" cy="32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dca79437222c"/>
          <p:cNvPicPr/>
          <p:nvPr/>
        </p:nvPicPr>
        <p:blipFill>
          <a:blip r:embed="rId4"/>
          <a:stretch/>
        </p:blipFill>
        <p:spPr>
          <a:xfrm>
            <a:off x="6172200" y="2133720"/>
            <a:ext cx="2819520" cy="3352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"/>
          <p:cNvSpPr/>
          <p:nvPr/>
        </p:nvSpPr>
        <p:spPr>
          <a:xfrm>
            <a:off x="2743200" y="5714280"/>
            <a:ext cx="4023000" cy="36828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и на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родинс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257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родинское сражение - крупнейшее сражение Отечественной войны 1812 года между русской армией и французской армией состоялось 26 августа (7 сентября) 1812 года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села Бородино, в 125 км на запад от Москв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98600" y="1371600"/>
            <a:ext cx="8035920" cy="4057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ой армией генерал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. И. Кутуз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914400" y="1447560"/>
            <a:ext cx="419112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М. И. Кутузов на Бородинском поле. Художник С. В. Герасимов. 1952 г."/>
          <p:cNvPicPr/>
          <p:nvPr/>
        </p:nvPicPr>
        <p:blipFill>
          <a:blip r:embed="rId2"/>
          <a:stretch/>
        </p:blipFill>
        <p:spPr>
          <a:xfrm>
            <a:off x="1523880" y="2239920"/>
            <a:ext cx="449604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нцузской армией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олеон I Бонапа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05160" cy="4425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914040" y="16761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з всех моих сражений самое ужасное то, которое я дал под Москвой. Французы в нём показали себя достойными одержать победу, а русские стяжали право быть непобедимыми… Из пятидесяти сражений, мною данных, в битве под Москвой выказано [французами] наиболее доблести и одержан наименьший успе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ажению предшествовал бой 24 августа у деревни Шевардино (Шевардинский редут), в котором 12-тысячный отряд генерала А.И. Горчакова целый день сдерживали атаки превосходящих сил французов (30 тыс. чел.). Это дало Кутузову возможность подготовить основные позиц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7" descr="File:SamokishBorodinoLitograf.jpg"/>
          <p:cNvPicPr/>
          <p:nvPr/>
        </p:nvPicPr>
        <p:blipFill>
          <a:blip r:embed="rId2"/>
          <a:stretch/>
        </p:blipFill>
        <p:spPr>
          <a:xfrm>
            <a:off x="1752480" y="2514600"/>
            <a:ext cx="5238720" cy="3757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2593080" y="281880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Атака Шевардинского редута»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828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ле атаки на левый фланг Наполеон перенес главное направление удара на центр русской армии, открыв против него огонь из 400 орудий. В этих условиях Кутузов перебросил часть сил с правого фланга. В результате французы не смогли прорвать центр русской армии. С наступлением темноты обе армии были отведены с поля боя. Первоначально русская армия собиралась утром продолжить бой. Однако расстройство рядов и отсутствие сильных резервов (их было не более 5 тыс. чел., в то время, как у французов - 19 тыс.) вынудили Кутузова оставить поле сражения и отвести армию к Москве. 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олеон планировал прорвать левый фланг русских, прижать их к Москве-реке и уничто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тузов же стремился упорной обороной ослабить французскую армию и остановить ее движение к Моск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онечном итоге французы заставили русскую армию отступить и оставить Москв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авный результат Бородинской битвы состоял в том, что она не позволила Наполеону одолеть русских в генеральном сражении. Это был крах его стратегического замысла, за которым последовало и поражение в войн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ам в ходе сражения не удалось уничтожить русскую армию, вынудить капитулировать Россию и продиктовать условия мира. Российские же войска нанесли существенный урон армии противника и смогли сохранить силы для грядущих сраж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2-11-11T06:35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