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739A-8FE7-4D60-9BD1-DAB352447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AF32-9983-4678-98E7-CB4B2F99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DF0D-702C-4ED3-823D-73D44706B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ED2E-B153-4C42-8394-A832FFAD5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739F-949B-4F98-B79C-753E0F045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A43A-46AE-4FE4-A5A1-6F8BD902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CB73B-00C2-44E9-A5A7-9520A522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EB33-15AC-49D2-B545-C56A5645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272B3-7549-4C7B-BE28-C426EEF2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5E6FB-A2CE-4B6C-8235-3B66305F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76EA-DEEB-4FC8-BD85-D0FB4EB7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D232-8385-4388-94D8-C934B42F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E24B-5A54-4CF3-97C9-4498FF40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1A29-B6A2-49F0-B725-EE276250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C5CF-DEE4-4260-84F0-54DCB057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56CB-25A6-4BFA-B2B1-2676180DE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8FE3-2C87-47A2-8680-B5E05465A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696D-D873-4E4C-8652-CDBC0AC8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A27A-D006-4528-9A70-95E1FA68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3241-25DF-4BF6-B432-7C155D89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92FC-981C-4194-B303-BDFD7E95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2E04-5374-40B6-B7AF-79F683C9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3C7D-1974-40DE-80D1-946C3D44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8018-B634-419D-910C-0E3A1A65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87B7-C662-43FD-BC38-202F40F238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F0A8-1A71-4A20-AE67-D7F2A0AB0B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3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image" Target="../media/image24.jpe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e5ffff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3962520" y="1905120"/>
            <a:ext cx="4343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590920" y="4952880"/>
            <a:ext cx="6248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6e34f"/>
                </a:solidFill>
                <a:latin typeface="Tahoma"/>
              </a:rPr>
              <a:t>Неизвестный Некрас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6e34f"/>
                </a:solidFill>
                <a:latin typeface="Tahoma"/>
              </a:rPr>
              <a:t>Лирика природы и любв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0" y="380880"/>
            <a:ext cx="9144000" cy="6782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0" y="380880"/>
            <a:ext cx="9144000" cy="67820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0" y="380880"/>
            <a:ext cx="9144000" cy="6782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0" y="380880"/>
            <a:ext cx="9144000" cy="67820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8"/>
          <a:stretch/>
        </p:blipFill>
        <p:spPr>
          <a:xfrm>
            <a:off x="0" y="380880"/>
            <a:ext cx="9144000" cy="6782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9"/>
          <a:stretch/>
        </p:blipFill>
        <p:spPr>
          <a:xfrm>
            <a:off x="0" y="363600"/>
            <a:ext cx="9144000" cy="6799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0"/>
          <a:stretch/>
        </p:blipFill>
        <p:spPr>
          <a:xfrm>
            <a:off x="0" y="380880"/>
            <a:ext cx="9144000" cy="6782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1"/>
          <a:stretch/>
        </p:blipFill>
        <p:spPr>
          <a:xfrm>
            <a:off x="0" y="380880"/>
            <a:ext cx="9524880" cy="676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173347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3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3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3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98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" dur="142299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91920" cy="6829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52280" y="0"/>
            <a:ext cx="3791160" cy="4952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886200" y="4876920"/>
            <a:ext cx="5867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Скажи! я должен знать... Как странно я люблю! Я счастья тебе желаю и молю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Но мысль, что и тебя гнетет тоска разлуки, Души моей смягчает муки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522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1" dur="195915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657600" cy="24004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4981680" y="0"/>
            <a:ext cx="4162320" cy="3429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1447920" y="2438280"/>
            <a:ext cx="54864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Картинка 13 из 6258"/>
          <p:cNvPicPr/>
          <p:nvPr/>
        </p:nvPicPr>
        <p:blipFill>
          <a:blip r:embed="rId3"/>
          <a:stretch/>
        </p:blipFill>
        <p:spPr>
          <a:xfrm>
            <a:off x="0" y="0"/>
            <a:ext cx="2620800" cy="3505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3733920" y="533520"/>
            <a:ext cx="2133360" cy="28191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6477120" y="152280"/>
            <a:ext cx="2431800" cy="35244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5486400" y="3276720"/>
            <a:ext cx="2347920" cy="3581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990720" y="2629080"/>
            <a:ext cx="345420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6000"/>
                            </p:stCondLst>
                            <p:childTnLst>
                              <p:par>
                                <p:cTn id="2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8000"/>
                            </p:stCondLst>
                            <p:childTnLst>
                              <p:par>
                                <p:cTn id="2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52280" y="609480"/>
            <a:ext cx="4340520" cy="56390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3276360"/>
            <a:ext cx="449568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Зачем же ты в душе  неистребим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Мечта любви, не знающей конц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                    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Н.А.Некрас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0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048120" y="4114800"/>
            <a:ext cx="6095880" cy="2743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914400" y="152280"/>
            <a:ext cx="3657600" cy="20732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572000" y="10666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Ярославская гимназ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2032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4051440" cy="4724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724280" y="3124080"/>
            <a:ext cx="4419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на была исполнена печали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 между тем, как шумны и резвы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ри отрока вокруг нее играли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е уста задумчиво шептали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"Несчастные! зачем родились вы?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йдете вы дорогою прямою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 вам судьбы своей не избежать!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1295280"/>
            <a:ext cx="3733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Елена Андреевна Некрасо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(в девичестве Закревска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143000" y="685800"/>
            <a:ext cx="3581280" cy="23637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219320" y="320040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м-усадьба в Грешнев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609480"/>
            <a:ext cx="36576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менно из Грешнева Некрасов – поэт вынес исключительную чуткость к чужому страда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Грешневе завязалась сердечная привязанность Некрасова к русскому крестьянин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Картинка 18 из 73"/>
          <p:cNvPicPr/>
          <p:nvPr/>
        </p:nvPicPr>
        <p:blipFill>
          <a:blip r:embed="rId3"/>
          <a:stretch/>
        </p:blipFill>
        <p:spPr>
          <a:xfrm>
            <a:off x="4343400" y="3614760"/>
            <a:ext cx="480060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147456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85152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657600" y="5029200"/>
            <a:ext cx="53341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e34f"/>
                </a:solidFill>
                <a:latin typeface="Tahoma"/>
              </a:rPr>
              <a:t>Идёт-гудёт зелёный шу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e34f"/>
                </a:solidFill>
                <a:latin typeface="Tahoma"/>
              </a:rPr>
              <a:t>Зелёный шум, весенний шум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1073680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К</cp:lastModifiedBy>
  <dcterms:modified xsi:type="dcterms:W3CDTF">2012-02-09T17:52:4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