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9AB1-C792-43F3-B77B-84B3F1E2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EE88-1D49-4B81-9212-EA0D6A9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3012-3F37-4EF1-AEDB-9A8A9341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BAE50-1AC4-449B-A111-29A342E8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8620-E559-4E16-B822-332CCC3C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A680-5989-4DD0-84D2-FE1F74BA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3BDB-3292-449E-BC87-5B4ECCFE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ACCD-73A5-47C5-9B02-17A6749A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7C69-38C7-44E2-8223-7F78E369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1E4D-B518-4E54-A93F-A6484A82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AB38-20EF-43F7-AC7E-F850DF2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BAF4-1A55-4853-846C-EB49D9D7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EAD2-FCAE-4FBC-B936-415A93A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294E-B296-43A3-A1C5-0F46E3C4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1615-982E-42B2-9B44-5C483035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78A1-B6BA-485A-B0A9-8E3AECCE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FB1-A520-49AF-AAE9-AB60CA02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9E13-811A-4D43-BAD7-C9545C1D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EE1E-6047-42EC-B663-9CDC773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6428-567A-41B2-A5FA-785D4A5B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8230-752B-4A46-84C8-4C5C6013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23B8-7E04-4EF2-B74B-2B43C972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5111-5133-4E28-834D-10CB6E43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9D17-F7D4-4CA2-8E5D-89EDAFE0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0332-E088-4A4F-BE25-FAF70FA364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3D49-EF5F-41F7-AD75-07EDA35DF1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unstcamera.ru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резентация</a:t>
            </a:r>
            <a:br>
              <a:rPr sz="54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ля проведения урока русского языка в 8 к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«Неполное предложение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итель русского язы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БОУ СОШ № 2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асилеостровского рай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олкова Наталья Сергее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11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Алгоритм определения неполного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Проверить, содержит ли предложение оба главных член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 – предложение двусоставно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Т – предложение односоставно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Проверить, можно ли восстановить отсутствующий главный или второстепенный чле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 – предложение неполно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Т – предложение полно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Восстановить пропущенные члены предлож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Ход урока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урок изучения нового материал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Цель урок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ть понятие 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полном предложен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зграничении неполных и односоставных предложен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фере использования неполных предложен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унктуационном оформлении неполных предлож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чебные задачи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рмирование умения аналитического подхода к материалу на уроке русского язы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рмирование умения внятно и логично формулировать и оформлять свои мыс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звивать и совершенствовать умение работать с художественным поэтическим текс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спользование ОЭ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спекты урока на электронных носител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орные материалы (слайд-шоу) с использованием интерактивной дос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удиокнига с текстами басен И.Крылова в исполнении актеров Гостелеради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«Толковый словарь живого великорусского языка» В.И. Да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фициальный сайт музея Кунсткаме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kunstcamera.r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Ход уро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тение по ролям фрагмента басни И. Крылова «Любопытный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налитическая беседа по содержанию тек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пись и синтаксический разб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бота по теории неполных предлож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потребление неполных конструкций в сложных предложения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потребление неполных предложений в реч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Лексическая работа с художественными текстам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сторическая рубрика: история знака тир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бота в группах: читаем, обсуждаем, отвеча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.       Закрепление нового материа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Любопытный»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«Приятель, дорогой, здорово! Где ты был?» - 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«В Кунсткамере, мой друг! Часа там три ходил;» - …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… </a:t>
            </a: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«А видел ли слона? Каков собой на взгляд!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Я, чай, подумал ты, что гору встретил?» - 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«Да разве там он?» - «Там». - «Ну, братец, виноват;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Слона-то я и не приметил»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амятник И.А. Крылову в Летнем сад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276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унсткам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ЕПОЛНЫМ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называют предложения, в которых пропущен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какой-либо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член предложения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легко восстанавливаемый из контек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TiS</cp:lastModifiedBy>
  <dcterms:modified xsi:type="dcterms:W3CDTF">2012-11-11T16:29:1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