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916-22BD-4EE2-8A37-8F9B8AA5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600-5C38-4F5B-9B95-7E662671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3B7-E60E-4660-9D46-279E3A3C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2EC-A130-4221-B30F-317267E7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6229-EFFC-443F-ABC9-DCEC6F27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6CF-6FED-4F61-B651-192A9A1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2F84-E540-478C-BCB1-ED90CAA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74AF-9DE9-4819-9571-F4DDD13A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ED0E-C366-4446-A631-0852E541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9D70-9D9A-43B5-B08C-F4120DB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4D0-22B3-4513-A336-8A29C07D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153-7779-4E06-B3C6-70034A8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0A4-8BED-4AC4-BB6B-BDA56E22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FEC-A0DE-4C96-806E-20CD3E8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BD6E-C82B-4B19-BF5A-F17EC42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6D1B-E3C3-4C29-B558-803FF5F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05A8-4FDA-4750-ACBD-6370BAFE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902-C9C5-4177-9442-066E7B1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4EB-01C6-4A16-9370-7C15DE11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71A-7A50-4651-BDA4-8C12128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744-1482-4DAD-BC60-663E0CE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A1B-5975-49BE-96A4-E995FA5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3DD-F623-466E-8D5D-96B3AE7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BE1-5B8E-4584-9E0E-DE7802D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C03-9AB6-41D8-8CE0-923AA96C8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288-640E-434A-963C-0F3219C43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иколай Васильевич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Гогол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тературные знакомств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новничья деятельность не приносит Гоголю удовлетворения; зато новые его публикации (повесть «Бисаврюк, или Вечер накануне Ивана Купала», статьи и эссе) обращают на него все большее внимание. Писатель завязывает обширные литературные знакомства, в частности, с В. А. Жуковским, П. А. Плетневым, А. С. Пушки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35640" y="1960560"/>
            <a:ext cx="2952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борник повестей из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краинской жиз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енью того же года выходит 1-я часть сборника повестей из украинской жизни «Вечера на хуторе близ Диканьки» (в следующем году появилась 2-я часть), восторженно встреченная Пушкиным: «Вот настоящая веселость, искренняя, непринужденная, без жеманства, без чопорности. А местами какая поэзия!...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82520" y="1916280"/>
            <a:ext cx="3416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выхода первой прозаической книги Гоголь — знаменитый писатель. Летом 1832 его с воодушевлением встречают в Москве, где он знакомится с М. П. Погодиным, С. Т. Аксаковым и его семейством, М. С. Щепкиным и другими. Следующая поездка Гоголя в Москву, столь же успешная, состоялась летом 1835. К концу этого года он оставляет поприще педагогики (с лета 1834 занимал должность адъюнкт-профессора всеобщей истории Санкт-Петербургского университета) и целиком посвящает себя литературному труд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звращение на родин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апреле 1848, после паломничества в Святую землю к гробу Господню, Гоголь окончательно возвращается на родину. Многие месяцы он проводит в Одессе и Малороссии, наведывается в Петербург, но большую часть времени живет в Моск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мерть писате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очь с 11 на 12 февраля в доме на Никитском бульваре, где Гоголь жил у графа А. П. Толстого, в состоянии глубокого душевного кризиса писатель сжигает новую редакцию второго тома «Мертвые души». Через несколько дней, утром 21 февраля он умир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3927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хороны Н.В.Гогол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хороны писателя состоялись при огромном стечении народа на кладбище Свято-Данилова монастыря (в 1931 останки Гоголя были перезахоронены на Новодевичьем кладбищ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527280" cy="252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273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мятники Н.В.Гогол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2592360" cy="2378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2640240" cy="245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835280" y="3933720"/>
            <a:ext cx="2232000" cy="292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84720" y="4076640"/>
            <a:ext cx="1943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34560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Мы не знаем, как могла бы Россия обойтись без Гоголя,»- писал Н.Г.Чернышевск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.В.Гоголь ( 1809-185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27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мья Гогол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Родился 20 марта 1809г.в местечке Великие Сорочинцы Миргородского уезда Полтавской губернии. Будущий классик русской литературы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3600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асилий Афанасьевич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го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3236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ки писателя со стороны отца были потомственными священниками, однако дед писателя Афанасий Демьянович оставил духовное поприще и поступил на службу в гетманскую канцелярию. Отец, Василий Афанасьевич, служил при Малороссийском почтам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19040" y="2182680"/>
            <a:ext cx="294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рья Ивановна Гого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ь, Марья Ивановна, происходившая из помещичьей семьи Косяровских, слыла первой красавицей на Полтавщине; замуж за Василия Афанасьевича она вышла четырнадцати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15040" y="2009880"/>
            <a:ext cx="3133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тство Гого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 семье, помимо Николая, было еще пятеро детей. Детские годы будущий писатель провел в родном имении Васильевке, наведываясь вместе с родителями в окрестные места — Дикань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3927600" cy="2108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36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жинская гимназия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сших нау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ачале Николай учился в Полтавском уездном училище (1818-1819)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— как актер и декоратор. Больше всего Гоголя занимает в это время мысль о государственной службе на поприще юст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53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голь в Петербург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кончании гимназии Гоголь в декабре 1828 вместе с одним из своих ближайших друзей А. С. Данилевским приезжает в Петербург, где его подстерегает ряд ударов и разочарований: не удается получить желаемого места; поэма «Ганц Кюхельгартен», написанная еще в гимназическую пору и изданная в 1829 встречает убийственные отклики (Гоголь тотчас же скупает почти весь тираж книги и предает его огню); к этому, возможно, прибавились любовные переживания, о которых он говорил в письме к матери. Все это заставляет Гоголя внезапно уехать из Петербурга в Герм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вращении в Россию (в сентябре того же года) Гоголю наконец удается определиться на службу — вначале в Департамент государственного хозяйства и публичных зданий, а затем в Департамент у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35080" y="1916280"/>
            <a:ext cx="3309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5:52:37Z</dcterms:created>
  <dc:creator>Владелец</dc:creator>
  <dc:description/>
  <dc:language>en-US</dc:language>
  <cp:lastModifiedBy>Владелец</cp:lastModifiedBy>
  <dcterms:modified xsi:type="dcterms:W3CDTF">2012-11-11T17:22:33Z</dcterms:modified>
  <cp:revision>5</cp:revision>
  <dc:subject/>
  <dc:title>Николай Васильевич    Гоголь</dc:title>
</cp:coreProperties>
</file>