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3F70-9F1F-45F1-BC8B-DEF7CB99D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3FF8-38ED-4ED5-9681-83C28FCE4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6893-BD1F-4CD4-AABE-40A19870E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8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6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5315-7C18-4249-9EB9-F11AD1B56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71040" y="56988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12CD-7E67-4248-B292-B2702CB57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710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098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8640" y="4160520"/>
            <a:ext cx="25128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BDE0-4D8F-4174-921E-C61087F01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32DB-1CC8-4FD8-8073-5D468D0A7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D531-6547-45B6-A986-D9722A84B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6988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8FF9-C157-4F48-A6F0-BE827A48C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10F4-6361-413D-93FE-4503E2659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16052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3282-0610-43EC-85EC-1E980D6EB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0520"/>
            <a:ext cx="78044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44A4-89F1-498E-8097-3F6997C68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E43D0-CFBB-41B1-8280-F652CAA02A9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280099"/>
                </a:solidFill>
                <a:latin typeface="Times New Roman"/>
              </a:rPr>
              <a:t>МБОУ СОШ №3 имени С. А. Красовского</a:t>
            </a:r>
            <a:br>
              <a:rPr sz="2200"/>
            </a:br>
            <a:r>
              <a:rPr b="1" i="1" lang="en-US" sz="2200" spc="-1" strike="noStrike">
                <a:solidFill>
                  <a:srgbClr val="280099"/>
                </a:solidFill>
                <a:latin typeface="Times New Roman"/>
              </a:rPr>
              <a:t>п. Монино  </a:t>
            </a:r>
            <a:br>
              <a:rPr sz="2200"/>
            </a:br>
            <a:endParaRPr b="1" i="1" lang="en-US" sz="22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102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19640" y="1906560"/>
            <a:ext cx="45003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431640" indent="-320400"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Проектная раб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0400"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msmincho"/>
              </a:rPr>
              <a:t>«Применение технологии проблемного обу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0400"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msmincho"/>
              </a:rPr>
              <a:t>на уроках истории и обществознан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19640" y="4162320"/>
            <a:ext cx="46800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431640" indent="-320400" algn="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Работу выполнил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0400" algn="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учитель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0400" algn="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Потапова Ольга Александров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58920" y="1979640"/>
            <a:ext cx="3960720" cy="377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71400" y="569880"/>
            <a:ext cx="780912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360360"/>
            <a:ext cx="809928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700b8"/>
                </a:solidFill>
                <a:latin typeface="Times New Roman"/>
              </a:rPr>
              <a:t>Цель:</a:t>
            </a:r>
            <a:r>
              <a:rPr b="0" lang="ru-RU" sz="3200" spc="-1" strike="noStrike">
                <a:solidFill>
                  <a:srgbClr val="4700b8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4700b8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700b8"/>
                </a:solidFill>
                <a:latin typeface="Times New Roman"/>
              </a:rPr>
              <a:t>изучить приёмы проблемного обучения в преподавании истории и обществозн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700b8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700b8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700b8"/>
                </a:solidFill>
                <a:latin typeface="Times New Roman"/>
              </a:rPr>
              <a:t>- познакомиться с основными приёмами проблемного обуч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700b8"/>
                </a:solidFill>
                <a:latin typeface="Times New Roman"/>
              </a:rPr>
              <a:t>- подробно изучить «кейс-метод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700b8"/>
                </a:solidFill>
                <a:latin typeface="Times New Roman"/>
              </a:rPr>
              <a:t>- создать оптимальные пути для реализации проблемного обучения на указанных дисциплин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71400" y="569880"/>
            <a:ext cx="780912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371520"/>
            <a:ext cx="6578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хнология - это совокупность приемов, применяемых в каком-либо деле, мастерстве, искусстве (толковый словарь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1260360"/>
            <a:ext cx="80992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Times New Roman"/>
              </a:rPr>
              <a:t>Педагогическая технология - совокупность психолого-педагогических установок, определяющих специальный набор и компоновку форм, методов, способов, приемов обучения, воспитательных средств; она есть организационно-методический инструментарий педагогического процесса . (Б.Т.Лихачёв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840" y="3780000"/>
            <a:ext cx="82566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33"/>
                </a:solidFill>
                <a:latin typeface="Times New Roman"/>
              </a:rPr>
              <a:t>« Педагогическая технология означает системную совокупность и порядок функционирования всех личностных, инструментальных и методологических средств, используемых для достижения педагогических целей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.В.Кларин). [Селевко Г.К. Современные образовательные технологии: Учебное пособие. – М.: Народное образование, 1998. – C. 14-15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71400" y="403200"/>
            <a:ext cx="78073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280099"/>
                </a:solidFill>
                <a:latin typeface="Times New Roman"/>
                <a:ea typeface="msmincho"/>
              </a:rPr>
              <a:t>Понятие «педагогическая технология» может быть представлено тремя аспектами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220840"/>
            <a:ext cx="251316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научны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педагогические технологии - часть педагогической науки, изучающая и разрабатывающая цели, содержание и методы обучения и проектирующая педагогические процессы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40000" y="2138400"/>
            <a:ext cx="251928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ссуально-описательны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исание (алгоритм) процесса, совокупность целей, содержания, методов и средств для достижения планируемых результатов обучения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54760" y="2160720"/>
            <a:ext cx="2863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ссуально-действенны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уществление технологического (педагогического) процесса, функционирование всех личностных, инструментальных и методологических педагогических средст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219640"/>
            <a:ext cx="809964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80"/>
                </a:solidFill>
                <a:latin typeface="Times New Roman"/>
              </a:rPr>
              <a:t>Таким образом, педагогическая технология функционирует и в качестве науки, исследующей наиболее рациональные пути обучения, и в качестве системы способов, принципов и регулятивов, применяемых в обучении, и в качестве реального процесса обуч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533520"/>
            <a:ext cx="78073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80099"/>
                </a:solidFill>
                <a:latin typeface="Times New Roman"/>
              </a:rPr>
              <a:t>Понятие «педагогическая технология» в образовательной практике употребляется на трех иерархически соподчиненных уровнях: </a:t>
            </a:r>
            <a:endParaRPr b="1" i="1" lang="en-US" sz="28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9400" y="2162160"/>
            <a:ext cx="38098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епедагогический (общедидактический) уровен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характеризует целостный образовательный процесс в данном регионе, учебном заведении, на определенной ступени обучени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ее включается совокупность целей, содержания, средств и методов обучения, алгоритм деятельности субъектов и объектов процесс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72080" y="1906560"/>
            <a:ext cx="380988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Частнометодический (предметный) уровен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 совокупность методов и средств для реализации определенного содержания обучения и воспитания в рамках одного предмета, класса, учителя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9760" y="3579840"/>
            <a:ext cx="3809880" cy="27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Локальный (модульный) уровен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ехнология отдельных видов деятельности, формирования понятий, воспитание отдельных личностных качеств, технология урока, усвоения новых знаний, технология повторения и контроля материала, технология самостоятельной работы и д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80099"/>
                </a:solidFill>
                <a:latin typeface="Times New Roman"/>
              </a:rPr>
              <a:t>Образовательная технология</a:t>
            </a:r>
            <a:br>
              <a:rPr sz="3200"/>
            </a:br>
            <a:r>
              <a:rPr b="1" i="1" lang="ru-RU" sz="3200" spc="-1" strike="noStrike">
                <a:solidFill>
                  <a:srgbClr val="280099"/>
                </a:solidFill>
                <a:latin typeface="Times New Roman"/>
              </a:rPr>
              <a:t>есть комплекс, состоящий из:</a:t>
            </a:r>
            <a:endParaRPr b="1" i="1" lang="en-US" sz="32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1040" y="19209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55e00"/>
                </a:solidFill>
                <a:latin typeface="Times New Roman"/>
              </a:rPr>
              <a:t>некоторого представления планируемых результатов обучени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55e00"/>
                </a:solidFill>
                <a:latin typeface="Times New Roman"/>
              </a:rPr>
              <a:t>- средств диагностики текущего состояния обучаемынх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55e00"/>
                </a:solidFill>
                <a:latin typeface="Times New Roman"/>
              </a:rPr>
              <a:t>- набора моделей обучени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55e00"/>
                </a:solidFill>
                <a:latin typeface="Times New Roman"/>
              </a:rPr>
              <a:t>- критериев выбора оптимальной модели для данных конкретных услов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-</a:t>
            </a:r>
            <a:r>
              <a:rPr b="1" lang="ru-RU" sz="1800" spc="-1" strike="noStrike">
                <a:solidFill>
                  <a:srgbClr val="004a4a"/>
                </a:solidFill>
                <a:latin typeface="Times New Roman"/>
                <a:ea typeface="msmincho"/>
              </a:rPr>
              <a:t> система задач  , удовлетворяющая требования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4a4a"/>
                </a:solidFill>
                <a:latin typeface="Times New Roman"/>
                <a:ea typeface="msmincho"/>
              </a:rPr>
              <a:t>1. Полно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4a4a"/>
                </a:solidFill>
                <a:latin typeface="Times New Roman"/>
                <a:ea typeface="msmincho"/>
              </a:rPr>
              <a:t>2. Наличие ключевых зада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4a4a"/>
                </a:solidFill>
                <a:latin typeface="Times New Roman"/>
                <a:ea typeface="msmincho"/>
              </a:rPr>
              <a:t>3. Связност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4a4a"/>
                </a:solidFill>
                <a:latin typeface="Times New Roman"/>
                <a:ea typeface="msmincho"/>
              </a:rPr>
              <a:t>4. Возрастание трудности в каждом уровн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4a4a"/>
                </a:solidFill>
                <a:latin typeface="Times New Roman"/>
                <a:ea typeface="msmincho"/>
              </a:rPr>
              <a:t>5. Целевая ориентац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4a4a"/>
                </a:solidFill>
                <a:latin typeface="Times New Roman"/>
                <a:ea typeface="msmincho"/>
              </a:rPr>
              <a:t>6. Целевая достаточност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4a4a"/>
                </a:solidFill>
                <a:latin typeface="Times New Roman"/>
                <a:ea typeface="msmincho"/>
              </a:rPr>
              <a:t>7. Психологическая комфорт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1400" y="569880"/>
            <a:ext cx="780912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1520" y="46080"/>
            <a:ext cx="926784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-2110320"/>
            <a:ext cx="84600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i="1" lang="ru-RU" sz="3200" spc="-1" strike="noStrike">
                <a:solidFill>
                  <a:srgbClr val="280099"/>
                </a:solidFill>
                <a:latin typeface="Times New Roman"/>
              </a:rPr>
              <a:t>Проблемное обучение - педагогическая технологии на основе активизации и интенсификации деятельности учащихся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1" i="1" lang="en-US" sz="32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1040" y="2160720"/>
            <a:ext cx="38084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355e00"/>
                </a:solidFill>
                <a:latin typeface="Times New Roman"/>
              </a:rPr>
              <a:t>Кейс-метод —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355e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355e00"/>
                </a:solidFill>
                <a:latin typeface="Times New Roman"/>
              </a:rPr>
              <a:t>западная методик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355e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355e00"/>
                </a:solidFill>
                <a:latin typeface="Times New Roman"/>
              </a:rPr>
              <a:t>построенная на создании проблемной ситуа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59280" y="2160720"/>
            <a:ext cx="2160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1400" y="4160880"/>
            <a:ext cx="780588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700b8"/>
                </a:solidFill>
                <a:latin typeface="Times New Roman"/>
                <a:ea typeface="msmincho"/>
              </a:rPr>
              <a:t>Проблемная ситуация создаётся на основе фактов из реальной жизни.  Учитель, используя данную методику на уроке, стремится к реализации важнейших задач по формированию компетентностей, знаний и практических навы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59280" y="2171880"/>
            <a:ext cx="2224080" cy="1608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280099"/>
                </a:solidFill>
                <a:latin typeface="Times New Roman"/>
              </a:rPr>
              <a:t>Что необходимо для создания кейса?</a:t>
            </a: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0000" y="1906200"/>
            <a:ext cx="41194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355e00"/>
                </a:solidFill>
                <a:uFillTx/>
                <a:latin typeface="Times New Roman"/>
              </a:rPr>
              <a:t>решить орг.вопрос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55e00"/>
                </a:solidFill>
                <a:latin typeface="Times New Roman"/>
              </a:rPr>
              <a:t>-задание проводят в оборудованном ПК кабинете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55e00"/>
                </a:solidFill>
                <a:latin typeface="Times New Roman"/>
              </a:rPr>
              <a:t>-продумать проблемную ситуацию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55e00"/>
                </a:solidFill>
                <a:latin typeface="Times New Roman"/>
              </a:rPr>
              <a:t>-создать рабочие группы; выбрать жюр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1906560"/>
            <a:ext cx="414972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3080" indent="-34164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355e00"/>
                </a:solidFill>
                <a:uFillTx/>
                <a:latin typeface="Times New Roman"/>
                <a:ea typeface="msmincho"/>
              </a:rPr>
              <a:t>создать содержимое кейс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55e00"/>
                </a:solidFill>
                <a:latin typeface="Times New Roman"/>
                <a:ea typeface="msmincho"/>
              </a:rPr>
              <a:t>-ссылки на сайты и портал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55e00"/>
                </a:solidFill>
                <a:latin typeface="Times New Roman"/>
                <a:ea typeface="msmincho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55e00"/>
                </a:solidFill>
                <a:latin typeface="Times New Roman"/>
                <a:ea typeface="msmincho"/>
              </a:rPr>
              <a:t>-подготовить портфель с отпечатанными документ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4120" y="4680000"/>
            <a:ext cx="780552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3080" indent="-341640"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4a4a"/>
                </a:solidFill>
                <a:latin typeface="Times New Roman"/>
                <a:ea typeface="msmincho"/>
              </a:rPr>
              <a:t>Урок с использованием кейс-мет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4a4a"/>
                </a:solidFill>
                <a:latin typeface="Times New Roman"/>
                <a:ea typeface="msmincho"/>
              </a:rPr>
              <a:t>может проводиться в несколько этап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4a4a"/>
                </a:solidFill>
                <a:latin typeface="Times New Roman"/>
                <a:ea typeface="msmincho"/>
              </a:rPr>
              <a:t>в старших классах на парных уро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280099"/>
                </a:solidFill>
                <a:latin typeface="Times New Roman"/>
              </a:rPr>
              <a:t>Выводы:</a:t>
            </a:r>
            <a:endParaRPr b="1" i="1" lang="en-US" sz="3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4120" y="1439640"/>
            <a:ext cx="7805520" cy="4856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использовании методики проблемного обучения необходимо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учитывать прежде всего возрастные особенности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уровень подготовки обучающихся, их способность к мышлению, к умению делать вывод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помнить  об особенностях классного коллектива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задание рассчитывать на среднего ученика (т.е задание должно бытьсредней сложности , понятным, обязательно интересным и полезным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9520" y="3959280"/>
            <a:ext cx="81612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a4a"/>
                </a:solidFill>
                <a:latin typeface="Times New Roman"/>
              </a:rPr>
              <a:t>Учитель должен обладать  наблюдательностью , умением слушать собеседника, быть эрудированным в различных областях жизни и науки и помнить, что технология проблемного обучения -  это очень трудоёмкая технолог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4:18:32Z</dcterms:created>
  <dc:creator>VOVA</dc:creator>
  <dc:description/>
  <dc:language>en-US</dc:language>
  <cp:lastModifiedBy>User</cp:lastModifiedBy>
  <dcterms:modified xsi:type="dcterms:W3CDTF">2010-10-27T06:34:23Z</dcterms:modified>
  <cp:revision>7</cp:revision>
  <dc:subject/>
  <dc:title>Общественное развитие</dc:title>
</cp:coreProperties>
</file>