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4.png" ContentType="image/png"/>
  <Override PartName="/ppt/media/image9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953-B0C5-44FC-8AA7-0C3D3ABC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1A4-8170-40BE-B090-A4F9FC1D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A62-457B-4FFC-83A2-950B7EBB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A00-8710-4CAA-94B2-6712515D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699-BFF4-4864-A201-249C5067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E7A-34EF-4EDF-B1C3-EBAC9F21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021-66CE-4684-958B-7D33F3A5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88D-F34A-4D68-A239-48C76819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2A2-5456-4DA2-B065-81552E35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AB9-983B-4688-90C0-BB0F770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EF3-86B0-4969-9BCD-4F2A5DE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EBB-181E-4632-A61D-35EFA31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A88F-4299-4B50-BD4D-2096E7D9C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фон презентац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85840" y="4643280"/>
            <a:ext cx="492912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зентация к бинарному уроку по окружающему миру и русскому язы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ителей начальных классов ГБОУ гимназии №157 г. 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юбом Таисии Александров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азоновой Виктории Александров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493560" y="1225440"/>
            <a:ext cx="8352000" cy="17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1655640" cy="882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684360" y="1484280"/>
            <a:ext cx="1655640" cy="84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4"/>
          <a:stretch/>
        </p:blipFill>
        <p:spPr>
          <a:xfrm>
            <a:off x="684360" y="2708280"/>
            <a:ext cx="1655640" cy="92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5"/>
          <a:stretch/>
        </p:blipFill>
        <p:spPr>
          <a:xfrm>
            <a:off x="684360" y="4005360"/>
            <a:ext cx="1655640" cy="93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6"/>
          <a:stretch/>
        </p:blipFill>
        <p:spPr>
          <a:xfrm>
            <a:off x="684360" y="5445000"/>
            <a:ext cx="1657080" cy="8953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2" descr="лось.jpg"/>
          <p:cNvPicPr/>
          <p:nvPr/>
        </p:nvPicPr>
        <p:blipFill>
          <a:blip r:embed="rId7"/>
          <a:stretch/>
        </p:blipFill>
        <p:spPr>
          <a:xfrm>
            <a:off x="9429840" y="212760"/>
            <a:ext cx="2814480" cy="2089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3" descr="ворона.jpg"/>
          <p:cNvPicPr/>
          <p:nvPr/>
        </p:nvPicPr>
        <p:blipFill>
          <a:blip r:embed="rId8"/>
          <a:stretch/>
        </p:blipFill>
        <p:spPr>
          <a:xfrm>
            <a:off x="9501120" y="10717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4" descr="заяц..jpg"/>
          <p:cNvPicPr/>
          <p:nvPr/>
        </p:nvPicPr>
        <p:blipFill>
          <a:blip r:embed="rId9"/>
          <a:stretch/>
        </p:blipFill>
        <p:spPr>
          <a:xfrm>
            <a:off x="9715680" y="2000160"/>
            <a:ext cx="2143080" cy="20192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5" descr="мышь.jpg"/>
          <p:cNvPicPr/>
          <p:nvPr/>
        </p:nvPicPr>
        <p:blipFill>
          <a:blip r:embed="rId10"/>
          <a:stretch/>
        </p:blipFill>
        <p:spPr>
          <a:xfrm>
            <a:off x="9858240" y="3429000"/>
            <a:ext cx="165744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6" descr="белка копия.png"/>
          <p:cNvPicPr/>
          <p:nvPr/>
        </p:nvPicPr>
        <p:blipFill>
          <a:blip r:embed="rId11"/>
          <a:stretch/>
        </p:blipFill>
        <p:spPr>
          <a:xfrm>
            <a:off x="9144000" y="4775040"/>
            <a:ext cx="15717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1.11111E-006 L -0.8342 -0.48796 E">
                                      <p:cBhvr>
                                        <p:cTn id="207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-0.56163 -0.19097 E">
                                      <p:cBhvr>
                                        <p:cTn id="21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69566 0.18194 E">
                                      <p:cBhvr>
                                        <p:cTn id="21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4915 -0.18009 E">
                                      <p:cBhvr>
                                        <p:cTn id="21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-0.71649 0.65278 E">
                                      <p:cBhvr>
                                        <p:cTn id="22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де ночуют птиц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17440" y="107172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721080" y="1071720"/>
            <a:ext cx="19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чу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646720" y="1071720"/>
            <a:ext cx="180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4438440" y="1071720"/>
            <a:ext cx="204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6504120" y="1071720"/>
            <a:ext cx="48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7222680" y="1071720"/>
            <a:ext cx="175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щ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47240" y="1785960"/>
            <a:ext cx="14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2724480" y="1785960"/>
            <a:ext cx="30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крыв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5797080" y="1785960"/>
            <a:ext cx="205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69360" y="2500200"/>
            <a:ext cx="26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ыш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4197240" y="3214800"/>
            <a:ext cx="206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ух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289080" y="321480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793440" y="3214800"/>
            <a:ext cx="203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ыря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2922840" y="3214800"/>
            <a:ext cx="132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не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292680" y="4071960"/>
            <a:ext cx="11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1504440" y="407196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рк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3505680" y="407196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4599000" y="4071960"/>
            <a:ext cx="268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неж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1"/>
          <p:cNvSpPr/>
          <p:nvPr/>
        </p:nvSpPr>
        <p:spPr>
          <a:xfrm>
            <a:off x="7223040" y="4071960"/>
            <a:ext cx="166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22" descr="глухарь.jpg"/>
          <p:cNvPicPr/>
          <p:nvPr/>
        </p:nvPicPr>
        <p:blipFill>
          <a:blip r:embed="rId1"/>
          <a:stretch/>
        </p:blipFill>
        <p:spPr>
          <a:xfrm>
            <a:off x="3139920" y="4705200"/>
            <a:ext cx="2548080" cy="21592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3" descr="ворона.jpg"/>
          <p:cNvPicPr/>
          <p:nvPr/>
        </p:nvPicPr>
        <p:blipFill>
          <a:blip r:embed="rId2"/>
          <a:stretch/>
        </p:blipFill>
        <p:spPr>
          <a:xfrm>
            <a:off x="133200" y="4761000"/>
            <a:ext cx="2799000" cy="21034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4" descr="синица.jpg"/>
          <p:cNvPicPr/>
          <p:nvPr/>
        </p:nvPicPr>
        <p:blipFill>
          <a:blip r:embed="rId3"/>
          <a:stretch/>
        </p:blipFill>
        <p:spPr>
          <a:xfrm>
            <a:off x="5711760" y="4675320"/>
            <a:ext cx="3273480" cy="21891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5"/>
          <p:cNvSpPr/>
          <p:nvPr/>
        </p:nvSpPr>
        <p:spPr>
          <a:xfrm>
            <a:off x="1640520" y="1785960"/>
            <a:ext cx="10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46458 3.33333E-006 E">
                                      <p:cBhvr>
                                        <p:cTn id="22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86 1.48148E-006 L 0.18282 0.00417 E">
                                      <p:cBhvr>
                                        <p:cTn id="23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1532E-007 L 0.45955 0.00417 E">
                                      <p:cBhvr>
                                        <p:cTn id="23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25191 4.81481E-006 E">
                                      <p:cBhvr>
                                        <p:cTn id="23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0417 L 0.03021 0.00417 E">
                                      <p:cBhvr>
                                        <p:cTn id="23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-0.63229 0.01551 E">
                                      <p:cBhvr>
                                        <p:cTn id="24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81481E-006 L 0.11597 0.0155 E">
                                      <p:cBhvr>
                                        <p:cTn id="24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77 0.00973 L 0.21545 0.01482 E">
                                      <p:cBhvr>
                                        <p:cTn id="24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49 0.00509 L 0.58455 0.0155 E">
                                      <p:cBhvr>
                                        <p:cTn id="24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69 -0.00371 L -0.44983 -0.00371 E">
                                      <p:cBhvr>
                                        <p:cTn id="25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L 0.15747 3.7037E-007 E">
                                      <p:cBhvr>
                                        <p:cTn id="25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-0.01042 L 0.43212 -0.00371 E">
                                      <p:cBhvr>
                                        <p:cTn id="25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15 1.48148E-006 L 0.19653 -0.00371 E">
                                      <p:cBhvr>
                                        <p:cTn id="25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L -0.37014 -7.40741E-007 E">
                                      <p:cBhvr>
                                        <p:cTn id="261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-0.63004 -7.40741E-007 E">
                                      <p:cBhvr>
                                        <p:cTn id="263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0.34514 -0.00278 E">
                                      <p:cBhvr>
                                        <p:cTn id="26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8148E-006 L 0.62726 -0.00278 E">
                                      <p:cBhvr>
                                        <p:cTn id="26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0_662f7_9cff57fa_L.jpg"/>
          <p:cNvPicPr/>
          <p:nvPr/>
        </p:nvPicPr>
        <p:blipFill>
          <a:blip r:embed="rId1"/>
          <a:stretch/>
        </p:blipFill>
        <p:spPr>
          <a:xfrm>
            <a:off x="-285840" y="-428760"/>
            <a:ext cx="9429840" cy="80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5" descr="ктони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чтони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жив и нежив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-324000" y="-316080"/>
            <a:ext cx="9792000" cy="7490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ая соединительная линия 5"/>
          <p:cNvSpPr/>
          <p:nvPr/>
        </p:nvSpPr>
        <p:spPr>
          <a:xfrm>
            <a:off x="1213560" y="3357720"/>
            <a:ext cx="66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6"/>
          <p:cNvSpPr/>
          <p:nvPr/>
        </p:nvSpPr>
        <p:spPr>
          <a:xfrm>
            <a:off x="1213560" y="2214720"/>
            <a:ext cx="66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7"/>
          <p:cNvSpPr/>
          <p:nvPr/>
        </p:nvSpPr>
        <p:spPr>
          <a:xfrm>
            <a:off x="1213560" y="4500720"/>
            <a:ext cx="66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8"/>
          <p:cNvSpPr/>
          <p:nvPr/>
        </p:nvSpPr>
        <p:spPr>
          <a:xfrm>
            <a:off x="1213560" y="3929040"/>
            <a:ext cx="66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213560" y="5072040"/>
            <a:ext cx="66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>
            <a:off x="1213560" y="1643040"/>
            <a:ext cx="66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>
            <a:off x="1213560" y="2786040"/>
            <a:ext cx="66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3"/>
          <p:cNvSpPr/>
          <p:nvPr/>
        </p:nvSpPr>
        <p:spPr>
          <a:xfrm>
            <a:off x="4535640" y="1071720"/>
            <a:ext cx="0" cy="45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4"/>
          <p:cNvSpPr/>
          <p:nvPr/>
        </p:nvSpPr>
        <p:spPr>
          <a:xfrm>
            <a:off x="5357880" y="1071720"/>
            <a:ext cx="0" cy="45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5"/>
          <p:cNvSpPr/>
          <p:nvPr/>
        </p:nvSpPr>
        <p:spPr>
          <a:xfrm>
            <a:off x="7000920" y="1071720"/>
            <a:ext cx="0" cy="45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6"/>
          <p:cNvSpPr/>
          <p:nvPr/>
        </p:nvSpPr>
        <p:spPr>
          <a:xfrm>
            <a:off x="6143760" y="1071720"/>
            <a:ext cx="0" cy="45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0"/>
          <p:cNvSpPr/>
          <p:nvPr/>
        </p:nvSpPr>
        <p:spPr>
          <a:xfrm>
            <a:off x="2071800" y="1071720"/>
            <a:ext cx="0" cy="45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1"/>
          <p:cNvSpPr/>
          <p:nvPr/>
        </p:nvSpPr>
        <p:spPr>
          <a:xfrm>
            <a:off x="3786120" y="1071720"/>
            <a:ext cx="0" cy="45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3"/>
          <p:cNvSpPr/>
          <p:nvPr/>
        </p:nvSpPr>
        <p:spPr>
          <a:xfrm>
            <a:off x="2928960" y="1071720"/>
            <a:ext cx="0" cy="45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5433120" y="37861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3004200" y="4929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3861720" y="92880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4"/>
          <p:cNvSpPr/>
          <p:nvPr/>
        </p:nvSpPr>
        <p:spPr>
          <a:xfrm>
            <a:off x="3861360" y="1500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5"/>
          <p:cNvSpPr/>
          <p:nvPr/>
        </p:nvSpPr>
        <p:spPr>
          <a:xfrm>
            <a:off x="1361160" y="26431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6"/>
          <p:cNvSpPr/>
          <p:nvPr/>
        </p:nvSpPr>
        <p:spPr>
          <a:xfrm>
            <a:off x="7147440" y="2643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7"/>
          <p:cNvSpPr/>
          <p:nvPr/>
        </p:nvSpPr>
        <p:spPr>
          <a:xfrm>
            <a:off x="2218320" y="9288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3076200" y="928800"/>
            <a:ext cx="6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6218640" y="3786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7148520" y="378612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1"/>
          <p:cNvSpPr/>
          <p:nvPr/>
        </p:nvSpPr>
        <p:spPr>
          <a:xfrm>
            <a:off x="4647240" y="9288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4647240" y="15001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61160" y="3214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4"/>
          <p:cNvSpPr/>
          <p:nvPr/>
        </p:nvSpPr>
        <p:spPr>
          <a:xfrm>
            <a:off x="2218320" y="4357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4647240" y="2071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6"/>
          <p:cNvSpPr/>
          <p:nvPr/>
        </p:nvSpPr>
        <p:spPr>
          <a:xfrm>
            <a:off x="3075120" y="1500120"/>
            <a:ext cx="53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7"/>
          <p:cNvSpPr/>
          <p:nvPr/>
        </p:nvSpPr>
        <p:spPr>
          <a:xfrm>
            <a:off x="6290640" y="49291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7147800" y="3214800"/>
            <a:ext cx="53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9"/>
          <p:cNvSpPr/>
          <p:nvPr/>
        </p:nvSpPr>
        <p:spPr>
          <a:xfrm>
            <a:off x="5432400" y="928800"/>
            <a:ext cx="53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0"/>
          <p:cNvSpPr/>
          <p:nvPr/>
        </p:nvSpPr>
        <p:spPr>
          <a:xfrm>
            <a:off x="5433120" y="1500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1"/>
          <p:cNvSpPr/>
          <p:nvPr/>
        </p:nvSpPr>
        <p:spPr>
          <a:xfrm>
            <a:off x="1361160" y="37861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2"/>
          <p:cNvSpPr/>
          <p:nvPr/>
        </p:nvSpPr>
        <p:spPr>
          <a:xfrm>
            <a:off x="2218320" y="3786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3"/>
          <p:cNvSpPr/>
          <p:nvPr/>
        </p:nvSpPr>
        <p:spPr>
          <a:xfrm>
            <a:off x="3004200" y="2643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4"/>
          <p:cNvSpPr/>
          <p:nvPr/>
        </p:nvSpPr>
        <p:spPr>
          <a:xfrm>
            <a:off x="3075840" y="20718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5"/>
          <p:cNvSpPr/>
          <p:nvPr/>
        </p:nvSpPr>
        <p:spPr>
          <a:xfrm>
            <a:off x="1361160" y="1500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7076160" y="2071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7"/>
          <p:cNvSpPr/>
          <p:nvPr/>
        </p:nvSpPr>
        <p:spPr>
          <a:xfrm>
            <a:off x="6148800" y="928800"/>
            <a:ext cx="80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8"/>
          <p:cNvSpPr/>
          <p:nvPr/>
        </p:nvSpPr>
        <p:spPr>
          <a:xfrm>
            <a:off x="5433120" y="2071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9"/>
          <p:cNvSpPr/>
          <p:nvPr/>
        </p:nvSpPr>
        <p:spPr>
          <a:xfrm>
            <a:off x="5433120" y="2643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0"/>
          <p:cNvSpPr/>
          <p:nvPr/>
        </p:nvSpPr>
        <p:spPr>
          <a:xfrm>
            <a:off x="3075840" y="3786120"/>
            <a:ext cx="5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1"/>
          <p:cNvSpPr/>
          <p:nvPr/>
        </p:nvSpPr>
        <p:spPr>
          <a:xfrm>
            <a:off x="3075480" y="43578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2"/>
          <p:cNvSpPr/>
          <p:nvPr/>
        </p:nvSpPr>
        <p:spPr>
          <a:xfrm>
            <a:off x="3861360" y="2071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3"/>
          <p:cNvSpPr/>
          <p:nvPr/>
        </p:nvSpPr>
        <p:spPr>
          <a:xfrm>
            <a:off x="1361160" y="2071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4"/>
          <p:cNvSpPr/>
          <p:nvPr/>
        </p:nvSpPr>
        <p:spPr>
          <a:xfrm>
            <a:off x="2219400" y="20718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5"/>
          <p:cNvSpPr/>
          <p:nvPr/>
        </p:nvSpPr>
        <p:spPr>
          <a:xfrm>
            <a:off x="6290640" y="1500120"/>
            <a:ext cx="53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6"/>
          <p:cNvSpPr/>
          <p:nvPr/>
        </p:nvSpPr>
        <p:spPr>
          <a:xfrm>
            <a:off x="7147440" y="1500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7"/>
          <p:cNvSpPr/>
          <p:nvPr/>
        </p:nvSpPr>
        <p:spPr>
          <a:xfrm>
            <a:off x="2147400" y="321480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8"/>
          <p:cNvSpPr/>
          <p:nvPr/>
        </p:nvSpPr>
        <p:spPr>
          <a:xfrm>
            <a:off x="6291360" y="20718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9"/>
          <p:cNvSpPr/>
          <p:nvPr/>
        </p:nvSpPr>
        <p:spPr>
          <a:xfrm>
            <a:off x="3076560" y="32148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0"/>
          <p:cNvSpPr/>
          <p:nvPr/>
        </p:nvSpPr>
        <p:spPr>
          <a:xfrm>
            <a:off x="3861000" y="2643120"/>
            <a:ext cx="53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1"/>
          <p:cNvSpPr/>
          <p:nvPr/>
        </p:nvSpPr>
        <p:spPr>
          <a:xfrm>
            <a:off x="4647240" y="26431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5433120" y="32148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5"/>
          <p:cNvSpPr/>
          <p:nvPr/>
        </p:nvSpPr>
        <p:spPr>
          <a:xfrm>
            <a:off x="2218320" y="2643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6"/>
          <p:cNvSpPr/>
          <p:nvPr/>
        </p:nvSpPr>
        <p:spPr>
          <a:xfrm>
            <a:off x="3862080" y="321480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8"/>
          <p:cNvSpPr/>
          <p:nvPr/>
        </p:nvSpPr>
        <p:spPr>
          <a:xfrm>
            <a:off x="1289880" y="4357800"/>
            <a:ext cx="5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1"/>
          <p:cNvSpPr/>
          <p:nvPr/>
        </p:nvSpPr>
        <p:spPr>
          <a:xfrm>
            <a:off x="3861720" y="4929120"/>
            <a:ext cx="5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2"/>
          <p:cNvSpPr/>
          <p:nvPr/>
        </p:nvSpPr>
        <p:spPr>
          <a:xfrm>
            <a:off x="4718160" y="4929120"/>
            <a:ext cx="53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3"/>
          <p:cNvSpPr/>
          <p:nvPr/>
        </p:nvSpPr>
        <p:spPr>
          <a:xfrm>
            <a:off x="4647240" y="3214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4"/>
          <p:cNvSpPr/>
          <p:nvPr/>
        </p:nvSpPr>
        <p:spPr>
          <a:xfrm>
            <a:off x="6289920" y="2643120"/>
            <a:ext cx="53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5"/>
          <p:cNvSpPr/>
          <p:nvPr/>
        </p:nvSpPr>
        <p:spPr>
          <a:xfrm>
            <a:off x="3862440" y="43578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6"/>
          <p:cNvSpPr/>
          <p:nvPr/>
        </p:nvSpPr>
        <p:spPr>
          <a:xfrm>
            <a:off x="2218320" y="4929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1"/>
          <p:cNvSpPr/>
          <p:nvPr/>
        </p:nvSpPr>
        <p:spPr>
          <a:xfrm>
            <a:off x="5504040" y="4857840"/>
            <a:ext cx="53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6"/>
          <p:cNvSpPr/>
          <p:nvPr/>
        </p:nvSpPr>
        <p:spPr>
          <a:xfrm>
            <a:off x="2218680" y="15001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7"/>
          <p:cNvSpPr/>
          <p:nvPr/>
        </p:nvSpPr>
        <p:spPr>
          <a:xfrm>
            <a:off x="6290280" y="3214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8"/>
          <p:cNvSpPr/>
          <p:nvPr/>
        </p:nvSpPr>
        <p:spPr>
          <a:xfrm>
            <a:off x="6291360" y="43578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9"/>
          <p:cNvSpPr/>
          <p:nvPr/>
        </p:nvSpPr>
        <p:spPr>
          <a:xfrm>
            <a:off x="7077240" y="4357800"/>
            <a:ext cx="72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1"/>
          <p:cNvSpPr/>
          <p:nvPr/>
        </p:nvSpPr>
        <p:spPr>
          <a:xfrm>
            <a:off x="5433120" y="435780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88"/>
          <p:cNvSpPr/>
          <p:nvPr/>
        </p:nvSpPr>
        <p:spPr>
          <a:xfrm>
            <a:off x="1214280" y="16430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04"/>
          <p:cNvSpPr/>
          <p:nvPr/>
        </p:nvSpPr>
        <p:spPr>
          <a:xfrm>
            <a:off x="7858080" y="16430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06"/>
          <p:cNvSpPr/>
          <p:nvPr/>
        </p:nvSpPr>
        <p:spPr>
          <a:xfrm>
            <a:off x="2071800" y="1071720"/>
            <a:ext cx="4929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11"/>
          <p:cNvSpPr/>
          <p:nvPr/>
        </p:nvSpPr>
        <p:spPr>
          <a:xfrm>
            <a:off x="2071800" y="5643720"/>
            <a:ext cx="4929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0"/>
          <p:cNvSpPr/>
          <p:nvPr/>
        </p:nvSpPr>
        <p:spPr>
          <a:xfrm>
            <a:off x="2934000" y="0"/>
            <a:ext cx="300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7"/>
          <p:cNvSpPr/>
          <p:nvPr/>
        </p:nvSpPr>
        <p:spPr>
          <a:xfrm>
            <a:off x="3933720" y="378612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9"/>
          <p:cNvSpPr/>
          <p:nvPr/>
        </p:nvSpPr>
        <p:spPr>
          <a:xfrm>
            <a:off x="4647960" y="378612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0"/>
          <p:cNvSpPr/>
          <p:nvPr/>
        </p:nvSpPr>
        <p:spPr>
          <a:xfrm>
            <a:off x="4714920" y="4357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221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221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221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08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-96840" y="31680"/>
            <a:ext cx="9248760" cy="70293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348560" y="642960"/>
            <a:ext cx="15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9"/>
          <p:cNvSpPr/>
          <p:nvPr/>
        </p:nvSpPr>
        <p:spPr>
          <a:xfrm>
            <a:off x="5719320" y="571680"/>
            <a:ext cx="15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767760" y="824040"/>
            <a:ext cx="13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Сне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369600" y="1216080"/>
            <a:ext cx="209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Лис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722760" y="4203720"/>
            <a:ext cx="174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Вью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3429000" y="1654200"/>
            <a:ext cx="19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Сугр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3758040" y="2082960"/>
            <a:ext cx="15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Ин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3290040" y="3759120"/>
            <a:ext cx="256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Медве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3440520" y="2498760"/>
            <a:ext cx="209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В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3486600" y="2894040"/>
            <a:ext cx="214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Ме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4078080" y="3343320"/>
            <a:ext cx="89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Ё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3189240" y="4638600"/>
            <a:ext cx="24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Вороб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0" y="55720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Одушевлё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4866120" y="550080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Неодушевлён</a:t>
            </a: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44444E-006 L 0.25069 0.06736 E">
                                      <p:cBhvr>
                                        <p:cTn id="14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0.27413 0.03125 E">
                                      <p:cBhvr>
                                        <p:cTn id="14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25295 0.04097 E">
                                      <p:cBhvr>
                                        <p:cTn id="15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0.24166 0.06227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-0.29011 -0.07176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24566 0.04907 E">
                                      <p:cBhvr>
                                        <p:cTn id="16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3333E-006 L -0.30226 -0.08982 E">
                                      <p:cBhvr>
                                        <p:cTn id="16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0.0838 L 0.23924 -0.01597 E">
                                      <p:cBhvr>
                                        <p:cTn id="17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-0.29948 -0.05601 E">
                                      <p:cBhvr>
                                        <p:cTn id="17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29045 -0.0794 E">
                                      <p:cBhvr>
                                        <p:cTn id="18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-324000" y="-316080"/>
            <a:ext cx="9792000" cy="749016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428760" y="150012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ff0000"/>
                </a:solidFill>
                <a:latin typeface="Calibri"/>
              </a:rPr>
              <a:t>Имя существительное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4"/>
          <p:cNvCxnSpPr/>
          <p:nvPr/>
        </p:nvCxnSpPr>
        <p:spPr>
          <a:xfrm flipH="1">
            <a:off x="1499760" y="2642040"/>
            <a:ext cx="26438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Прямая со стрелкой 5"/>
          <p:cNvCxnSpPr/>
          <p:nvPr/>
        </p:nvCxnSpPr>
        <p:spPr>
          <a:xfrm>
            <a:off x="4285800" y="2642760"/>
            <a:ext cx="242964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Box 6"/>
          <p:cNvSpPr/>
          <p:nvPr/>
        </p:nvSpPr>
        <p:spPr>
          <a:xfrm>
            <a:off x="570240" y="3143160"/>
            <a:ext cx="193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то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936040" y="321480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Что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3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8" descr="указатель.png"/>
          <p:cNvPicPr/>
          <p:nvPr/>
        </p:nvPicPr>
        <p:blipFill>
          <a:blip r:embed="rId2"/>
          <a:stretch/>
        </p:blipFill>
        <p:spPr>
          <a:xfrm>
            <a:off x="2322360" y="0"/>
            <a:ext cx="4499280" cy="72867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указатель 2.png"/>
          <p:cNvPicPr/>
          <p:nvPr/>
        </p:nvPicPr>
        <p:blipFill>
          <a:blip r:embed="rId3"/>
          <a:stretch/>
        </p:blipFill>
        <p:spPr>
          <a:xfrm>
            <a:off x="857160" y="571680"/>
            <a:ext cx="7328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4:21:32Z</dcterms:created>
  <dc:creator>Викуся</dc:creator>
  <dc:description/>
  <dc:language>en-US</dc:language>
  <cp:lastModifiedBy>Викуся</cp:lastModifiedBy>
  <dcterms:modified xsi:type="dcterms:W3CDTF">2012-11-11T08:50:13Z</dcterms:modified>
  <cp:revision>166</cp:revision>
  <dc:subject/>
  <dc:title>Слайд 1</dc:title>
</cp:coreProperties>
</file>