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81D0-ECA4-4392-912C-A969D61B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124B-CB14-4C8A-897A-A90F81A3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DE6E-25A5-40E2-8B50-AE33FB10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119B-AEFF-40FA-A138-CB22726F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30FF-FBBC-41B0-8A2A-23C8DA21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F0BB-5B9E-4F7E-BB9E-0177CBDB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1C65-9AAA-4394-A4E8-E4275B1B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56E7-37FA-4E90-A7A3-E14FC211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2D4D-3206-4ACE-B8EF-5FC3A22F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4B54-31C0-4452-B19C-59AD68AD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A40D-1334-46C9-A6B4-704874FB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F1A6-17CB-469B-8EB8-C319F7A6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FC51-2A54-4997-AE4F-699DD7C8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1B9A-4220-4A09-907A-A687488D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B6DA-FCB8-4CC9-80DB-A076AD98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3B05-EAAC-4EDD-9D33-47FC59E0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3BCA-EABC-4743-9920-D851613B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796B-93A8-4755-AA2C-549C7596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B8A7-DD24-42AC-823D-DB042244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E26F-8E4A-4AB5-9125-14F1DF80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96C7-F70A-499B-9BD7-9A4B6B28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9446-E6C3-4ACC-B98B-F8C6A507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0AD2-1C3F-4CBE-8CE1-9BF42E5B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B539-689D-42CB-8CAB-2A05B793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6361-123F-4DEA-A16F-6DAC1F0B56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EC25-DB74-4CB5-80C0-CC52D4487C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632720" cy="460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9640" y="486900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Швецова Ю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48360" y="23328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Осенний листоп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26560" y="5734080"/>
            <a:ext cx="445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боты выполнены учениками 1 «Б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БОУ «СОШ» пгт. Войво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итель: Суханова Д.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3382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0920" y="3645000"/>
            <a:ext cx="8712000" cy="3024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156360" y="587520"/>
            <a:ext cx="2982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5516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лейник Алекс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6381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5080" y="47242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Лысова По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720" y="31417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тепанов Оле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88000" y="2781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уркина Наст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3640" y="2708280"/>
            <a:ext cx="17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улешов Дани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16360" y="587700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творова Маш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36000" y="6491160"/>
            <a:ext cx="17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амохин Ма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89000"/>
            <a:ext cx="80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8642160" cy="3311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5394240"/>
            <a:ext cx="24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Мациевская Ди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67280" y="6257880"/>
            <a:ext cx="18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Люфт Наст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51480" y="5157720"/>
            <a:ext cx="17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Баранова Наст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8640720" cy="3141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565440" y="14130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биулин Макс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18520" y="256536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ньковец Никол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249228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скаленко Славя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27082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имофеева А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7:22:55Z</dcterms:created>
  <dc:creator>Диана</dc:creator>
  <dc:description/>
  <dc:language>en-US</dc:language>
  <cp:lastModifiedBy>Диана</cp:lastModifiedBy>
  <dcterms:modified xsi:type="dcterms:W3CDTF">2012-11-11T17:00:24Z</dcterms:modified>
  <cp:revision>7</cp:revision>
  <dc:subject/>
  <dc:title>Слайд 1</dc:title>
</cp:coreProperties>
</file>