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6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85A5-F57C-4A35-9252-2E012E185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8EA1-F2AC-472E-9B30-1511B85E9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86B9-BF2C-4387-8162-ACC62A29C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16EC-0002-40B8-8D51-7E76E7CD4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E1D9-0696-4CFF-B383-D51AA3E86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4F2C-4299-47D3-821C-074ECA184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C652-A2B7-4342-9814-2BFC6CDCB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365F-0945-4C50-9103-89B3540EB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5E42-4E34-433F-A672-8F4F7F905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D2F8-E0B2-47CB-A022-A71C56EE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1093-4D52-4151-AB15-532A4225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FBC7-45A2-4838-9D2C-E7B94699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99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67F9F-96F6-4CCB-B567-F33BB00B27E2}" type="slidenum">
              <a:rPr b="0" lang="ru-RU" sz="14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Федеральное государственное военное образовательное учреждение высшего профессионального образования «Военно-медицинская академия имени С.М. Кирова» </a:t>
            </a:r>
            <a:br>
              <a:rPr sz="1600"/>
            </a:br>
            <a:r>
              <a:rPr b="0" lang="ru-RU" sz="16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Министерства обороны Российской Федерации</a:t>
            </a:r>
            <a:br>
              <a:rPr sz="1600"/>
            </a:b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МЕДИЦИНА ПЕРВОБЫТНОГО ОБЩЕСТВА</a:t>
            </a:r>
            <a:endParaRPr b="0" lang="en-US" sz="5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6215040" y="5786280"/>
            <a:ext cx="25718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9900"/>
                </a:solidFill>
                <a:latin typeface="Times New Roman"/>
              </a:rPr>
              <a:t>Преподаватель:.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9900"/>
                </a:solidFill>
                <a:latin typeface="Times New Roman"/>
              </a:rPr>
              <a:t>Левковская Е.Н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8360" y="57337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Излечение шаманом соплеменников – ритуал, 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аналог современного посещения поликлиники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68" name="Picture 7" descr="000h4z28"/>
          <p:cNvPicPr/>
          <p:nvPr/>
        </p:nvPicPr>
        <p:blipFill>
          <a:blip r:embed="rId1"/>
          <a:stretch/>
        </p:blipFill>
        <p:spPr>
          <a:xfrm>
            <a:off x="1187280" y="476280"/>
            <a:ext cx="684072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ИНТЕРЕСНЫЕ НАХОДКИ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6176880"/>
            <a:ext cx="8229600" cy="6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Ранее  полагали что первобытные люди были самыми здоровыми, но это далеко не так…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71" name="Picture 8" descr=""/>
          <p:cNvPicPr/>
          <p:nvPr/>
        </p:nvPicPr>
        <p:blipFill>
          <a:blip r:embed="rId1"/>
          <a:stretch/>
        </p:blipFill>
        <p:spPr>
          <a:xfrm>
            <a:off x="1547640" y="1268280"/>
            <a:ext cx="1667160" cy="4680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"/>
          <p:cNvPicPr/>
          <p:nvPr/>
        </p:nvPicPr>
        <p:blipFill>
          <a:blip r:embed="rId2"/>
          <a:stretch/>
        </p:blipFill>
        <p:spPr>
          <a:xfrm>
            <a:off x="4284720" y="1413000"/>
            <a:ext cx="339084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Патологии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327672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Врожденные аномалии костей у первобытных людей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1"/>
          <a:stretch/>
        </p:blipFill>
        <p:spPr>
          <a:xfrm>
            <a:off x="3564000" y="1052640"/>
            <a:ext cx="5580000" cy="51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ЛЮБОПЫТНЫЕ ФАКТЫ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В каменном веке аборигены Австралии, широко используя флору и фауну своего континента, применяли </a:t>
            </a:r>
            <a:r>
              <a:rPr b="0" lang="ru-RU" sz="3200" spc="-1" strike="noStrike" u="sng">
                <a:solidFill>
                  <a:srgbClr val="ff9900"/>
                </a:solidFill>
                <a:uFillTx/>
                <a:latin typeface="Arial"/>
              </a:rPr>
              <a:t>для лечения нарушений пищеварения</a:t>
            </a: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касторовое масло</a:t>
            </a: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, </a:t>
            </a: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эвкалиптовую смолу</a:t>
            </a: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 и </a:t>
            </a: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луковицы орхидеи</a:t>
            </a: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; </a:t>
            </a:r>
            <a:r>
              <a:rPr b="0" lang="ru-RU" sz="3200" spc="-1" strike="noStrike" u="sng">
                <a:solidFill>
                  <a:srgbClr val="ff9900"/>
                </a:solidFill>
                <a:uFillTx/>
                <a:latin typeface="Arial"/>
              </a:rPr>
              <a:t>останавливали кровотечение</a:t>
            </a: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 при помощи </a:t>
            </a: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паутины, золы или жира игуаны</a:t>
            </a: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; </a:t>
            </a:r>
            <a:r>
              <a:rPr b="0" lang="ru-RU" sz="3200" spc="-1" strike="noStrike" u="sng">
                <a:solidFill>
                  <a:srgbClr val="ff9900"/>
                </a:solidFill>
                <a:uFillTx/>
                <a:latin typeface="Arial"/>
              </a:rPr>
              <a:t>при змеиных укусах</a:t>
            </a: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высасывали кровь</a:t>
            </a: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 и </a:t>
            </a: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прижигали рану</a:t>
            </a: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; </a:t>
            </a:r>
            <a:r>
              <a:rPr b="0" lang="ru-RU" sz="3200" spc="-1" strike="noStrike" u="sng">
                <a:solidFill>
                  <a:srgbClr val="ff9900"/>
                </a:solidFill>
                <a:uFillTx/>
                <a:latin typeface="Arial"/>
              </a:rPr>
              <a:t>при заболеваниях кожи</a:t>
            </a: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 делали </a:t>
            </a: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промывание мочой</a:t>
            </a: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 и </a:t>
            </a: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прикладывали глину</a:t>
            </a: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ЛЮБОПЫТНЫЕ ФАКТЫ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785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Первобытные врачеватели владели также и приемами оперативного лечения: </a:t>
            </a:r>
            <a:r>
              <a:rPr b="0" lang="ru-RU" sz="2800" spc="-1" strike="noStrike" u="sng">
                <a:solidFill>
                  <a:srgbClr val="ff9900"/>
                </a:solidFill>
                <a:uFillTx/>
                <a:latin typeface="Arial"/>
              </a:rPr>
              <a:t>обрабатывали раны лекарствами, приготовленными из растений, минералов и частей животных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; </a:t>
            </a:r>
            <a:r>
              <a:rPr b="0" i="1" lang="ru-RU" sz="2800" spc="-1" strike="noStrike">
                <a:solidFill>
                  <a:srgbClr val="ff9900"/>
                </a:solidFill>
                <a:latin typeface="Arial"/>
              </a:rPr>
              <a:t>применяли «шины» при переломах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; </a:t>
            </a:r>
            <a:r>
              <a:rPr b="0" lang="ru-RU" sz="2800" spc="-1" strike="noStrike" u="sng">
                <a:solidFill>
                  <a:srgbClr val="ff9900"/>
                </a:solidFill>
                <a:uFillTx/>
                <a:latin typeface="Arial"/>
              </a:rPr>
              <a:t>умели делать кровопускания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, используя колючки и шипы растений, рыбью чешую, каменные и костяные ножи. 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В Новой Гвинее, например, первобытные врачеватели синполитейных племен </a:t>
            </a:r>
            <a:r>
              <a:rPr b="0" lang="ru-RU" sz="2800" spc="-1" strike="noStrike" u="sng">
                <a:solidFill>
                  <a:srgbClr val="ff9900"/>
                </a:solidFill>
                <a:uFillTx/>
                <a:latin typeface="Arial"/>
              </a:rPr>
              <a:t>вскрывали вену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 при помощи мелких стрел, которые они пускали с близкого расстояния из туго натянутого лука.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ЛЮБОПЫТНЫЕ ФАКТЫ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8920" y="907920"/>
            <a:ext cx="8713800" cy="16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Первые религиозные представления тотемизм, фетишизм, анимизм, магия, которые отразились и на приемах врачевания. 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6084720" y="4724280"/>
            <a:ext cx="2806920" cy="1909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2700360" y="3429000"/>
            <a:ext cx="3168720" cy="2376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324000" y="4292640"/>
            <a:ext cx="2171520" cy="2157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"/>
          <p:cNvPicPr/>
          <p:nvPr/>
        </p:nvPicPr>
        <p:blipFill>
          <a:blip r:embed="rId4"/>
          <a:stretch/>
        </p:blipFill>
        <p:spPr>
          <a:xfrm>
            <a:off x="6084720" y="2133720"/>
            <a:ext cx="254340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наете ли вы?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Палеопатологи отметили наличие у первобытного человека </a:t>
            </a: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сердечнососудистых заболеваний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. </a:t>
            </a:r>
            <a:r>
              <a:rPr b="0" lang="ru-RU" sz="2800" spc="-1" strike="noStrike" u="sng">
                <a:solidFill>
                  <a:srgbClr val="ff9900"/>
                </a:solidFill>
                <a:uFillTx/>
                <a:latin typeface="Arial"/>
              </a:rPr>
              <a:t>Атеросклеротические бляшки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 обнаружены у мумий коренных жителей Северной Америки, захороненных на территории штата Кентукки в США. Древние люди умирали от </a:t>
            </a: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опухолей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, </a:t>
            </a:r>
            <a:r>
              <a:rPr b="0" lang="ru-RU" sz="2800" spc="-1" strike="noStrike" u="sng">
                <a:solidFill>
                  <a:srgbClr val="ff9900"/>
                </a:solidFill>
                <a:uFillTx/>
                <a:latin typeface="Arial"/>
              </a:rPr>
              <a:t>туберкулеза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 и даже </a:t>
            </a: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страдали кариесом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. Однако на скелетах чаще всего встречаются </a:t>
            </a:r>
            <a:r>
              <a:rPr b="0" lang="ru-RU" sz="2800" spc="-1" strike="noStrike" u="sng">
                <a:solidFill>
                  <a:srgbClr val="ff9900"/>
                </a:solidFill>
                <a:uFillTx/>
                <a:latin typeface="Arial"/>
              </a:rPr>
              <a:t>травматические дефекты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, связанные с повреждением черепа.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наете ли вы?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Ученые смогли довольно точно установить продолжительность жизни в каменном веке: 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в большинстве случаев она не превышала 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30 лет. До более зрелого возраста люди доживали в исключительных случаях. В борьбе с природой первые Homo sapiens погибали, не успевая состариться. Крайне низкая продолжительность жизни сохранялась на том же уровне вплоть до Возрождения.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Археологические расследования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4920" y="1052640"/>
            <a:ext cx="84978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9900"/>
                </a:solidFill>
                <a:latin typeface="Arial"/>
              </a:rPr>
              <a:t>Палеоантропы  уже имели определенную культуру, выражавшуюся в первых гигиенических навыках: грели воду, утепляли хижины, шили теплую одежду. Благодаря этому люди пережили ледниковый период и даже расширили ареал обитания, расселившись на обширных территориях Северной Евразии.</a:t>
            </a:r>
            <a:endParaRPr b="0" lang="en-US" sz="2600" spc="-1" strike="noStrike">
              <a:solidFill>
                <a:srgbClr val="ff99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9900"/>
                </a:solidFill>
                <a:latin typeface="Arial"/>
              </a:rPr>
              <a:t>Неандертальцы продолжали заботиться о больных, опекая даже лежачих «стариков». В пещере Ла Шапель-о-Сен найден скелет мужчины, умершего в преклонном возрасте — в 45 лет. О тяжести его физического состояния свидетельствуют такие болезни, как деформирующий артрит позвоночника, перелом бедра и артрит нижней челюсти..</a:t>
            </a:r>
            <a:endParaRPr b="0" lang="en-US" sz="26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Археологические расследования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84960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Еще более удивительными находками отмечена пещера Шанидар (Ирак). На одном из мужских черепов выявлена деформация стенки глазничной впадины, что свидетельствует о том, что человек был слеп на левый глаз. На костях скелета остались следы зажившего перелома, ярко выраженного артрита суставов. Его правая рука была ампутирована задолго до смерти и за много лет привела к дистрофии костной ткани. Будучи беспомощным калекой, шанидарский палеоантроп до 40 лет пользовался защитой сородичей. Стертые передние зубы позволяют сделать вывод о том, что он долгие годы применял их вместо утраченной руки.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бота об умерших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47880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Arial"/>
              </a:rPr>
              <a:t>В пещере Шанидар обнаружены    9 скелетов тяжелобольных людей, живших 70–40 тысяч лет назад. Все они похоронены на ложе из веток деревьев и лекарственных цветов. Веточки тысячелистника, золототысячника, крестовника, алтея, растений семейств лилейных и мальвовых были связаны в букетики и разложены вокруг тела. Перечисленные растения произрастают в современном Ираке, причем многие виды обнаружены на значительном расстоянии от пещеры Шанидар. Вероятно, «цветочные люди», как назвали их археологи, специально отправлялись в далекий путь, чтобы собирать целебные травы.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4859280" y="1484280"/>
            <a:ext cx="406728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Древняя медицинская генетика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Была основана на ряде «табу», что значит строгий запрет.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Первое табу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 на браки между братьями и сестрами (позднее и двоюродными)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Второе табу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 на браки между младшим и старшим поколением (инцест)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Кастрация особей дающих потомство с ярко выраженными аномалиями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Любое нарушение табу каралось смертью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Рождение фармакологии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43164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Развитие гончарного дела привело к изготовлению керамической посуды, применяемой для приготовления пищи, а затем — к созданию сосудов, в которых варили и хранили лечебные снадобья.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6300720" y="1341360"/>
            <a:ext cx="1979640" cy="1940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2"/>
          <a:stretch/>
        </p:blipFill>
        <p:spPr>
          <a:xfrm>
            <a:off x="5076720" y="3573360"/>
            <a:ext cx="340992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От древних времен 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до наших дней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Профилактика простудных заболеваний велась способами, известными каждому современному человеку: паровая баня, горячие компрессы, массаж.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Обрезание – выполнялось как в целях гигиены так и исходя из религиозных обрядов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В контрацепции использовались бычий пузырь или кишка – прототип презерватива; комки паутины, золотые кольца – родоначальники маточной спирали.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Афоризм дня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680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i="1" lang="ru-RU" sz="2600" spc="-1" strike="noStrike">
                <a:solidFill>
                  <a:srgbClr val="ff9900"/>
                </a:solidFill>
                <a:latin typeface="Arial"/>
              </a:rPr>
              <a:t>Если человек сам следит за своим здоровьем, то трудно найти врача, который знал бы лучше полезное для его здоровья, чем он сам.</a:t>
            </a:r>
            <a:endParaRPr b="0" lang="en-US" sz="2600" spc="-1" strike="noStrike">
              <a:solidFill>
                <a:srgbClr val="ff99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99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СОКРАТ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5292720" y="1268280"/>
            <a:ext cx="3327480" cy="51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СНОВНЫЕ ВЕХИ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462560" y="1915920"/>
            <a:ext cx="468144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Праобщина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Ранняя родовая община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Поздняя родовая община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Первобытная соседская община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4920" y="907920"/>
            <a:ext cx="828036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Ученые выделяю несколько этапов развития первобытного общества: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47" name="Picture 5" descr="34-06"/>
          <p:cNvPicPr/>
          <p:nvPr/>
        </p:nvPicPr>
        <p:blipFill>
          <a:blip r:embed="rId1"/>
          <a:stretch/>
        </p:blipFill>
        <p:spPr>
          <a:xfrm>
            <a:off x="324000" y="2349360"/>
            <a:ext cx="4038480" cy="28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Праобщина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В это период происходило: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накопление и обобщение знаний о природных лечебных средствах растительного, животного и минерального происхождения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позже - целенаправленное применение  опыта врачевания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Праобщина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8920" y="980640"/>
            <a:ext cx="482436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Именно в этот период зародились первые медико-санитарные нормы, в виде традиций таких как: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организации первых жилищ, 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добывания и поддержания огня в очаге, 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захоронения умерших вдали от жилищ остальных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52" name="Picture 5" descr="2"/>
          <p:cNvPicPr/>
          <p:nvPr/>
        </p:nvPicPr>
        <p:blipFill>
          <a:blip r:embed="rId1"/>
          <a:stretch/>
        </p:blipFill>
        <p:spPr>
          <a:xfrm>
            <a:off x="5076720" y="1125360"/>
            <a:ext cx="388296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Ранняя родовая община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Целенаправленное применение опыта коллективного врачевания в социальной практике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рациональные приемы врачевания 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зарождение "лечебной магии".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55" name="Picture 6" descr="cromagnon-rupestre"/>
          <p:cNvPicPr/>
          <p:nvPr/>
        </p:nvPicPr>
        <p:blipFill>
          <a:blip r:embed="rId1"/>
          <a:stretch/>
        </p:blipFill>
        <p:spPr>
          <a:xfrm>
            <a:off x="4932360" y="1413000"/>
            <a:ext cx="37465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Ранняя родовая община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532944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Одежды из шкур животных. Благоустройство жилищ. Зарождение верований (тотемизм, анимизм, магия).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Физические методы врачевания: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Лечение ран природными средствами, кровопускания.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Появление первых инструментов - камень, кость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зачатки анестезии -  применение наркотических растений для обезболивания 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зарождение хирургии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724000" y="3428640"/>
            <a:ext cx="324036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Arial"/>
              </a:rPr>
              <a:t>Так выглядел древний кокаин горных племен Перу и Боливии 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59" name="Picture 5" descr="ant0840939"/>
          <p:cNvPicPr/>
          <p:nvPr/>
        </p:nvPicPr>
        <p:blipFill>
          <a:blip r:embed="rId1"/>
          <a:stretch/>
        </p:blipFill>
        <p:spPr>
          <a:xfrm>
            <a:off x="5781600" y="907920"/>
            <a:ext cx="3362400" cy="2386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"/>
          <p:cNvPicPr/>
          <p:nvPr/>
        </p:nvPicPr>
        <p:blipFill>
          <a:blip r:embed="rId2"/>
          <a:stretch/>
        </p:blipFill>
        <p:spPr>
          <a:xfrm>
            <a:off x="6516720" y="4476600"/>
            <a:ext cx="23810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Поздняя родовая община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Дальнейшее развитие приемов рационального врачевания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становление культовой практики (сочетание рациональных и иррациональных приемов врачевания)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ритуальные трепанации черепа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63" name="Picture 12" descr="trepanation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Первобытная 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соседская община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465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Расширение круга лекарственных средств и приемов.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Оформление традиционных культов и методов врачевания. Ампутация конечностей.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Металлические инструменты из меди, железа и бронзы. 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Появление профессиональных служителей культа врачевания – шаманы, знахари, травники, жрецы 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66" name="Picture 6" descr="bronza"/>
          <p:cNvPicPr/>
          <p:nvPr/>
        </p:nvPicPr>
        <p:blipFill>
          <a:blip r:embed="rId1"/>
          <a:stretch/>
        </p:blipFill>
        <p:spPr>
          <a:xfrm>
            <a:off x="4859280" y="1738440"/>
            <a:ext cx="4038480" cy="41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16:35:07Z</dcterms:created>
  <dc:creator>Admin</dc:creator>
  <dc:description/>
  <dc:language>en-US</dc:language>
  <cp:lastModifiedBy>Дмитрий Каленюк</cp:lastModifiedBy>
  <dcterms:modified xsi:type="dcterms:W3CDTF">2012-11-08T18:02:17Z</dcterms:modified>
  <cp:revision>41</cp:revision>
  <dc:subject/>
  <dc:title>Слайд 1</dc:title>
</cp:coreProperties>
</file>