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26A0-284E-429F-861F-D8CF9CFD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2F95-73CC-4B07-A920-533FCEC5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14DF-D7C0-4BFC-8B84-22899A19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48F-2379-4D23-9661-D9DB4D49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14B4-52BA-4495-B418-8F6F3CF0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D0AA-75EB-446F-B132-3FE117FE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5AD3-102C-4655-B197-4DA52BA7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33E3-42D9-4996-9DF1-68FE8EA8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F24C-2C9F-4E4A-A9B0-E3160A62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F0E4-B447-4FD4-8AEE-AB3F2F97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7060-553B-40D3-B4D8-1A0D21C5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ACE0-6512-4386-B262-E6057CC4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D7F3-7285-4539-A6C0-02DE0DC2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BF66-1691-479E-80C6-B5C5C2C5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B25B-E94D-4986-A594-AA3028B7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ABF3-5B45-4F73-80F8-5E63CCC1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AE48-9857-45B8-B854-DE9E7717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B0FB-F6BA-4954-AE20-8A17CD7E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E14F-36D6-4F6C-90F2-60693057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7E80-73E6-485B-B202-67332CE4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7DC3-C317-483C-9B90-DEB88EC6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646-DB8D-4BC5-B405-7755A37C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0F81-28D5-4570-BC6A-C280D90F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D28-4770-464A-9154-7BB841E5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6C36-D924-48F4-B2DF-1652A88F22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27AE-A3B5-4C8A-A121-96FAFFF8F52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Baskerville Old Face"/>
              </a:rPr>
              <a:t>Петербург Достоевского  в романе</a:t>
            </a:r>
            <a:br>
              <a:rPr sz="4000"/>
            </a:br>
            <a:r>
              <a:rPr b="1" i="1" lang="en-US" sz="4000" spc="-1" strike="noStrike">
                <a:solidFill>
                  <a:srgbClr val="e5ffff"/>
                </a:solidFill>
                <a:latin typeface="Baskerville Old Face"/>
              </a:rPr>
              <a:t>«Преступление и наказание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Цел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казать, как изображает писатель  жизнь город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мыслить причины конфликта романа – конфликта между Раскольниковым и миром, им отрицаем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89647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Есть в «Преступлении и наказании» гениальные страниц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Роман, точно вылит, так он строен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При ограниченном числе действующих лиц кажется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что в нем тысячи и тысячи судеб несчастных людей, -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весь старый Петербург виден под этим неожиданным ракурсом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Много нагнетено «ужасов», до неестественности…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Но – силен, бес!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cc00"/>
                </a:solidFill>
                <a:latin typeface="Tahoma"/>
              </a:rPr>
              <a:t>А. Фадеев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692360" y="765000"/>
            <a:ext cx="633564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askerville Old Face"/>
              </a:rPr>
              <a:t>Петербур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71640" y="2708280"/>
          <a:ext cx="1295280" cy="36504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йзаж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771640" y="3068640"/>
          <a:ext cx="2952720" cy="36504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цены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личной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из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804000" y="2708280"/>
          <a:ext cx="1440000" cy="43164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терь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 flipH="1">
            <a:off x="1907640" y="2060640"/>
            <a:ext cx="100836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16360" y="2205000"/>
            <a:ext cx="0" cy="187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00720" y="2133720"/>
            <a:ext cx="79236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4005360"/>
            <a:ext cx="2521080" cy="1944720"/>
          </a:xfrm>
          <a:prstGeom prst="ellipse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Особняки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дворцы и трущобы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глухие дворы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доходные дом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грязные улицы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серый све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4076640"/>
            <a:ext cx="2592360" cy="1873440"/>
          </a:xfrm>
          <a:prstGeom prst="ellipse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Самоубийство на мосту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пьяная девочк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нищие, пьяны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изможденные лиц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56360" y="3933720"/>
            <a:ext cx="2519280" cy="1943280"/>
          </a:xfrm>
          <a:prstGeom prst="ellipse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Комнаты-каморк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беспорядок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ободранный диван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низкие потол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Алгоритм написания синквейн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В основу положена главная мысль, тема, выраженная одним слов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1-я строка (одно слово) – существительное, главная тема, мысл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2-я строка (два слова) – прилагательные, качества первого сло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3-я строка (три слова) – глаголы, действия первого сло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4-я строка – суждение из 4 слов по теме первого слова, мысл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5-я строка (одно слово) – существительное, синоним первому слову. Вывод, заключ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Синквей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етербур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рязный, сер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гнетает, ожесточает, дави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артины нищеты и безнадеж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Безысход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4:06:42Z</dcterms:created>
  <dc:creator>User</dc:creator>
  <dc:description/>
  <dc:language>en-US</dc:language>
  <cp:lastModifiedBy>КСОШ1</cp:lastModifiedBy>
  <dcterms:modified xsi:type="dcterms:W3CDTF">2009-03-16T04:46:34Z</dcterms:modified>
  <cp:revision>6</cp:revision>
  <dc:subject/>
  <dc:title>Петербург Достоевского  в романе «Преступление и наказание»</dc:title>
</cp:coreProperties>
</file>