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2BC-F4BF-4372-BE9B-7880CC67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CB5-2CD7-498C-8136-83F007C3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C1E-3056-46E8-A67C-414CFE4F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FE3-EA47-4CDC-8D29-B9FFCA0F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4948-F110-4B0F-B3C2-943B2B5C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FECF-2541-410F-A020-280B1710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A2F8-B373-4C24-99B6-71F862EF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5D06-B97E-4FD4-A685-D717427D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91FE-4B35-4F63-A936-9CBA1DFB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B8A3-9EEB-4240-B7AE-0534BB8B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3405-14E0-45C8-AF72-7087B95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0BC-5EA3-4247-8205-A7947C18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C9A1-015C-4A7E-8B8B-F53AE63E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8D09-AC70-462A-A733-D5EA0A24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1D9A-18BA-4037-BC8C-0B6FD8B4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DD05-59C8-4A12-8C75-F4DE5CAF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AAE1-A60A-4768-8A27-F6533866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131-1F74-4457-8B79-11F39204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779-5D09-4B88-9D5D-216CA96B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7C7-A070-40B2-808C-050F5F90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305-2AAF-4BD8-B7A4-7ED317F4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7F9-22D3-4EC8-A359-2A1D6A3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CF9-06BE-47D4-9640-D069FE0D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6C2-1697-4E70-BD59-E9ED2050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E413-65A4-45BF-8C53-7CBF92AF2E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E1A3-ACF2-47E1-9748-EF0467810A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Baskerville Old Face"/>
              </a:rPr>
              <a:t>Петербург Достоевского  в романе</a:t>
            </a:r>
            <a:br>
              <a:rPr sz="4000"/>
            </a:br>
            <a:r>
              <a:rPr b="1" i="1" lang="en-US" sz="4000" spc="-1" strike="noStrike">
                <a:solidFill>
                  <a:srgbClr val="e5ffff"/>
                </a:solidFill>
                <a:latin typeface="Baskerville Old Face"/>
              </a:rPr>
              <a:t>«Преступление и наказание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Це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казать, как изображает писатель  жизнь горо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мыслить причины конфликта романа – конфликта между Раскольниковым и миром, им отрицаем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8964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Есть в «Преступлении и наказании» гениальные страниц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Роман, точно вылит, так он строен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При ограниченном числе действующих лиц кажется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что в нем тысячи и тысячи судеб несчастных людей, -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весь старый Петербург виден под этим неожиданным ракурсо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Много нагнетено «ужасов», до неестественности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Но – силен, бес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cc00"/>
                </a:solidFill>
                <a:latin typeface="Tahoma"/>
              </a:rPr>
              <a:t>А. Фадее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765000"/>
            <a:ext cx="6335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askerville Old Face"/>
              </a:rPr>
              <a:t>Петербур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71640" y="2708280"/>
          <a:ext cx="1295280" cy="36504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йза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771640" y="3068640"/>
          <a:ext cx="2952720" cy="3650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цены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личной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из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804000" y="2708280"/>
          <a:ext cx="1440000" cy="43164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терь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flipH="1">
            <a:off x="1907640" y="2060640"/>
            <a:ext cx="100836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2205000"/>
            <a:ext cx="0" cy="18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2133720"/>
            <a:ext cx="79236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005360"/>
            <a:ext cx="2521080" cy="194472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Особняк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дворцы и трущоб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глухие дворы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доходные дом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грязные улицы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серый св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076640"/>
            <a:ext cx="2592360" cy="187344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Самоубийство на мосту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пьяная девочк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нищие, пьяны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изможденные лиц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6360" y="3933720"/>
            <a:ext cx="2519280" cy="1943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Комнаты-каморк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беспорядок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ободранный диван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низкие потол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Алгоритм написания синквей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В основу положена главная мысль, тема, выраженная одним слов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1-я строка (одно слово) – существительное, главная тема, мыс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2-я строка (два слова) – прилагательные, качества первого сло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3-я строка (три слова) – глаголы, действия первого сло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4-я строка – суждение из 4 слов по теме первого слова, мыс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5-я строка (одно слово) – существительное, синоним первому слову. Вывод, заклю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етербур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рязный, сер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гнетает, ожесточает, дав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ртины нищеты и безнаде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езысход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4:06:42Z</dcterms:created>
  <dc:creator>User</dc:creator>
  <dc:description/>
  <dc:language>en-US</dc:language>
  <cp:lastModifiedBy>КСОШ1</cp:lastModifiedBy>
  <dcterms:modified xsi:type="dcterms:W3CDTF">2009-03-16T04:46:34Z</dcterms:modified>
  <cp:revision>6</cp:revision>
  <dc:subject/>
  <dc:title>Петербург Достоевского  в романе «Преступление и наказание»</dc:title>
</cp:coreProperties>
</file>