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EB3-BEFF-4685-8C60-8C978250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6AF2-DBD3-470C-BBB4-727AE436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14C-EBDE-4D81-9D18-5DB70AF1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0089-741C-4B5C-AF3D-BD422348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D8B7-5036-4A58-92D2-E715E711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ADDF-AF24-4C2C-BA29-75EE890E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FDA6-D443-4127-A186-4B26EA73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D093-C34D-4678-8C4C-E1CBAACC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95DF-AD79-41F6-A457-D89B4E4F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8060-BB6E-4021-8930-8B70DE94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0A4E-5706-4FB7-B49F-B1D50E24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959-5EA0-43A4-AA42-9DE360B1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E906-8783-4473-B45D-4B87781B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2EA5-0AC8-437C-8AC4-FCA7127E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A92D-EB8F-4160-B3C9-6A3A9BCA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62B6-F5E2-4656-BA16-2345D6E1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3997-1422-482F-B497-69D75C22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5DF4B-B52E-46D0-80CD-C774A7A9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90147-8A3E-47BF-AD38-56F898BA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B73BB-E264-4D5E-9981-4677EE2C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DF6E5-1CF5-483D-9FAB-9C323D40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992C8-2CB6-40C5-B640-D481BE7F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967-BC49-425D-B963-E93E0750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7AF57-E396-4A10-B3BC-6E9DD97E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4B6C1-117D-4EA3-80EB-B59805FB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CB089-46F6-48E1-979D-EBB5D892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541FB-2F51-4206-BFAD-9B06B98F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8A319-09BA-45AA-A4BA-5F770D0F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63AA2-374E-4FA9-961D-3EDE358C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0A590-784D-46A5-A172-BBE96965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A78BF-1159-473A-8A9F-13063123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485BE-7CF7-4A3B-8547-DF4D0EBF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1FD4C-4297-437F-B638-E55B3A04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E7D-4522-4F2D-B1C7-122870E9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74113-C020-429B-B810-FC03FC64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70E9F-A707-4CC1-8089-388D9CAC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EEC53-BD39-42B1-A109-24DFB4A4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A472E-45DD-41EF-AD3E-86FDF4AD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334AC-4C90-4EE3-B05B-54468670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63542-355D-49EB-9358-3F9A4762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6C3B9-D177-46BE-B135-1500A536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2F4C6-062F-492E-AE69-54530B14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8DEB4-C88F-4D14-B808-EC9A9130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261EC-767B-48DC-A709-4AEB83CC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714-4412-4B99-AAFD-D56544D8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B2856-F0A0-4D4E-AAD1-22CCDFC6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1694C-4A70-4184-AB8F-B2D713E0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119DF-15DE-4FF3-97B7-D858F96F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828D5-D523-4284-B209-1507C194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C9E61-4CA2-4C71-A8FD-E7FA75ED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43CEC-8A51-4677-AEA8-755F3A7D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407A7-0484-4943-B9AB-0C4EDC7D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4C880-158C-48BC-B4E3-505C7B78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D0874-4E68-4775-AC25-1A0E9AF3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FC12A-C14E-4154-AB64-2EFC98E8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C2E0-0178-408F-AD14-02CC7748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193F2-9548-4627-832C-47C41391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8B570-65D2-41C1-ADD8-E4B42F29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741BF-DB17-4D6E-9EDD-A000F4A8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A7A52-900E-4271-B743-69FBBD92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78451-AD63-45D0-8FF5-C08F2DB9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A7A5E-487E-4209-9C4A-E452EF0B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1595A-7AF0-4897-9628-15BD8F36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BE65C-4779-442F-836E-CE33D22A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68E21-1FBA-4998-A7CE-50BC2067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AFFF6-CEC4-499D-84D8-6486FCC5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ABFA-DCA3-4514-905A-823C070B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580FF-F5AF-458E-B37C-183ECE90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BE294-CE48-48A5-9101-EE0E97D6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85F77-E120-4931-9E5E-D533CA94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4B4B3-F609-4513-8E29-5E325299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C4D6C-09A9-4ACC-AEEF-444B58F6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27886-10DB-4A8A-89B0-F364DD3F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AFC29-FA06-4371-8FB2-82E0D82D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ACA84-5525-414D-91E7-626649DD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C51AF-F056-4EC7-9E1C-3DF1CF43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56C7F-7CBD-404A-A11C-077DD59F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050-3065-4145-9E11-A34522E5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7F07A-748D-47E3-BC8E-2A2B865C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E627E-D23C-499C-8338-F15808D5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0F002-251B-4D73-94D7-AC9D6099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EAF6E-ECD4-4A4E-9436-F0801DA8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87446-0BB5-48DE-AFB9-4E6F106A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9CB2-D91D-45BA-9B27-94769974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25b7e"/>
              </a:gs>
              <a:gs pos="100000">
                <a:srgbClr val="aab0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de9e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de9e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CB84-8024-46BF-A434-EC396F208C3A}" type="slidenum">
              <a:rPr b="0" lang="ru-RU" sz="10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25b7e"/>
              </a:gs>
              <a:gs pos="100000">
                <a:srgbClr val="aab0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de9e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de9e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040A-5F5D-4783-8967-A9F18BEB1BB3}" type="slidenum">
              <a:rPr b="0" lang="ru-RU" sz="10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25b7e"/>
              </a:gs>
              <a:gs pos="100000">
                <a:srgbClr val="aab0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de9e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dde9e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40B3-0E73-4980-B12C-B65E61F8AF3F}" type="slidenum">
              <a:rPr b="0" lang="ru-RU" sz="10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25b7e"/>
              </a:gs>
              <a:gs pos="100000">
                <a:srgbClr val="aab0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de9e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de9e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748C-AA6B-4971-B6B3-E642F3798980}" type="slidenum">
              <a:rPr b="0" lang="ru-RU" sz="10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25b7e"/>
              </a:gs>
              <a:gs pos="100000">
                <a:srgbClr val="aab0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de9e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de9e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4571-98D4-4472-84EC-23DD0F7C7AB5}" type="slidenum">
              <a:rPr b="0" lang="ru-RU" sz="10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25b7e"/>
              </a:gs>
              <a:gs pos="100000">
                <a:srgbClr val="aab0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de9e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de9e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C262-9203-4846-978D-1D5C1FE1A99D}" type="slidenum">
              <a:rPr b="0" lang="ru-RU" sz="10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25b7e"/>
              </a:gs>
              <a:gs pos="100000">
                <a:srgbClr val="aab0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de9e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de9e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080C-258B-4DD8-8D3D-17256992C2E1}" type="slidenum">
              <a:rPr b="0" lang="ru-RU" sz="10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7"/>
          <p:cNvSpPr txBox="1"/>
          <p:nvPr/>
        </p:nvSpPr>
        <p:spPr>
          <a:xfrm>
            <a:off x="1763640" y="1268280"/>
            <a:ext cx="5688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ассный час</a:t>
            </a:r>
            <a:endParaRPr b="1" i="1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Здоровый</a:t>
            </a:r>
            <a:endParaRPr b="1" i="1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 жизни"</a:t>
            </a:r>
            <a:endParaRPr b="1" i="1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25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ЕЧАЛЬНАЯ  СТАТИСТ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285480" y="1285920"/>
            <a:ext cx="8643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В Тульской области ежегодно рождается 500-600 детей уродов</a:t>
            </a: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В Тульской области смертность от запоев в 3 раза выше, чем по России</a:t>
            </a: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</p:txBody>
      </p:sp>
      <p:pic>
        <p:nvPicPr>
          <p:cNvPr id="367" name="Picture 2" descr="http://im6-tub.yandex.net/i?id=153326231&amp;tov=6"/>
          <p:cNvPicPr/>
          <p:nvPr/>
        </p:nvPicPr>
        <p:blipFill>
          <a:blip r:embed="rId1"/>
          <a:stretch/>
        </p:blipFill>
        <p:spPr>
          <a:xfrm>
            <a:off x="714240" y="1285920"/>
            <a:ext cx="2341800" cy="1566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http://im8-tub.yandex.net/i?id=8448438&amp;tov=8"/>
          <p:cNvPicPr/>
          <p:nvPr/>
        </p:nvPicPr>
        <p:blipFill>
          <a:blip r:embed="rId2"/>
          <a:stretch/>
        </p:blipFill>
        <p:spPr>
          <a:xfrm>
            <a:off x="3429000" y="1130400"/>
            <a:ext cx="2043000" cy="1657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http://im7-tub.yandex.net/i?id=19339336&amp;tov=7"/>
          <p:cNvPicPr/>
          <p:nvPr/>
        </p:nvPicPr>
        <p:blipFill>
          <a:blip r:embed="rId3"/>
          <a:stretch/>
        </p:blipFill>
        <p:spPr>
          <a:xfrm>
            <a:off x="5929200" y="12859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http://im0-tub.yandex.net/i?id=201981903&amp;tov=0"/>
          <p:cNvPicPr/>
          <p:nvPr/>
        </p:nvPicPr>
        <p:blipFill>
          <a:blip r:embed="rId4"/>
          <a:stretch/>
        </p:blipFill>
        <p:spPr>
          <a:xfrm>
            <a:off x="714240" y="3319560"/>
            <a:ext cx="1571760" cy="2357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http://im2-tub.yandex.net/i?id=15446123&amp;tov=2"/>
          <p:cNvPicPr/>
          <p:nvPr/>
        </p:nvPicPr>
        <p:blipFill>
          <a:blip r:embed="rId5"/>
          <a:stretch/>
        </p:blipFill>
        <p:spPr>
          <a:xfrm>
            <a:off x="6205680" y="3209760"/>
            <a:ext cx="2009520" cy="2357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http://im5-tub.yandex.net/i?id=21412373&amp;tov=5"/>
          <p:cNvPicPr/>
          <p:nvPr/>
        </p:nvPicPr>
        <p:blipFill>
          <a:blip r:embed="rId6"/>
          <a:stretch/>
        </p:blipFill>
        <p:spPr>
          <a:xfrm>
            <a:off x="2855880" y="3429000"/>
            <a:ext cx="2863800" cy="2138400"/>
          </a:xfrm>
          <a:prstGeom prst="rect">
            <a:avLst/>
          </a:prstGeom>
          <a:ln w="0">
            <a:noFill/>
          </a:ln>
        </p:spPr>
      </p:pic>
    </p:spTree>
  </p:cSld>
  <p:transition advTm="25000">
    <p:cover dir="l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ТОГ ЗАНЯТ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285840" y="1357200"/>
            <a:ext cx="8572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К сожалению, чаще всего люди озабочены здоровьем тела, при этом не понимают, что надо сначала оздоровить дух.</a:t>
            </a:r>
            <a:endParaRPr b="0" lang="en-US" sz="28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Здоровый образ жизни должен стать образом жизни для каждого.</a:t>
            </a:r>
            <a:endParaRPr b="0" lang="en-US" sz="28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«В человеке  все должно быть прекрасным – и душа, и тело, и мысли».</a:t>
            </a:r>
            <a:endParaRPr b="0" lang="en-US" sz="28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А.П.Чехов</a:t>
            </a:r>
            <a:endParaRPr b="0" lang="en-US" sz="28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(1860 – 1904)</a:t>
            </a:r>
            <a:endParaRPr b="0" lang="en-US" sz="2800" spc="-1" strike="noStrike">
              <a:solidFill>
                <a:srgbClr val="464653"/>
              </a:solidFill>
              <a:latin typeface="Times New Roman"/>
            </a:endParaRPr>
          </a:p>
        </p:txBody>
      </p:sp>
      <p:pic>
        <p:nvPicPr>
          <p:cNvPr id="375" name="Picture 2" descr="http://im7-tub.yandex.net/i?id=121209000&amp;tov=7"/>
          <p:cNvPicPr/>
          <p:nvPr/>
        </p:nvPicPr>
        <p:blipFill>
          <a:blip r:embed="rId1"/>
          <a:stretch/>
        </p:blipFill>
        <p:spPr>
          <a:xfrm>
            <a:off x="4572000" y="4857840"/>
            <a:ext cx="1428840" cy="1798560"/>
          </a:xfrm>
          <a:prstGeom prst="rect">
            <a:avLst/>
          </a:prstGeom>
          <a:ln w="0">
            <a:noFill/>
          </a:ln>
        </p:spPr>
      </p:pic>
    </p:spTree>
  </p:cSld>
  <p:transition advTm="25000">
    <p:cover dir="l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ЗАКРЕПЛЕНИЕ ПРОЙДЕННОГО МАТЕРИА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14200" y="157140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just">
              <a:spcBef>
                <a:spcPts val="499"/>
              </a:spcBef>
              <a:buClr>
                <a:srgbClr val="727c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Что такое здоровый образ жизни?</a:t>
            </a: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marL="514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marL="514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2. Основные принципы здорового образа жизни.</a:t>
            </a: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marL="514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marL="514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3. Каковы составляющие здорового образа жизни?</a:t>
            </a: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marL="514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marL="514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4. Влияние мировоззрения на образ жизни.</a:t>
            </a: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</p:txBody>
      </p:sp>
    </p:spTree>
  </p:cSld>
  <p:transition advTm="25000">
    <p:cover dir="l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500040" y="35712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53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Цель занятия: 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Times New Roman"/>
              </a:rPr>
              <a:t>- познакомить учащихся с понятием «Здоровый образ жизни»;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Times New Roman"/>
              </a:rPr>
              <a:t>- способствовать воспитанию привычек и потребности в здоровом образе жизни;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Times New Roman"/>
              </a:rPr>
              <a:t>- прививать навыки управления своим здоровьем;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Times New Roman"/>
              </a:rPr>
              <a:t>- сформировать у учащихся активную позицию в    сохранении и укреплении своего здоровья;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Times New Roman"/>
              </a:rPr>
              <a:t>- воспитание социально значимой личности;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Times New Roman"/>
              </a:rPr>
              <a:t>- помочь детям найти гармонию души и тела.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</p:spTree>
  </p:cSld>
  <p:transition advTm="25000">
    <p:cover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СТАВЛЯЮЩИЕ ЗДОРОВ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42920" y="135720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уховное (здоровье разума)</a:t>
            </a: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зическое (здоровье тела)</a:t>
            </a: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циальное (условия жизни, работы,</a:t>
            </a: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дыха, питания)</a:t>
            </a: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53"/>
              </a:solidFill>
              <a:latin typeface="Times New Roman"/>
            </a:endParaRPr>
          </a:p>
        </p:txBody>
      </p:sp>
      <p:pic>
        <p:nvPicPr>
          <p:cNvPr id="339" name="Picture 2" descr="Картинка 3 из 4473"/>
          <p:cNvPicPr/>
          <p:nvPr/>
        </p:nvPicPr>
        <p:blipFill>
          <a:blip r:embed="rId1"/>
          <a:stretch/>
        </p:blipFill>
        <p:spPr>
          <a:xfrm>
            <a:off x="2857680" y="1214280"/>
            <a:ext cx="3004920" cy="2052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http://im7-tub.yandex.net/i?id=87670133&amp;tov=7"/>
          <p:cNvPicPr/>
          <p:nvPr/>
        </p:nvPicPr>
        <p:blipFill>
          <a:blip r:embed="rId2"/>
          <a:stretch/>
        </p:blipFill>
        <p:spPr>
          <a:xfrm>
            <a:off x="785880" y="4325760"/>
            <a:ext cx="2071800" cy="25322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http://im4-tub.yandex.net/i?id=33744496&amp;tov=4"/>
          <p:cNvPicPr/>
          <p:nvPr/>
        </p:nvPicPr>
        <p:blipFill>
          <a:blip r:embed="rId3"/>
          <a:stretch/>
        </p:blipFill>
        <p:spPr>
          <a:xfrm>
            <a:off x="5572080" y="3375000"/>
            <a:ext cx="2928960" cy="2197080"/>
          </a:xfrm>
          <a:prstGeom prst="rect">
            <a:avLst/>
          </a:prstGeom>
          <a:ln w="0">
            <a:noFill/>
          </a:ln>
        </p:spPr>
      </p:pic>
    </p:spTree>
  </p:cSld>
  <p:transition advTm="25000">
    <p:cover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ритерии оценки здоровья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42960" y="12855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algn="just">
              <a:spcBef>
                <a:spcPts val="499"/>
              </a:spcBef>
              <a:buClr>
                <a:srgbClr val="727c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сутствие болезней;</a:t>
            </a: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marL="358920" algn="just">
              <a:spcBef>
                <a:spcPts val="499"/>
              </a:spcBef>
              <a:buClr>
                <a:srgbClr val="727c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рмальная работа организма;</a:t>
            </a: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marL="358920" algn="just">
              <a:spcBef>
                <a:spcPts val="499"/>
              </a:spcBef>
              <a:buClr>
                <a:srgbClr val="727c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ное психическое, физическое и социальное благополучие;</a:t>
            </a: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marL="358920" algn="just">
              <a:spcBef>
                <a:spcPts val="499"/>
              </a:spcBef>
              <a:buClr>
                <a:srgbClr val="727c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вновесие организма в системе «природа – человек»;</a:t>
            </a: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marL="358920" algn="just">
              <a:spcBef>
                <a:spcPts val="499"/>
              </a:spcBef>
              <a:buClr>
                <a:srgbClr val="727c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ность приспосабливаться к изменениям окружающей среды;</a:t>
            </a: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marL="358920" algn="just">
              <a:spcBef>
                <a:spcPts val="499"/>
              </a:spcBef>
              <a:buClr>
                <a:srgbClr val="727c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ность полноценно трудиться и обращаться с людьми;</a:t>
            </a: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marL="358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стремление к творчеству.</a:t>
            </a: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  <a:p>
            <a:pPr marL="358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Times New Roman"/>
            </a:endParaRPr>
          </a:p>
        </p:txBody>
      </p:sp>
    </p:spTree>
  </p:cSld>
  <p:transition advTm="25000">
    <p:cover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Arial"/>
              </a:rPr>
              <a:t>Здоровый образ жизни – это индивидуальная система поведения человека, направленная на сохранение и укрепление своего здоровья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2" descr="http://im3-tub.yandex.net/i?id=85918766&amp;tov=3"/>
          <p:cNvPicPr/>
          <p:nvPr/>
        </p:nvPicPr>
        <p:blipFill>
          <a:blip r:embed="rId1"/>
          <a:stretch/>
        </p:blipFill>
        <p:spPr>
          <a:xfrm>
            <a:off x="357120" y="228600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http://im7-tub.yandex.net/i?id=7342573&amp;tov=7"/>
          <p:cNvPicPr/>
          <p:nvPr/>
        </p:nvPicPr>
        <p:blipFill>
          <a:blip r:embed="rId2"/>
          <a:stretch/>
        </p:blipFill>
        <p:spPr>
          <a:xfrm>
            <a:off x="6286680" y="4357800"/>
            <a:ext cx="2379600" cy="2185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http://im8-tub.yandex.net/i?id=5598829&amp;tov=8"/>
          <p:cNvPicPr/>
          <p:nvPr/>
        </p:nvPicPr>
        <p:blipFill>
          <a:blip r:embed="rId3"/>
          <a:stretch/>
        </p:blipFill>
        <p:spPr>
          <a:xfrm>
            <a:off x="3500280" y="2643120"/>
            <a:ext cx="2071800" cy="3097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http://im3-tub.yandex.net/i?id=91098473&amp;tov=3"/>
          <p:cNvPicPr/>
          <p:nvPr/>
        </p:nvPicPr>
        <p:blipFill>
          <a:blip r:embed="rId4"/>
          <a:stretch/>
        </p:blipFill>
        <p:spPr>
          <a:xfrm>
            <a:off x="285840" y="4572000"/>
            <a:ext cx="2736720" cy="204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http://im7-tub.yandex.net/i?id=175350443&amp;tov=7"/>
          <p:cNvPicPr/>
          <p:nvPr/>
        </p:nvPicPr>
        <p:blipFill>
          <a:blip r:embed="rId5"/>
          <a:stretch/>
        </p:blipFill>
        <p:spPr>
          <a:xfrm>
            <a:off x="6215040" y="2286000"/>
            <a:ext cx="2424240" cy="1571760"/>
          </a:xfrm>
          <a:prstGeom prst="rect">
            <a:avLst/>
          </a:prstGeom>
          <a:ln w="0">
            <a:noFill/>
          </a:ln>
        </p:spPr>
      </p:pic>
    </p:spTree>
  </p:cSld>
  <p:transition advTm="25000"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НЦИПЫ ЗДОРОВОГО ОБРАЗА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64653"/>
                </a:solidFill>
                <a:uFillTx/>
                <a:latin typeface="Times New Roman"/>
              </a:rPr>
              <a:t>Биологические:</a:t>
            </a:r>
            <a:r>
              <a:rPr b="0" lang="ru-RU" sz="2200" spc="-1" strike="noStrike">
                <a:solidFill>
                  <a:srgbClr val="464653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64653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53"/>
                </a:solidFill>
                <a:latin typeface="Times New Roman"/>
              </a:rPr>
              <a:t>Дыхание;</a:t>
            </a:r>
            <a:endParaRPr b="0" lang="en-US" sz="2200" spc="-1" strike="noStrike">
              <a:solidFill>
                <a:srgbClr val="464653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53"/>
                </a:solidFill>
                <a:latin typeface="Times New Roman"/>
              </a:rPr>
              <a:t>Питание;</a:t>
            </a:r>
            <a:endParaRPr b="0" lang="en-US" sz="2200" spc="-1" strike="noStrike">
              <a:solidFill>
                <a:srgbClr val="464653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464653"/>
                </a:solidFill>
                <a:latin typeface="Times New Roman"/>
              </a:rPr>
              <a:t>Свет;</a:t>
            </a:r>
            <a:endParaRPr b="0" lang="en-US" sz="2200" spc="-1" strike="noStrike">
              <a:solidFill>
                <a:srgbClr val="464653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53"/>
                </a:solidFill>
                <a:latin typeface="Times New Roman"/>
              </a:rPr>
              <a:t>Тепло;</a:t>
            </a:r>
            <a:endParaRPr b="0" lang="en-US" sz="2200" spc="-1" strike="noStrike">
              <a:solidFill>
                <a:srgbClr val="464653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53"/>
                </a:solidFill>
                <a:latin typeface="Times New Roman"/>
              </a:rPr>
              <a:t>Двигательная активность;</a:t>
            </a:r>
            <a:endParaRPr b="0" lang="en-US" sz="2200" spc="-1" strike="noStrike">
              <a:solidFill>
                <a:srgbClr val="464653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53"/>
                </a:solidFill>
                <a:latin typeface="Times New Roman"/>
              </a:rPr>
              <a:t>Уединение;</a:t>
            </a:r>
            <a:endParaRPr b="0" lang="en-US" sz="2200" spc="-1" strike="noStrike">
              <a:solidFill>
                <a:srgbClr val="464653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53"/>
                </a:solidFill>
                <a:latin typeface="Times New Roman"/>
              </a:rPr>
              <a:t>Игры. </a:t>
            </a:r>
            <a:endParaRPr b="0" lang="en-US" sz="2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64653"/>
                </a:solidFill>
                <a:uFillTx/>
                <a:latin typeface="Times New Roman"/>
              </a:rPr>
              <a:t>Социальные: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Times New Roman"/>
              </a:rPr>
              <a:t>Эстетичность;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Times New Roman"/>
              </a:rPr>
              <a:t>Нравственность;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Times New Roman"/>
              </a:rPr>
              <a:t>Присутствие волевого начала;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Times New Roman"/>
              </a:rPr>
              <a:t>Способность к самоограничению. </a:t>
            </a: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Times New Roman"/>
            </a:endParaRPr>
          </a:p>
        </p:txBody>
      </p:sp>
    </p:spTree>
  </p:cSld>
  <p:transition advTm="25000">
    <p:cover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ОСТАВЛЯЮЩИЕ ЗДОРОВОГО ОБРАЗА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213840" y="142884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каз от вредных пристрастий (курение, алкоголь, наркотики);</a:t>
            </a:r>
            <a:endParaRPr b="0" lang="en-US" sz="36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рациональное питание;</a:t>
            </a:r>
            <a:endParaRPr b="0" lang="en-US" sz="36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оптимальный двигательный режим;</a:t>
            </a:r>
            <a:endParaRPr b="0" lang="en-US" sz="36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закаливание организма;</a:t>
            </a:r>
            <a:endParaRPr b="0" lang="en-US" sz="36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личная гигиена;</a:t>
            </a:r>
            <a:endParaRPr b="0" lang="en-US" sz="36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положительные эмоции.</a:t>
            </a:r>
            <a:endParaRPr b="0" lang="en-US" sz="3600" spc="-1" strike="noStrike">
              <a:solidFill>
                <a:srgbClr val="464653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Times New Roman"/>
            </a:endParaRPr>
          </a:p>
        </p:txBody>
      </p:sp>
    </p:spTree>
  </p:cSld>
  <p:transition advTm="25000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ЕРАЗУМНОЕ ПОВЕДЕНИЕ ЧЕЛО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2" descr="Картинка 78 из 35179"/>
          <p:cNvPicPr/>
          <p:nvPr/>
        </p:nvPicPr>
        <p:blipFill>
          <a:blip r:embed="rId1"/>
          <a:stretch/>
        </p:blipFill>
        <p:spPr>
          <a:xfrm>
            <a:off x="214200" y="1285920"/>
            <a:ext cx="3786480" cy="2522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Картинка 176 из 35179"/>
          <p:cNvPicPr/>
          <p:nvPr/>
        </p:nvPicPr>
        <p:blipFill>
          <a:blip r:embed="rId2"/>
          <a:stretch/>
        </p:blipFill>
        <p:spPr>
          <a:xfrm>
            <a:off x="4857840" y="3421080"/>
            <a:ext cx="3929040" cy="30560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http://im8-tub.yandex.net/i?id=183394097&amp;tov=8"/>
          <p:cNvPicPr/>
          <p:nvPr/>
        </p:nvPicPr>
        <p:blipFill>
          <a:blip r:embed="rId3"/>
          <a:stretch/>
        </p:blipFill>
        <p:spPr>
          <a:xfrm>
            <a:off x="428760" y="4214880"/>
            <a:ext cx="2774880" cy="20718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Картинка 206 из 35179"/>
          <p:cNvPicPr/>
          <p:nvPr/>
        </p:nvPicPr>
        <p:blipFill>
          <a:blip r:embed="rId4"/>
          <a:stretch/>
        </p:blipFill>
        <p:spPr>
          <a:xfrm>
            <a:off x="5286240" y="1143000"/>
            <a:ext cx="2928960" cy="2198520"/>
          </a:xfrm>
          <a:prstGeom prst="rect">
            <a:avLst/>
          </a:prstGeom>
          <a:ln w="0">
            <a:noFill/>
          </a:ln>
        </p:spPr>
      </p:pic>
    </p:spTree>
  </p:cSld>
  <p:transition advTm="25000">
    <p:cover dir="l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437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79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Следствием неразумного поведения человека является: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- падение рождаемости;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- снижение трудоспособности населения;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- ухудшение здоровья практически всех возрастных групп;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- преждевременное старение;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- рост смертности (в т.ч. насильственной);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- депрессивные процессы;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- падение нравственност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2" descr="http://im7-tub.yandex.net/i?id=15232331&amp;tov=7"/>
          <p:cNvPicPr/>
          <p:nvPr/>
        </p:nvPicPr>
        <p:blipFill>
          <a:blip r:embed="rId1"/>
          <a:stretch/>
        </p:blipFill>
        <p:spPr>
          <a:xfrm>
            <a:off x="2357280" y="214200"/>
            <a:ext cx="1500480" cy="18907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http://im8-tub.yandex.net/i?id=26166507&amp;tov=8"/>
          <p:cNvPicPr/>
          <p:nvPr/>
        </p:nvPicPr>
        <p:blipFill>
          <a:blip r:embed="rId2"/>
          <a:stretch/>
        </p:blipFill>
        <p:spPr>
          <a:xfrm>
            <a:off x="214200" y="214200"/>
            <a:ext cx="2009880" cy="1857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http://im6-tub.yandex.net/i?id=89391917&amp;tov=6"/>
          <p:cNvPicPr/>
          <p:nvPr/>
        </p:nvPicPr>
        <p:blipFill>
          <a:blip r:embed="rId3"/>
          <a:stretch/>
        </p:blipFill>
        <p:spPr>
          <a:xfrm>
            <a:off x="3929040" y="214200"/>
            <a:ext cx="2354400" cy="17622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http://im5-tub.yandex.net/i?id=32624006&amp;tov=5"/>
          <p:cNvPicPr/>
          <p:nvPr/>
        </p:nvPicPr>
        <p:blipFill>
          <a:blip r:embed="rId4"/>
          <a:stretch/>
        </p:blipFill>
        <p:spPr>
          <a:xfrm>
            <a:off x="6323040" y="214200"/>
            <a:ext cx="2606760" cy="1738440"/>
          </a:xfrm>
          <a:prstGeom prst="rect">
            <a:avLst/>
          </a:prstGeom>
          <a:ln w="0">
            <a:noFill/>
          </a:ln>
        </p:spPr>
      </p:pic>
    </p:spTree>
  </p:cSld>
  <p:transition advTm="25000">
    <p:cover dir="l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8:54:10Z</dcterms:created>
  <dc:creator>Вурдалак</dc:creator>
  <dc:description/>
  <dc:language>en-US</dc:language>
  <cp:lastModifiedBy>Юзер</cp:lastModifiedBy>
  <dcterms:modified xsi:type="dcterms:W3CDTF">2012-11-11T15:20:07Z</dcterms:modified>
  <cp:revision>71</cp:revision>
  <dc:subject/>
  <dc:title>ГИДРОДИНАМИЧЕСКИЕ АВАРИИ</dc:title>
</cp:coreProperties>
</file>