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1D2-74E8-4E5C-BB33-3ACBF930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474-0FEB-4D89-B866-F23D842F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5A5-C662-4616-B8E8-C0155B9D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BBE2-D67D-4EBB-8A34-52A1D17F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579F-CC23-482E-930A-9B0B4D4A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117E-2D68-4BCD-94F9-C8C2AEC3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4AB-C707-4813-98B9-29C276BB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CAB-EE31-4EC4-9DF3-CBF24DF1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D4E-6414-464D-837D-8E192FE0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03B5-FEA5-4833-B4E0-E4DA09FD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CE0-88C1-49B2-9EA1-6103EBE3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1CA-420E-4B47-B739-AAA59C7D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B7AB-DF3E-49A4-9AC7-A8D33A30B0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-44280" y="1569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Book Antiqua"/>
              </a:rPr>
              <a:t>торжествен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0" y="3411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Book Antiqua"/>
              </a:rPr>
              <a:t>быстр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0" y="50846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Book Antiqua"/>
              </a:rPr>
              <a:t>празднич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-27000" y="42926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Book Antiqua"/>
              </a:rPr>
              <a:t>энергич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-27000" y="24177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Book Antiqua"/>
              </a:rPr>
              <a:t>парад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-60480" y="58276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Book Antiqua"/>
              </a:rPr>
              <a:t>строев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-60480" y="115920"/>
            <a:ext cx="920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МАРШ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-181080" y="2205000"/>
            <a:ext cx="94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253f"/>
                </a:solidFill>
                <a:latin typeface="Book Antiqua"/>
              </a:rPr>
              <a:t>Исполнение различных ритмов на детских музыкальных инструментах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4046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Book Antiqua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4572000" y="189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00"/>
                </a:solidFill>
                <a:latin typeface="Book Antiqua"/>
              </a:rPr>
              <a:t>Чехия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792680" cy="4824360"/>
          </a:xfrm>
          <a:prstGeom prst="rect">
            <a:avLst/>
          </a:prstGeom>
          <a:ln w="0">
            <a:noFill/>
          </a:ln>
        </p:spPr>
      </p:pic>
      <p:pic>
        <p:nvPicPr>
          <p:cNvPr id="48" name="audio_033.mp3" descr=""/>
          <p:cNvPicPr/>
          <p:nvPr/>
        </p:nvPicPr>
        <p:blipFill>
          <a:blip r:embed="rId2"/>
          <a:stretch/>
        </p:blipFill>
        <p:spPr>
          <a:xfrm>
            <a:off x="8294760" y="6432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"/>
          <p:cNvPicPr/>
          <p:nvPr/>
        </p:nvPicPr>
        <p:blipFill>
          <a:blip r:embed="rId3"/>
          <a:stretch/>
        </p:blipFill>
        <p:spPr>
          <a:xfrm>
            <a:off x="1905120" y="6480"/>
            <a:ext cx="5333760" cy="6845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"/>
          <p:cNvPicPr/>
          <p:nvPr/>
        </p:nvPicPr>
        <p:blipFill>
          <a:blip r:embed="rId4"/>
          <a:stretch/>
        </p:blipFill>
        <p:spPr>
          <a:xfrm>
            <a:off x="1123920" y="0"/>
            <a:ext cx="689616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"/>
          <p:cNvPicPr/>
          <p:nvPr/>
        </p:nvPicPr>
        <p:blipFill>
          <a:blip r:embed="rId5"/>
          <a:stretch/>
        </p:blipFill>
        <p:spPr>
          <a:xfrm>
            <a:off x="50760" y="6480"/>
            <a:ext cx="9074160" cy="68450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"/>
          <p:cNvPicPr/>
          <p:nvPr/>
        </p:nvPicPr>
        <p:blipFill>
          <a:blip r:embed="rId6"/>
          <a:stretch/>
        </p:blipFill>
        <p:spPr>
          <a:xfrm>
            <a:off x="50760" y="6480"/>
            <a:ext cx="9074160" cy="68450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"/>
          <p:cNvPicPr/>
          <p:nvPr/>
        </p:nvPicPr>
        <p:blipFill>
          <a:blip r:embed="rId7"/>
          <a:stretch/>
        </p:blipFill>
        <p:spPr>
          <a:xfrm>
            <a:off x="7920" y="6480"/>
            <a:ext cx="9136080" cy="68450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6" descr=""/>
          <p:cNvPicPr/>
          <p:nvPr/>
        </p:nvPicPr>
        <p:blipFill>
          <a:blip r:embed="rId8"/>
          <a:stretch/>
        </p:blipFill>
        <p:spPr>
          <a:xfrm>
            <a:off x="-131760" y="-100080"/>
            <a:ext cx="926784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2013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" nodeType="afterEffect" fill="hold" presetClass="entr" presetID="16" presetSubtype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8" presetSubtype="3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" nodeType="afterEffect" fill="hold" presetClass="entr" presetID="2" presetSubtype="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ntr" presetID="2" presetSubtype="1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68280" y="12049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Book Antiqua"/>
              </a:rPr>
              <a:t>весёл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4608360" y="33577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Book Antiqua"/>
              </a:rPr>
              <a:t>задор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2124000" y="2219400"/>
            <a:ext cx="32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46c0a"/>
                </a:solidFill>
                <a:latin typeface="Book Antiqua"/>
              </a:rPr>
              <a:t>быстр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250920" y="4449600"/>
            <a:ext cx="56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Book Antiqua"/>
              </a:rPr>
              <a:t>энергич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4373640" y="5445000"/>
            <a:ext cx="3987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Book Antiqua"/>
              </a:rPr>
              <a:t>радост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0" y="2192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Book Antiqua"/>
              </a:rPr>
              <a:t>ПОЛЬ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250920" y="189000"/>
            <a:ext cx="403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 Antiqua"/>
              </a:rPr>
              <a:t>Австрия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Мой фильм3.wmv" descr=""/>
          <p:cNvPicPr/>
          <p:nvPr/>
        </p:nvPicPr>
        <p:blipFill>
          <a:blip r:embed="rId1"/>
          <a:stretch/>
        </p:blipFill>
        <p:spPr>
          <a:xfrm>
            <a:off x="522360" y="189000"/>
            <a:ext cx="822636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54360" y="2349360"/>
            <a:ext cx="464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ff"/>
                </a:solidFill>
                <a:latin typeface="Book Antiqua"/>
              </a:rPr>
              <a:t>медлен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05120" y="3860640"/>
            <a:ext cx="44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80"/>
                </a:solidFill>
                <a:latin typeface="Book Antiqua"/>
              </a:rPr>
              <a:t>спокой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5141520" y="386064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груст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5239080" y="234936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Book Antiqua"/>
              </a:rPr>
              <a:t>плавн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1600560" y="5229360"/>
            <a:ext cx="644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33"/>
                </a:solidFill>
                <a:latin typeface="Book Antiqua"/>
              </a:rPr>
              <a:t>романтическ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584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33cc"/>
                </a:solidFill>
                <a:latin typeface="Book Antiqua"/>
              </a:rPr>
              <a:t>ВАЛЬ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5:16:48Z</dcterms:created>
  <dc:creator>User</dc:creator>
  <dc:description/>
  <dc:language>en-US</dc:language>
  <cp:lastModifiedBy>User</cp:lastModifiedBy>
  <dcterms:modified xsi:type="dcterms:W3CDTF">2012-01-26T07:38:15Z</dcterms:modified>
  <cp:revision>25</cp:revision>
  <dc:subject/>
  <dc:title>Презентация PowerPoint</dc:title>
</cp:coreProperties>
</file>