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png" ContentType="image/png"/>
  <Override PartName="/ppt/media/image17.png" ContentType="image/png"/>
  <Override PartName="/ppt/media/image16.gif" ContentType="image/gif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BDA9-8E84-4D95-957C-3AC66FC3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732A-4FEA-41B8-939E-0D6360D4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A436-E640-4CAA-AA0D-51CABB1C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12C1-29A8-4C99-9BE8-77A2DC5A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E87E-E37D-46CB-82BD-887D1A00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CFC7-2651-45B9-8F2E-3747DDE7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F89-2128-4A76-8AC1-5BCF8792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8EA6-2247-42C7-8B58-D0F47767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010D-3A1D-4B7B-A7E2-A727F861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A841-C7FD-44C1-8FBB-E111C370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0DE7-D78D-4CBD-B708-8BC71B5E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8288-0736-467A-A133-9E65A4F6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85A4-7B8D-4724-A7BE-99C6CE722D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407880" y="1920960"/>
            <a:ext cx="8182080" cy="330984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2"/>
          <a:stretch/>
        </p:blipFill>
        <p:spPr>
          <a:xfrm>
            <a:off x="262080" y="3517920"/>
            <a:ext cx="8626320" cy="32479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им.jpg"/>
          <p:cNvPicPr/>
          <p:nvPr/>
        </p:nvPicPr>
        <p:blipFill>
          <a:blip r:embed="rId3"/>
          <a:stretch/>
        </p:blipFill>
        <p:spPr>
          <a:xfrm>
            <a:off x="3571920" y="5357880"/>
            <a:ext cx="2214360" cy="12142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нга.jpg"/>
          <p:cNvPicPr/>
          <p:nvPr/>
        </p:nvPicPr>
        <p:blipFill>
          <a:blip r:embed="rId4"/>
          <a:stretch/>
        </p:blipFill>
        <p:spPr>
          <a:xfrm>
            <a:off x="714240" y="357120"/>
            <a:ext cx="1509840" cy="1224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а.jpg"/>
          <p:cNvPicPr/>
          <p:nvPr/>
        </p:nvPicPr>
        <p:blipFill>
          <a:blip r:embed="rId5"/>
          <a:stretch/>
        </p:blipFill>
        <p:spPr>
          <a:xfrm>
            <a:off x="6429240" y="357120"/>
            <a:ext cx="18576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133200"/>
            <a:ext cx="8582040" cy="251784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571680" y="2428920"/>
            <a:ext cx="82152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(англ.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folk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. – «народ»,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ore –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«знание») – народная мудрос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845 г. – англ. учё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. Дж. Том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Organization Chart 8"/>
          <p:cNvGrpSpPr/>
          <p:nvPr/>
        </p:nvGrpSpPr>
        <p:grpSpPr>
          <a:xfrm>
            <a:off x="0" y="309600"/>
            <a:ext cx="8963640" cy="4694400"/>
            <a:chOff x="0" y="309600"/>
            <a:chExt cx="8963640" cy="4694400"/>
          </a:xfrm>
        </p:grpSpPr>
        <p:cxnSp>
          <p:nvCxnSpPr>
            <p:cNvPr id="49" name="_s1028"/>
            <p:cNvCxnSpPr>
              <a:stCxn id="50" idx="0"/>
              <a:endCxn id="51" idx="2"/>
            </p:cNvCxnSpPr>
            <p:nvPr/>
          </p:nvCxnSpPr>
          <p:spPr>
            <a:xfrm flipV="1" rot="16200000">
              <a:off x="5218920" y="1449720"/>
              <a:ext cx="939600" cy="2413440"/>
            </a:xfrm>
            <a:prstGeom prst="bentConnector3">
              <a:avLst>
                <a:gd name="adj1" fmla="val 133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1029"/>
            <p:cNvCxnSpPr>
              <a:stCxn id="53" idx="0"/>
              <a:endCxn id="51" idx="2"/>
            </p:cNvCxnSpPr>
            <p:nvPr/>
          </p:nvCxnSpPr>
          <p:spPr>
            <a:xfrm flipH="1" flipV="1" rot="5400000">
              <a:off x="2805120" y="1449720"/>
              <a:ext cx="939600" cy="2414160"/>
            </a:xfrm>
            <a:prstGeom prst="bentConnector3">
              <a:avLst>
                <a:gd name="adj1" fmla="val 133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1" name="_s1030"/>
            <p:cNvSpPr/>
            <p:nvPr/>
          </p:nvSpPr>
          <p:spPr>
            <a:xfrm>
              <a:off x="2413800" y="309600"/>
              <a:ext cx="4137120" cy="1877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Народ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Arial"/>
                </a:rPr>
                <a:t>Автор - нар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1"/>
            <p:cNvSpPr/>
            <p:nvPr/>
          </p:nvSpPr>
          <p:spPr>
            <a:xfrm>
              <a:off x="0" y="3126240"/>
              <a:ext cx="4137120" cy="1877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Уст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Arial"/>
                </a:rPr>
                <a:t>Из уст в ус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32"/>
            <p:cNvSpPr/>
            <p:nvPr/>
          </p:nvSpPr>
          <p:spPr>
            <a:xfrm>
              <a:off x="4826520" y="3126240"/>
              <a:ext cx="4137120" cy="1877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100" spc="-1" strike="noStrike">
                  <a:solidFill>
                    <a:srgbClr val="000099"/>
                  </a:solidFill>
                  <a:latin typeface="Arial"/>
                </a:rPr>
                <a:t>Творчеств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900" spc="-1" strike="noStrike">
                  <a:solidFill>
                    <a:srgbClr val="ff0066"/>
                  </a:solidFill>
                  <a:latin typeface="Arial"/>
                </a:rPr>
                <a:t>Жанры</a:t>
              </a:r>
              <a:r>
                <a:rPr b="1" i="1" lang="ru-RU" sz="2400" spc="-1" strike="noStrike">
                  <a:solidFill>
                    <a:srgbClr val="ff0066"/>
                  </a:solidFill>
                  <a:latin typeface="Arial"/>
                </a:rPr>
                <a:t>: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Песни , колыбельные,пестушки,потешки, заклич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приговорки, считалки, прибаутки, небылицы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скороговорки, поговорки, сказки, загадки, пословиц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3"/>
          <p:cNvSpPr/>
          <p:nvPr/>
        </p:nvSpPr>
        <p:spPr>
          <a:xfrm>
            <a:off x="324000" y="511812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арактерные черты фолькло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Устная 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Колле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Народ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Вариа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Непосредственный контакт исполнителя и слуш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1" descr=""/>
          <p:cNvPicPr/>
          <p:nvPr/>
        </p:nvPicPr>
        <p:blipFill>
          <a:blip r:embed="rId1"/>
          <a:stretch/>
        </p:blipFill>
        <p:spPr>
          <a:xfrm>
            <a:off x="365040" y="438120"/>
            <a:ext cx="8199360" cy="1854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826920" y="2133720"/>
            <a:ext cx="6809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етафора.                   Меж двух свет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Я в середине од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Олицетворение.            Кланяется, кланяется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дет домой – растян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Звуковой образ,             Зубастый зверё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вукоподражание.             Грызёт с визгом дубок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Прямое сравнение.        Пять ларчиков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ять чуланч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i.jpg"/>
          <p:cNvPicPr/>
          <p:nvPr/>
        </p:nvPicPr>
        <p:blipFill>
          <a:blip r:embed="rId2"/>
          <a:stretch/>
        </p:blipFill>
        <p:spPr>
          <a:xfrm>
            <a:off x="8172360" y="1484280"/>
            <a:ext cx="785880" cy="10717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1.jpg"/>
          <p:cNvPicPr/>
          <p:nvPr/>
        </p:nvPicPr>
        <p:blipFill>
          <a:blip r:embed="rId3"/>
          <a:stretch/>
        </p:blipFill>
        <p:spPr>
          <a:xfrm>
            <a:off x="7885080" y="2708280"/>
            <a:ext cx="1071720" cy="13971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pila.jpg"/>
          <p:cNvPicPr/>
          <p:nvPr/>
        </p:nvPicPr>
        <p:blipFill>
          <a:blip r:embed="rId4"/>
          <a:stretch/>
        </p:blipFill>
        <p:spPr>
          <a:xfrm>
            <a:off x="7885080" y="4437000"/>
            <a:ext cx="1071720" cy="12859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2.jpg"/>
          <p:cNvPicPr/>
          <p:nvPr/>
        </p:nvPicPr>
        <p:blipFill>
          <a:blip r:embed="rId5"/>
          <a:stretch/>
        </p:blipFill>
        <p:spPr>
          <a:xfrm>
            <a:off x="7596360" y="5842080"/>
            <a:ext cx="133344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500040" y="642960"/>
            <a:ext cx="8143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Отрицательное сравнение.     Чёрен, да не в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гат, да не б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есть ног без копы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тит – во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дёт – землю ро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 Образное описание признаков неназванного предмета (по внешнему виду или действию).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асненька, круглень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сточки продолговатень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Прямой вопрос.         Кто бежит без провод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durer.jpg"/>
          <p:cNvPicPr/>
          <p:nvPr/>
        </p:nvPicPr>
        <p:blipFill>
          <a:blip r:embed="rId1"/>
          <a:stretch/>
        </p:blipFill>
        <p:spPr>
          <a:xfrm>
            <a:off x="2071800" y="1285920"/>
            <a:ext cx="2000160" cy="1285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images.jpg"/>
          <p:cNvPicPr/>
          <p:nvPr/>
        </p:nvPicPr>
        <p:blipFill>
          <a:blip r:embed="rId2"/>
          <a:stretch/>
        </p:blipFill>
        <p:spPr>
          <a:xfrm>
            <a:off x="3564000" y="4365720"/>
            <a:ext cx="1600200" cy="14284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4.jpg"/>
          <p:cNvPicPr/>
          <p:nvPr/>
        </p:nvPicPr>
        <p:blipFill>
          <a:blip r:embed="rId3"/>
          <a:stretch/>
        </p:blipFill>
        <p:spPr>
          <a:xfrm>
            <a:off x="7072200" y="4786200"/>
            <a:ext cx="15717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457200" y="1981080"/>
            <a:ext cx="403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Сильнее солн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Слабее ве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Ног нет, а ид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Глаз нет, а плач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Посмотри на колоб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Он румян и красно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Но не рви его до срок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От него не будет п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barvinok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0017"/>
          <p:cNvPicPr/>
          <p:nvPr/>
        </p:nvPicPr>
        <p:blipFill>
          <a:blip r:embed="rId2"/>
          <a:stretch/>
        </p:blipFill>
        <p:spPr>
          <a:xfrm>
            <a:off x="4800600" y="1752480"/>
            <a:ext cx="3124080" cy="20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mel_dont_know_sw"/>
          <p:cNvPicPr/>
          <p:nvPr/>
        </p:nvPicPr>
        <p:blipFill>
          <a:blip r:embed="rId3"/>
          <a:stretch/>
        </p:blipFill>
        <p:spPr>
          <a:xfrm>
            <a:off x="5181480" y="3886200"/>
            <a:ext cx="2362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2" descr=""/>
          <p:cNvPicPr/>
          <p:nvPr/>
        </p:nvPicPr>
        <p:blipFill>
          <a:blip r:embed="rId1"/>
          <a:stretch/>
        </p:blipFill>
        <p:spPr>
          <a:xfrm>
            <a:off x="195120" y="49320"/>
            <a:ext cx="8929800" cy="14446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357120" y="1571760"/>
            <a:ext cx="84297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емь раз отмер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один раз отреж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Поспешишь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людей насмеши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Ум хорошо 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а два луч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Дело мастера 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бо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Друзья познают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в бе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9T16:32:52Z</dcterms:created>
  <dc:creator>елена</dc:creator>
  <dc:description/>
  <dc:language>en-US</dc:language>
  <cp:lastModifiedBy>111</cp:lastModifiedBy>
  <dcterms:modified xsi:type="dcterms:W3CDTF">2012-11-09T17:58:14Z</dcterms:modified>
  <cp:revision>28</cp:revision>
  <dc:subject/>
  <dc:title>Слайд 1</dc:title>
</cp:coreProperties>
</file>