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5CA3-5816-43D4-9739-732084EB46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9FAC-1310-4FC8-B970-827ED65171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источником энергии, которая используется машинами в промышленности, в с/х, на транспорте, в быту, в настоящее время являются различные виды химического горючего. Из всей энергии потребляемой человеком в год около 90% получается за счет сгорания угля, нефти, газа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вые машины освободили человека от тяжелого физического труда. Эти машины способны совершать работу в миллионы раз большую той, которую мог бы совершить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часть любой тепловой машины – тепловой двига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EBB-DFDD-4590-B255-A2A669F5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17AE-CCCD-4379-90B0-C1E2D8A5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84C9D4-483D-4AE8-81C0-175CB423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EA4C0-AC42-4A9F-9E41-8F00A4CB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CD719D-BE46-45A5-ADA4-ADC4FF4A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116F9-90FD-4E64-A763-33A90592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2AFA31-037E-4811-9ABC-46706586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70C34E-A16D-42F5-9536-D57FDE3D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844DF0-03FF-4E90-BAB5-ACE469C3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173B7D-8D9D-42B2-8CF7-AA410C12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61EE25-484C-4D70-A802-45ACA96C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84AB3E-DE31-402C-B017-201BE238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8F8-CBDA-4F54-8BFA-599B28B7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CB9349-D72F-4611-8915-63FD83C4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C55DDC-7D1E-4268-A977-0F498B15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A8535C-430E-43CD-9FB7-FADF8986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AF9FB8-1DFA-4D67-97BF-EBEB81D8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99831D-517A-4919-A279-D1A44DD7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DAD735-FCB7-4922-BA01-2740F943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541FD-3DA4-4D4C-BA2B-6DE2182E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E07EF4-5E8E-4CE7-A6B1-764A63A1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1F3E0-EA1D-49F8-8046-A717AF88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FC9D3-7166-4887-A5F1-3845C5F7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B3D-F29A-4EFD-B1D7-40AB8583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B81EC9-AB13-4104-9496-155669EE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B9EA0-D0D4-4921-A0A2-FC73F927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0209E-2D4C-4F37-B3D6-9A2B1758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4A42A-324A-4BAD-BBE7-CD98B289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2D5EE-2990-40EF-9A98-C63E2E56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54A10-59C6-4944-A000-AC9C833E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CA837-F4D7-46F0-8587-087FE077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2F409-E2EA-4838-B782-B97DACBE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5639D-D0DE-4212-A1F0-9A4A4AB7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ADDE2-F12C-44EE-9081-38A33C67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12A9-E562-4CC9-BF81-FA26E1AB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86D57-C295-4138-A5B6-C4794164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24693-5F94-463D-A51B-20000432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28C20-720B-4011-95CF-1E539F6B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1DF61A-E9C9-4768-B73C-D46D7036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D3D8F3-F202-4B54-8D66-62F28300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343DE-711B-4551-B4E9-82D14C4F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CF0B9-C352-42C8-93D0-D5A27AE2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D8891E-3BE3-447F-AA8A-5B9F504E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4C5316-96F1-4B2C-BD91-4EF5F36F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69299B-AC6F-49B8-980B-D0D374E9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6D04-B45B-4DB8-82CF-F4476674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C5837A-E17F-4D2A-9473-3A1A4747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615298-911B-41AC-A0FC-B6FED4C5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211C4A-139B-426D-BEBC-23150148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972F39-9DE5-4941-B8C9-8E8F00FC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D78644-53FE-4061-962C-84623D94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BEEA73-2FB3-4F77-AD74-59499946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ABDA1A-0E44-41BA-B692-F0EFC201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88C20A-8B37-4165-AD25-ED080D07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7A7B3-2F55-42E7-BC52-553EC892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D294B5-E499-4025-BA23-0DFF7875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8223-FEF3-4391-9FCA-58DCB042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7AE154-9118-46D9-A40E-E652C7E8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CB4067-09BF-416F-911E-C3F1C4AF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94A3B-F9C3-4458-9030-829E0D00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5BEAA-3CE5-42A4-8D16-F292A29D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9A440-66AE-475F-80E2-376B4A54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90D50B-8769-45FE-9C28-0729F187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9823B5-DD05-43BA-825A-60EA0C19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C2F9-7DB2-4FD6-BC97-9B137F77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2174-035A-411A-A6E7-7205F486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7AF6-97BF-4816-BF78-6C29F68F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0904-7231-41CA-8E73-9D0E41A2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65E6-DE1C-4CE6-BEF8-604CCFEE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C646-4F35-48E6-A371-116F0623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A687-2895-4505-BE5D-D9444AC6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FA0E-05D1-41A2-857F-51A520FB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DE05-9D5C-4180-823B-EB1CF103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16CE-79C2-4D13-8699-FB4A711C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E19E0-972A-429F-93A6-87537DAA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2D938-9314-4798-8727-3A98354D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10511-E56F-4A51-8CD4-0C8151FE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589E4-B4F1-43E3-A7CD-AB7562E8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6B9A0-8E1C-481C-A2BA-48F4218F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FDCE-FB17-428E-8248-9C40C72F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C70B1-1220-4D24-94A3-3843239B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DD5CB-C9AC-478C-BE85-7F9DB6A5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C02A2-2B9E-42FA-AED0-50BBD1E7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740F4-98B9-4953-A76D-0633B643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6E553-64F8-46B6-9738-BF250BBC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88B68-3ACC-4471-8CEA-02299E37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E3058-1AF1-470D-8491-125BB37F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7619A-1A81-407C-93BE-E67706B5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92B29-43F1-4EF9-A6DC-FFDB1ED2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26009-D5CB-4A91-BE75-F5193956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7581-9DEE-49F2-ABB4-C88FE4B4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4FAF6-AD8D-4269-8A6D-F50C3F58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F7A6B-EAB7-47C8-AE77-CB8D4C0A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119C3-0C37-4882-92B7-4FCBB21F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29087-26F6-41A9-B0BE-78D98B25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B8FC9-20C7-47CA-BCF2-61531E01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8A84F-630A-4E46-83D2-4F165FC2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B83C8-0DFB-40E5-9125-8B7D9124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26D77-62CF-4807-A252-846BFC93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40D21-F6AF-42D5-AB1A-95E1FB51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DA74C-3558-4528-ABE6-F354C235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923F-CA8F-4F1F-9B7E-B8C77032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F31D3-3C90-4121-98AA-6814B3E1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94429-4BE8-450B-A65C-7EAC5E96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2CE16-8832-4A5D-B5D0-1C494FCA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B1C9C-346F-4EB8-A8D8-0A0A9FB6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700D4-5CFA-4D8A-A7A4-E3F23886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F86A6-E053-485D-A938-1464FA77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DFECA-F87C-4509-B346-76048C12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AFBC9-19AC-46A6-B049-C9982BF4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58F48-D831-4C60-9B89-5E2A9D13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F0538-683E-482A-B600-75C88A5C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1A9A-8E5D-4BA0-9EBE-BBB7C766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C919C-300B-4119-9FD3-E413B1CD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740FF-398F-493D-9E32-38D7FBF3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9FCE9-ADB8-4BF9-9386-99FE8405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C75DE-63C1-495A-93DC-E36AC7D6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75C66-76D3-4355-A650-F9D0E67C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B7D25-93D0-41C4-8C3B-94DCEFFC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8EA16-F146-4630-9539-63CC1BD7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5C5E1-037E-41C1-9E8C-3BB6FA2A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9EC06-8E86-497B-8401-B9AA81D6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6BE21-AF6F-4EF9-95AE-7577F2E3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54A6-39E7-4BA8-AF33-FC504B10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F13C3-D075-4006-A458-FF2DD081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6CA3C-07E8-4439-9C4E-0FB84722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B95F9-DE07-482A-A2C3-A0ECEF29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9196C-2DD4-4163-AB6B-DAE9FF1A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B077D-93D4-441F-975B-1E3761D7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8C287-31FA-4949-AABD-FFC1DE87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E29EC-BB3E-44ED-AA17-6412118C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62C1D-4F1A-4FC7-AA04-63D86EF2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514B0-50D1-4426-83E1-53B5D136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2AEF4-AE6C-48B2-89A2-A2B5BFA7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51EA-04DD-4F45-A3B4-E078573E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78AD8-A68B-4926-A859-B4D66784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28CC1-0288-496E-8590-10D6A32D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F66AB-AEE3-477B-8BF5-E26D6DE2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DD0F3-039D-451E-B29B-FCEEE7C8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07F29-B3FF-43B4-8B0F-21234B1A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0A467-C825-4339-8A0B-CE98C125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8DBBA-8FA6-44B4-9B9C-BEA47476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E7C17-7A13-411E-8A9E-277E451D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6978A-7252-4FF1-AE7B-25BF04B4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524B9-1403-4206-A099-23F68577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D29-EE95-44A7-B978-7FDA12A8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15084-F166-4FBF-B8E4-33BB1AFE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9E554-1F37-4AE1-92C3-82EB64BB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12AC3-C16C-48CC-857E-66733D21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9A624-41B2-481A-8C30-A1C78CEC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653B4-B663-4A4F-BC9D-C6B44D7D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883C8-FC95-485B-9FA2-735E6D5E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4727C-6308-4832-9D01-BA78524C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8E3D8C-6D76-41ED-A207-AF37F294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8D542C-0960-4F70-8C30-FBECC781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C49D01-0C63-4527-864A-650E3190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B400-EF47-4337-B01C-DA59E3A9E08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8417-095F-4A43-8D4B-BBD4D93E082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19BD-163D-4976-8AF8-4A6261482E5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6255-CE3F-474A-BC53-3AC7DBED145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9D17-7824-47B5-9D8C-C899EE59EFA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70D3-2514-439C-B924-9FCBBACD24F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86AB-0CD9-4062-A664-E460A945117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48FB-2D61-459E-8196-9815CDCAB15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AD54-1215-4B24-86E7-B01CD2C1885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35BC-8870-4A14-B517-F6B8E2483B3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BD71-3CD7-41D9-BE8B-E1B6EB4672E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C10E-972A-422E-A362-5007027AF47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52A2-3650-43B9-B176-BB949E68B52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hyperlink" Target="file:///&#1055;&#1088;&#1080;&#1083;&#1086;&#1078;&#1077;&#1085;&#1080;&#1077;%202.xls" TargetMode="External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WordArt 4"/>
          <p:cNvSpPr txBox="1"/>
          <p:nvPr/>
        </p:nvSpPr>
        <p:spPr>
          <a:xfrm>
            <a:off x="3357720" y="357120"/>
            <a:ext cx="2457360" cy="399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зика 8 класс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7" name="WordArt 5"/>
          <p:cNvSpPr txBox="1"/>
          <p:nvPr/>
        </p:nvSpPr>
        <p:spPr>
          <a:xfrm>
            <a:off x="2700360" y="1125360"/>
            <a:ext cx="42195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646b8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общающий урок по теме</a:t>
            </a:r>
            <a:endParaRPr b="1" lang="en-US" sz="2800" spc="1" strike="noStrike">
              <a:ln w="0">
                <a:noFill/>
              </a:ln>
              <a:solidFill>
                <a:srgbClr val="646b8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8" name="WordArt 6"/>
          <p:cNvSpPr txBox="1"/>
          <p:nvPr/>
        </p:nvSpPr>
        <p:spPr>
          <a:xfrm>
            <a:off x="357120" y="3214800"/>
            <a:ext cx="8352000" cy="28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Тепловые явления"</a:t>
            </a:r>
            <a:endParaRPr b="1" i="1" lang="en-US" sz="54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WordArt 8"/>
          <p:cNvSpPr txBox="1"/>
          <p:nvPr/>
        </p:nvSpPr>
        <p:spPr>
          <a:xfrm>
            <a:off x="1908000" y="2205000"/>
            <a:ext cx="541188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Тепловые машин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wipe dir="r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 txBox="1"/>
          <p:nvPr/>
        </p:nvSpPr>
        <p:spPr>
          <a:xfrm>
            <a:off x="250560" y="404640"/>
            <a:ext cx="871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Comic Sans MS"/>
              </a:rPr>
              <a:t>Тепловой двигатель</a:t>
            </a:r>
            <a:r>
              <a:rPr b="1" i="1" lang="ru-RU" sz="2400" spc="-1" strike="noStrike">
                <a:solidFill>
                  <a:srgbClr val="0000ff"/>
                </a:solidFill>
                <a:latin typeface="Comic Sans MS"/>
              </a:rPr>
              <a:t> – это устройство, которое преобразует внутреннюю энергию топлива в механическую энергию (работу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2843280" y="22050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Тепловые двиг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4"/>
          <p:cNvSpPr/>
          <p:nvPr/>
        </p:nvSpPr>
        <p:spPr>
          <a:xfrm flipH="1">
            <a:off x="1692360" y="285264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5"/>
          <p:cNvSpPr/>
          <p:nvPr/>
        </p:nvSpPr>
        <p:spPr>
          <a:xfrm>
            <a:off x="4500720" y="29973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6"/>
          <p:cNvSpPr/>
          <p:nvPr/>
        </p:nvSpPr>
        <p:spPr>
          <a:xfrm flipH="1">
            <a:off x="250920" y="4149720"/>
            <a:ext cx="7905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7"/>
          <p:cNvSpPr/>
          <p:nvPr/>
        </p:nvSpPr>
        <p:spPr>
          <a:xfrm>
            <a:off x="1835280" y="4149720"/>
            <a:ext cx="1081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8"/>
          <p:cNvSpPr/>
          <p:nvPr/>
        </p:nvSpPr>
        <p:spPr>
          <a:xfrm>
            <a:off x="6156360" y="2997360"/>
            <a:ext cx="86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9"/>
          <p:cNvSpPr/>
          <p:nvPr/>
        </p:nvSpPr>
        <p:spPr>
          <a:xfrm>
            <a:off x="826920" y="3213000"/>
            <a:ext cx="16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10"/>
          <p:cNvSpPr/>
          <p:nvPr/>
        </p:nvSpPr>
        <p:spPr>
          <a:xfrm>
            <a:off x="900000" y="3573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 Sans MS"/>
              </a:rPr>
              <a:t>Д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1"/>
          <p:cNvSpPr/>
          <p:nvPr/>
        </p:nvSpPr>
        <p:spPr>
          <a:xfrm>
            <a:off x="3492360" y="429264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 Sans MS"/>
              </a:rPr>
              <a:t>Реа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12"/>
          <p:cNvSpPr/>
          <p:nvPr/>
        </p:nvSpPr>
        <p:spPr>
          <a:xfrm>
            <a:off x="6443640" y="393372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 Sans MS"/>
              </a:rPr>
              <a:t>Паровая и газовая турб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3"/>
          <p:cNvSpPr/>
          <p:nvPr/>
        </p:nvSpPr>
        <p:spPr>
          <a:xfrm>
            <a:off x="0" y="5013360"/>
            <a:ext cx="21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8000"/>
                </a:solidFill>
                <a:latin typeface="Comic Sans MS"/>
              </a:rPr>
              <a:t>Карбюрато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4"/>
          <p:cNvSpPr/>
          <p:nvPr/>
        </p:nvSpPr>
        <p:spPr>
          <a:xfrm>
            <a:off x="2556000" y="5445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8000"/>
                </a:solidFill>
                <a:latin typeface="Comic Sans MS"/>
              </a:rPr>
              <a:t>Диз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000" fill="hold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2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2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2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60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2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2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2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4" descr="{17A1E138-884C-48BA-8AD9-7D1140F7BFA6}"/>
          <p:cNvPicPr/>
          <p:nvPr/>
        </p:nvPicPr>
        <p:blipFill>
          <a:blip r:embed="rId1"/>
          <a:srcRect l="3508" t="8164" r="40359" b="0"/>
          <a:stretch/>
        </p:blipFill>
        <p:spPr>
          <a:xfrm>
            <a:off x="1187280" y="189000"/>
            <a:ext cx="2347920" cy="287964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5" descr="tank"/>
          <p:cNvPicPr/>
          <p:nvPr/>
        </p:nvPicPr>
        <p:blipFill>
          <a:blip r:embed="rId2"/>
          <a:stretch/>
        </p:blipFill>
        <p:spPr>
          <a:xfrm>
            <a:off x="0" y="3429000"/>
            <a:ext cx="2286000" cy="230508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6" descr="129"/>
          <p:cNvPicPr/>
          <p:nvPr/>
        </p:nvPicPr>
        <p:blipFill>
          <a:blip r:embed="rId3"/>
          <a:stretch/>
        </p:blipFill>
        <p:spPr>
          <a:xfrm>
            <a:off x="2484360" y="4221000"/>
            <a:ext cx="3167280" cy="234972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7" descr="bumper_nasa"/>
          <p:cNvPicPr/>
          <p:nvPr/>
        </p:nvPicPr>
        <p:blipFill>
          <a:blip r:embed="rId4"/>
          <a:stretch/>
        </p:blipFill>
        <p:spPr>
          <a:xfrm>
            <a:off x="4211640" y="476280"/>
            <a:ext cx="2952720" cy="217332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8" descr="{7B929B9A-EE97-4C8C-B737-48A62186A4DD}"/>
          <p:cNvPicPr/>
          <p:nvPr/>
        </p:nvPicPr>
        <p:blipFill>
          <a:blip r:embed="rId5"/>
          <a:srcRect l="1949" t="7200" r="43640" b="6000"/>
          <a:stretch/>
        </p:blipFill>
        <p:spPr>
          <a:xfrm>
            <a:off x="6227640" y="3500280"/>
            <a:ext cx="2648160" cy="3168720"/>
          </a:xfrm>
          <a:prstGeom prst="rect">
            <a:avLst/>
          </a:prstGeom>
          <a:ln w="0">
            <a:noFill/>
          </a:ln>
        </p:spPr>
      </p:pic>
      <p:sp>
        <p:nvSpPr>
          <p:cNvPr id="846" name="Rectangle 9"/>
          <p:cNvSpPr/>
          <p:nvPr/>
        </p:nvSpPr>
        <p:spPr>
          <a:xfrm>
            <a:off x="612360" y="52380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В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2916360" y="3789360"/>
            <a:ext cx="21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8000"/>
                </a:solidFill>
                <a:latin typeface="Comic Sans MS"/>
              </a:rPr>
              <a:t>Карбюрато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1"/>
          <p:cNvSpPr/>
          <p:nvPr/>
        </p:nvSpPr>
        <p:spPr>
          <a:xfrm>
            <a:off x="250920" y="5805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8000"/>
                </a:solidFill>
                <a:latin typeface="Comic Sans MS"/>
              </a:rPr>
              <a:t>Диз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6804000" y="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 Sans MS"/>
              </a:rPr>
              <a:t>Реа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3"/>
          <p:cNvSpPr/>
          <p:nvPr/>
        </p:nvSpPr>
        <p:spPr>
          <a:xfrm>
            <a:off x="6118200" y="299736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 Sans MS"/>
              </a:rPr>
              <a:t>Паровая турб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6" descr="63166822031688-1"/>
          <p:cNvPicPr/>
          <p:nvPr/>
        </p:nvPicPr>
        <p:blipFill>
          <a:blip r:embed="rId1">
            <a:biLevel thresh="50000"/>
          </a:blip>
          <a:srcRect l="82121" t="0" r="1620" b="0"/>
          <a:stretch/>
        </p:blipFill>
        <p:spPr>
          <a:xfrm>
            <a:off x="6012000" y="3716280"/>
            <a:ext cx="720720" cy="194472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18" descr="63166822031688-1"/>
          <p:cNvPicPr/>
          <p:nvPr/>
        </p:nvPicPr>
        <p:blipFill>
          <a:blip r:embed="rId2">
            <a:biLevel thresh="50000"/>
          </a:blip>
          <a:srcRect l="7685" t="0" r="30772" b="0"/>
          <a:stretch/>
        </p:blipFill>
        <p:spPr>
          <a:xfrm>
            <a:off x="6877080" y="3860640"/>
            <a:ext cx="1871640" cy="163692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20" descr="63166822031688-1"/>
          <p:cNvPicPr/>
          <p:nvPr/>
        </p:nvPicPr>
        <p:blipFill>
          <a:blip r:embed="rId3">
            <a:biLevel thresh="50000"/>
          </a:blip>
          <a:srcRect l="12131" t="0" r="83233" b="0"/>
          <a:stretch/>
        </p:blipFill>
        <p:spPr>
          <a:xfrm>
            <a:off x="5651640" y="3500280"/>
            <a:ext cx="360360" cy="2305080"/>
          </a:xfrm>
          <a:prstGeom prst="rect">
            <a:avLst/>
          </a:prstGeom>
          <a:ln w="0">
            <a:noFill/>
          </a:ln>
        </p:spPr>
      </p:pic>
      <p:sp>
        <p:nvSpPr>
          <p:cNvPr id="854" name="Oval 21"/>
          <p:cNvSpPr/>
          <p:nvPr/>
        </p:nvSpPr>
        <p:spPr>
          <a:xfrm>
            <a:off x="684360" y="2781360"/>
            <a:ext cx="2016000" cy="934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бочее т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22"/>
          <p:cNvSpPr/>
          <p:nvPr/>
        </p:nvSpPr>
        <p:spPr>
          <a:xfrm rot="10800000">
            <a:off x="1331640" y="3860280"/>
            <a:ext cx="863640" cy="863640"/>
          </a:xfrm>
          <a:prstGeom prst="upArrow">
            <a:avLst>
              <a:gd name="adj1" fmla="val 42648"/>
              <a:gd name="adj2" fmla="val 30056"/>
            </a:avLst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23"/>
          <p:cNvSpPr/>
          <p:nvPr/>
        </p:nvSpPr>
        <p:spPr>
          <a:xfrm rot="10800000">
            <a:off x="1331640" y="1844280"/>
            <a:ext cx="863640" cy="792360"/>
          </a:xfrm>
          <a:prstGeom prst="upArrow">
            <a:avLst>
              <a:gd name="adj1" fmla="val 42648"/>
              <a:gd name="adj2" fmla="val 30056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25"/>
          <p:cNvSpPr/>
          <p:nvPr/>
        </p:nvSpPr>
        <p:spPr>
          <a:xfrm>
            <a:off x="395280" y="549360"/>
            <a:ext cx="2664000" cy="107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50021"/>
              </a:gs>
              <a:gs pos="100000">
                <a:srgbClr val="ffcc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грев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26"/>
          <p:cNvSpPr/>
          <p:nvPr/>
        </p:nvSpPr>
        <p:spPr>
          <a:xfrm>
            <a:off x="250920" y="5013360"/>
            <a:ext cx="2879640" cy="934920"/>
          </a:xfrm>
          <a:prstGeom prst="flowChartTerminator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Холоди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27"/>
          <p:cNvSpPr/>
          <p:nvPr/>
        </p:nvSpPr>
        <p:spPr>
          <a:xfrm>
            <a:off x="2700360" y="2924280"/>
            <a:ext cx="1152360" cy="647640"/>
          </a:xfrm>
          <a:custGeom>
            <a:avLst/>
            <a:gdLst>
              <a:gd name="textAreaLeft" fmla="*/ 157320 w 1152360"/>
              <a:gd name="textAreaRight" fmla="*/ 995040 w 1152360"/>
              <a:gd name="textAreaTop" fmla="*/ 138960 h 647640"/>
              <a:gd name="textAreaBottom" fmla="*/ 509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4632"/>
                </a:moveTo>
                <a:lnTo>
                  <a:pt x="16438" y="4632"/>
                </a:lnTo>
                <a:lnTo>
                  <a:pt x="16438" y="0"/>
                </a:lnTo>
                <a:lnTo>
                  <a:pt x="21600" y="10800"/>
                </a:lnTo>
                <a:lnTo>
                  <a:pt x="16438" y="21600"/>
                </a:lnTo>
                <a:lnTo>
                  <a:pt x="16438" y="16968"/>
                </a:lnTo>
                <a:lnTo>
                  <a:pt x="0" y="16968"/>
                </a:lnTo>
                <a:lnTo>
                  <a:pt x="2948" y="10800"/>
                </a:lnTo>
                <a:lnTo>
                  <a:pt x="0" y="463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29"/>
          <p:cNvSpPr/>
          <p:nvPr/>
        </p:nvSpPr>
        <p:spPr>
          <a:xfrm>
            <a:off x="2268360" y="1844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30"/>
          <p:cNvSpPr/>
          <p:nvPr/>
        </p:nvSpPr>
        <p:spPr>
          <a:xfrm>
            <a:off x="3851280" y="285264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31"/>
          <p:cNvSpPr/>
          <p:nvPr/>
        </p:nvSpPr>
        <p:spPr>
          <a:xfrm>
            <a:off x="2411280" y="393372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32"/>
          <p:cNvSpPr/>
          <p:nvPr/>
        </p:nvSpPr>
        <p:spPr>
          <a:xfrm>
            <a:off x="4643280" y="3716280"/>
            <a:ext cx="10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a50021"/>
                </a:solidFill>
                <a:latin typeface="Symbol"/>
                <a:ea typeface="Symbol"/>
              </a:rPr>
              <a:t>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33"/>
          <p:cNvSpPr/>
          <p:nvPr/>
        </p:nvSpPr>
        <p:spPr>
          <a:xfrm>
            <a:off x="4932360" y="907920"/>
            <a:ext cx="36702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Коэффициент полезного действия (КПД)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– называется отношение полезной работы двигателя, к количеству теплоты, полученному от нагрев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4000"/>
                            </p:stCondLst>
                            <p:childTnLst>
                              <p:par>
                                <p:cTn id="5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60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8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6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6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6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4000"/>
                            </p:stCondLst>
                            <p:childTnLst>
                              <p:par>
                                <p:cTn id="6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6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6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6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6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6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6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6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6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WordArt 5"/>
          <p:cNvSpPr txBox="1"/>
          <p:nvPr/>
        </p:nvSpPr>
        <p:spPr>
          <a:xfrm>
            <a:off x="468360" y="47628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тог урока:</a:t>
            </a:r>
            <a:endParaRPr b="1" i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6" name="WordArt 6"/>
          <p:cNvSpPr txBox="1"/>
          <p:nvPr/>
        </p:nvSpPr>
        <p:spPr>
          <a:xfrm>
            <a:off x="539640" y="2205000"/>
            <a:ext cx="144000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5d1d7"/>
                    </a:gs>
                    <a:gs pos="100000">
                      <a:srgbClr val="a50021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/з :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c5d1d7"/>
                  </a:gs>
                  <a:gs pos="100000">
                    <a:srgbClr val="a50021"/>
                  </a:gs>
                </a:gsLst>
                <a:lin ang="189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7" name="Text Box 7"/>
          <p:cNvSpPr/>
          <p:nvPr/>
        </p:nvSpPr>
        <p:spPr>
          <a:xfrm>
            <a:off x="4211640" y="549360"/>
            <a:ext cx="4464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a3d6"/>
                </a:solidFill>
                <a:uFillTx/>
                <a:latin typeface="Comic Sans MS"/>
                <a:hlinkClick r:id="rId3"/>
              </a:rPr>
              <a:t>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8"/>
          <p:cNvSpPr/>
          <p:nvPr/>
        </p:nvSpPr>
        <p:spPr>
          <a:xfrm>
            <a:off x="2627280" y="242100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одготовка к К/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3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3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omic Sans MS"/>
              </a:rPr>
              <a:t>Цель урока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39528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Обобщить и систематизировать знания учащихся по данной теме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Повторить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нутренняя энергия, способы её изменен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пловые процессы;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новные формулы для расчета количества теплоты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пловые двигатели, КПД тепловых двигателе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Comic Sans MS"/>
              </a:rPr>
              <a:t>Ход урока.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торение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3" name="Text Box 4"/>
          <p:cNvSpPr/>
          <p:nvPr/>
        </p:nvSpPr>
        <p:spPr>
          <a:xfrm>
            <a:off x="250920" y="134136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Arial"/>
              </a:rPr>
              <a:t>Внутренняя энер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5"/>
          <p:cNvSpPr/>
          <p:nvPr/>
        </p:nvSpPr>
        <p:spPr>
          <a:xfrm>
            <a:off x="3059280" y="1557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6"/>
          <p:cNvSpPr/>
          <p:nvPr/>
        </p:nvSpPr>
        <p:spPr>
          <a:xfrm>
            <a:off x="4067280" y="1125360"/>
            <a:ext cx="489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00"/>
                </a:solidFill>
                <a:latin typeface="Arial"/>
              </a:rPr>
              <a:t>Кинетическая энергия теплового движения молекул и потенциальная энергия их взаимо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7"/>
          <p:cNvSpPr/>
          <p:nvPr/>
        </p:nvSpPr>
        <p:spPr>
          <a:xfrm>
            <a:off x="1403280" y="184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8"/>
          <p:cNvSpPr/>
          <p:nvPr/>
        </p:nvSpPr>
        <p:spPr>
          <a:xfrm>
            <a:off x="250920" y="2276640"/>
            <a:ext cx="24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800000"/>
                </a:solidFill>
                <a:uFillTx/>
                <a:latin typeface="Arial"/>
              </a:rPr>
              <a:t>Способы изме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9"/>
          <p:cNvSpPr/>
          <p:nvPr/>
        </p:nvSpPr>
        <p:spPr>
          <a:xfrm flipV="1">
            <a:off x="2627280" y="220500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10"/>
          <p:cNvSpPr/>
          <p:nvPr/>
        </p:nvSpPr>
        <p:spPr>
          <a:xfrm>
            <a:off x="2627280" y="2565360"/>
            <a:ext cx="1297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1"/>
          <p:cNvSpPr/>
          <p:nvPr/>
        </p:nvSpPr>
        <p:spPr>
          <a:xfrm>
            <a:off x="4067280" y="1916280"/>
            <a:ext cx="25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00"/>
                </a:solidFill>
                <a:latin typeface="Arial"/>
              </a:rPr>
              <a:t>Совершение механической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3"/>
          <p:cNvSpPr/>
          <p:nvPr/>
        </p:nvSpPr>
        <p:spPr>
          <a:xfrm>
            <a:off x="3995640" y="270828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00"/>
                </a:solidFill>
                <a:latin typeface="Arial"/>
              </a:rPr>
              <a:t>теплопереда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4"/>
          <p:cNvSpPr/>
          <p:nvPr/>
        </p:nvSpPr>
        <p:spPr>
          <a:xfrm>
            <a:off x="5724360" y="2852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5"/>
          <p:cNvSpPr/>
          <p:nvPr/>
        </p:nvSpPr>
        <p:spPr>
          <a:xfrm>
            <a:off x="6300720" y="2421000"/>
            <a:ext cx="251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00"/>
                </a:solidFill>
                <a:latin typeface="Arial"/>
              </a:rPr>
              <a:t>Изменение внутренней энергии тела без совершения работы над телом или самим те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6"/>
          <p:cNvSpPr/>
          <p:nvPr/>
        </p:nvSpPr>
        <p:spPr>
          <a:xfrm flipH="1">
            <a:off x="2484360" y="2997360"/>
            <a:ext cx="1727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7"/>
          <p:cNvSpPr/>
          <p:nvPr/>
        </p:nvSpPr>
        <p:spPr>
          <a:xfrm>
            <a:off x="4572000" y="2997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8"/>
          <p:cNvSpPr/>
          <p:nvPr/>
        </p:nvSpPr>
        <p:spPr>
          <a:xfrm>
            <a:off x="4859280" y="2997360"/>
            <a:ext cx="122400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9"/>
          <p:cNvSpPr/>
          <p:nvPr/>
        </p:nvSpPr>
        <p:spPr>
          <a:xfrm>
            <a:off x="468360" y="3357720"/>
            <a:ext cx="2301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6600"/>
                </a:solidFill>
                <a:latin typeface="Comic Sans MS"/>
              </a:rPr>
              <a:t>теплопровод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20"/>
          <p:cNvSpPr/>
          <p:nvPr/>
        </p:nvSpPr>
        <p:spPr>
          <a:xfrm>
            <a:off x="3708360" y="4149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6600"/>
                </a:solidFill>
                <a:latin typeface="Comic Sans MS"/>
              </a:rPr>
              <a:t>Конв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21"/>
          <p:cNvSpPr/>
          <p:nvPr/>
        </p:nvSpPr>
        <p:spPr>
          <a:xfrm>
            <a:off x="5651640" y="486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Comic Sans MS"/>
              </a:rPr>
              <a:t>изл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22"/>
          <p:cNvSpPr/>
          <p:nvPr/>
        </p:nvSpPr>
        <p:spPr>
          <a:xfrm>
            <a:off x="1547640" y="4005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4"/>
          <p:cNvSpPr/>
          <p:nvPr/>
        </p:nvSpPr>
        <p:spPr>
          <a:xfrm>
            <a:off x="395280" y="4653000"/>
            <a:ext cx="244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ередача внутренней энергии от одного тела к другому или от одной его части к друг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5"/>
          <p:cNvSpPr/>
          <p:nvPr/>
        </p:nvSpPr>
        <p:spPr>
          <a:xfrm>
            <a:off x="450072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26"/>
          <p:cNvSpPr/>
          <p:nvPr/>
        </p:nvSpPr>
        <p:spPr>
          <a:xfrm>
            <a:off x="3564000" y="5373720"/>
            <a:ext cx="19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27"/>
          <p:cNvSpPr/>
          <p:nvPr/>
        </p:nvSpPr>
        <p:spPr>
          <a:xfrm>
            <a:off x="3203640" y="5445000"/>
            <a:ext cx="27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нергия переносится потоками жидкости или г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28"/>
          <p:cNvSpPr/>
          <p:nvPr/>
        </p:nvSpPr>
        <p:spPr>
          <a:xfrm>
            <a:off x="6372360" y="5300640"/>
            <a:ext cx="2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9"/>
          <p:cNvSpPr/>
          <p:nvPr/>
        </p:nvSpPr>
        <p:spPr>
          <a:xfrm>
            <a:off x="5867280" y="5805360"/>
            <a:ext cx="273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еренос энергии с помощью невидимых глазу тепловых луч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30"/>
          <p:cNvSpPr/>
          <p:nvPr/>
        </p:nvSpPr>
        <p:spPr>
          <a:xfrm>
            <a:off x="752472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31"/>
          <p:cNvSpPr/>
          <p:nvPr/>
        </p:nvSpPr>
        <p:spPr>
          <a:xfrm>
            <a:off x="6156360" y="3789360"/>
            <a:ext cx="29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00"/>
                </a:solidFill>
                <a:latin typeface="Arial"/>
              </a:rPr>
              <a:t>Количество теплоты – энергия, которую получает или отдает тело в процессе теплопере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5" descr="Демонстрация процесса теплопроводности"/>
          <p:cNvPicPr/>
          <p:nvPr/>
        </p:nvPicPr>
        <p:blipFill>
          <a:blip r:embed="rId1"/>
          <a:stretch/>
        </p:blipFill>
        <p:spPr>
          <a:xfrm>
            <a:off x="3071880" y="1428840"/>
            <a:ext cx="2994120" cy="24494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Res" descr="resCB645574-2931-4DE9-A28A-098FA9B78087"/>
          <p:cNvPicPr/>
          <p:nvPr/>
        </p:nvPicPr>
        <p:blipFill>
          <a:blip r:embed="rId2"/>
          <a:srcRect l="5821" t="44127" r="8731" b="33384"/>
          <a:stretch/>
        </p:blipFill>
        <p:spPr>
          <a:xfrm>
            <a:off x="684360" y="4724280"/>
            <a:ext cx="8137440" cy="138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Res" descr="resAD0D4DBF-3EA5-4BE4-833F-99B2A857487D"/>
          <p:cNvPicPr/>
          <p:nvPr/>
        </p:nvPicPr>
        <p:blipFill>
          <a:blip r:embed="rId1"/>
          <a:srcRect l="18195" t="6794" r="20002" b="4895"/>
          <a:stretch/>
        </p:blipFill>
        <p:spPr>
          <a:xfrm>
            <a:off x="4788000" y="2205000"/>
            <a:ext cx="3987720" cy="410364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Res" descr="res84077F26-889F-440E-9E74-61D98A760C3F"/>
          <p:cNvPicPr/>
          <p:nvPr/>
        </p:nvPicPr>
        <p:blipFill>
          <a:blip r:embed="rId2"/>
          <a:srcRect l="1945" t="4326" r="3940" b="3138"/>
          <a:stretch/>
        </p:blipFill>
        <p:spPr>
          <a:xfrm>
            <a:off x="179280" y="333360"/>
            <a:ext cx="3961080" cy="3763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Res" descr="res4162CA22-C697-4451-A61E-0F9291CD5816"/>
          <p:cNvPicPr/>
          <p:nvPr/>
        </p:nvPicPr>
        <p:blipFill>
          <a:blip r:embed="rId1"/>
          <a:srcRect l="1678" t="8504" r="0" b="8873"/>
          <a:stretch/>
        </p:blipFill>
        <p:spPr>
          <a:xfrm>
            <a:off x="4356000" y="3357720"/>
            <a:ext cx="4537080" cy="350028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Res" descr="resE41DDE63-E9B5-4A07-BC27-AA449CA3C695"/>
          <p:cNvPicPr/>
          <p:nvPr/>
        </p:nvPicPr>
        <p:blipFill>
          <a:blip r:embed="rId2"/>
          <a:srcRect l="2114" t="0" r="2164" b="2506"/>
          <a:stretch/>
        </p:blipFill>
        <p:spPr>
          <a:xfrm>
            <a:off x="324000" y="260280"/>
            <a:ext cx="3887640" cy="3629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179280" y="-36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Если в жаркий день лист растения приложить к щеке (совсем необязательно его срывать), то можно почувствовать, что он прохладный. Почему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) растение поглощает тепло из окружающей среды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 растение испаряет в окружающую среду воду, из-за этого внутренняя энергия листа уменьшается и уменьшается его температура;   в) лист растения плохо проводить тепло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2. Когда организм переохлаждается, мышцы начинают дрожать. Какие превращения энергии при этом происходят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) внутренняя энергия превращается в тепло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 механическая энергия превращается во внутреннюю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) внутренняя энергия превращается в механическую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3. Как изменяется внутренняя энергия человека при переохлаждении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) изменяется незначительно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 увеличивается, т.к. идет теплообмен с окружающей средой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) уменьшается энергия, снижается обмен веществ и замедляется деятельность мозг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4. Почему густая шерсть верблюда защищает его от холода и жары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) между шерстинками есть воздух, который обладает плохой теплопроводностью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 шерсть хорошо отражает тепловое излучение;    в) у верблюда большая жировая прослой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5. Почему “шубка” спасает шмелей от вымерзания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) “шубка” задерживает конвекционные потоки, замедляет теплоотдачу и лучеиспускание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 нет конвекционных потоков;   в) нет теплообмена с окружающей средой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6. За сутки человеческий организм получает в среднем 10.900 кДж энергии, а теряет теплопроводностью и конвекцией 2260 кДж; излучением 3390 кДж; испарением 1880 кДж. Какое количество энергии остается для нормального функционирования организма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) 2370 кДж;   б) 3370 кДж;    в) 0 кДж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65534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omic Sans MS"/>
              </a:rPr>
              <a:t>Тепловые процессы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Line 6"/>
          <p:cNvSpPr/>
          <p:nvPr/>
        </p:nvSpPr>
        <p:spPr>
          <a:xfrm flipH="1">
            <a:off x="1402920" y="549360"/>
            <a:ext cx="1368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7"/>
          <p:cNvSpPr/>
          <p:nvPr/>
        </p:nvSpPr>
        <p:spPr>
          <a:xfrm>
            <a:off x="2124000" y="1197000"/>
            <a:ext cx="19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кристалл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8"/>
          <p:cNvSpPr/>
          <p:nvPr/>
        </p:nvSpPr>
        <p:spPr>
          <a:xfrm>
            <a:off x="539640" y="11253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пл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9"/>
          <p:cNvSpPr/>
          <p:nvPr/>
        </p:nvSpPr>
        <p:spPr>
          <a:xfrm>
            <a:off x="4427640" y="126828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паро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0"/>
          <p:cNvSpPr/>
          <p:nvPr/>
        </p:nvSpPr>
        <p:spPr>
          <a:xfrm>
            <a:off x="6732720" y="126828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конденс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1"/>
          <p:cNvSpPr/>
          <p:nvPr/>
        </p:nvSpPr>
        <p:spPr>
          <a:xfrm flipH="1">
            <a:off x="3347640" y="620640"/>
            <a:ext cx="144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2"/>
          <p:cNvSpPr/>
          <p:nvPr/>
        </p:nvSpPr>
        <p:spPr>
          <a:xfrm>
            <a:off x="4932360" y="620640"/>
            <a:ext cx="144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3"/>
          <p:cNvSpPr/>
          <p:nvPr/>
        </p:nvSpPr>
        <p:spPr>
          <a:xfrm>
            <a:off x="6227640" y="62064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"/>
          <p:cNvSpPr/>
          <p:nvPr/>
        </p:nvSpPr>
        <p:spPr>
          <a:xfrm>
            <a:off x="1116000" y="14842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5"/>
          <p:cNvSpPr/>
          <p:nvPr/>
        </p:nvSpPr>
        <p:spPr>
          <a:xfrm>
            <a:off x="3059280" y="162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6"/>
          <p:cNvSpPr/>
          <p:nvPr/>
        </p:nvSpPr>
        <p:spPr>
          <a:xfrm flipH="1">
            <a:off x="4500360" y="256536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7"/>
          <p:cNvSpPr/>
          <p:nvPr/>
        </p:nvSpPr>
        <p:spPr>
          <a:xfrm>
            <a:off x="5724360" y="256536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8"/>
          <p:cNvSpPr/>
          <p:nvPr/>
        </p:nvSpPr>
        <p:spPr>
          <a:xfrm>
            <a:off x="7451640" y="1700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9"/>
          <p:cNvSpPr/>
          <p:nvPr/>
        </p:nvSpPr>
        <p:spPr>
          <a:xfrm>
            <a:off x="0" y="198900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00"/>
                </a:solidFill>
                <a:latin typeface="Arial"/>
              </a:rPr>
              <a:t>Твердое тело</a:t>
            </a:r>
            <a:r>
              <a:rPr b="1" i="1" lang="ru-RU" sz="1400" spc="-1" strike="noStrike">
                <a:solidFill>
                  <a:srgbClr val="333300"/>
                </a:solidFill>
                <a:latin typeface="Arial"/>
                <a:ea typeface="Arial"/>
              </a:rPr>
              <a:t>→жид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20"/>
          <p:cNvSpPr/>
          <p:nvPr/>
        </p:nvSpPr>
        <p:spPr>
          <a:xfrm>
            <a:off x="1979640" y="2421000"/>
            <a:ext cx="180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21"/>
          <p:cNvSpPr/>
          <p:nvPr/>
        </p:nvSpPr>
        <p:spPr>
          <a:xfrm>
            <a:off x="1835280" y="24922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00"/>
                </a:solidFill>
                <a:latin typeface="Arial"/>
              </a:rPr>
              <a:t>жидкость</a:t>
            </a:r>
            <a:r>
              <a:rPr b="1" i="1" lang="ru-RU" sz="1400" spc="-1" strike="noStrike">
                <a:solidFill>
                  <a:srgbClr val="333300"/>
                </a:solidFill>
                <a:latin typeface="Arial"/>
                <a:ea typeface="Arial"/>
              </a:rPr>
              <a:t>→ тв.те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22"/>
          <p:cNvSpPr/>
          <p:nvPr/>
        </p:nvSpPr>
        <p:spPr>
          <a:xfrm>
            <a:off x="3708360" y="306864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00"/>
                </a:solidFill>
                <a:latin typeface="Arial"/>
              </a:rPr>
              <a:t>испа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23"/>
          <p:cNvSpPr/>
          <p:nvPr/>
        </p:nvSpPr>
        <p:spPr>
          <a:xfrm>
            <a:off x="5651640" y="3068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00"/>
                </a:solidFill>
                <a:latin typeface="Arial"/>
              </a:rPr>
              <a:t>кип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24"/>
          <p:cNvSpPr/>
          <p:nvPr/>
        </p:nvSpPr>
        <p:spPr>
          <a:xfrm>
            <a:off x="5364000" y="177336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25"/>
          <p:cNvSpPr/>
          <p:nvPr/>
        </p:nvSpPr>
        <p:spPr>
          <a:xfrm>
            <a:off x="4572000" y="2133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00"/>
                </a:solidFill>
                <a:latin typeface="Arial"/>
              </a:rPr>
              <a:t>жидкость</a:t>
            </a:r>
            <a:r>
              <a:rPr b="1" i="1" lang="ru-RU" sz="1400" spc="-1" strike="noStrike">
                <a:solidFill>
                  <a:srgbClr val="333300"/>
                </a:solidFill>
                <a:latin typeface="Arial"/>
                <a:ea typeface="Arial"/>
              </a:rPr>
              <a:t>→ п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26"/>
          <p:cNvSpPr/>
          <p:nvPr/>
        </p:nvSpPr>
        <p:spPr>
          <a:xfrm>
            <a:off x="6804000" y="2133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00"/>
                </a:solidFill>
                <a:latin typeface="Arial"/>
              </a:rPr>
              <a:t>пар</a:t>
            </a:r>
            <a:r>
              <a:rPr b="1" i="1" lang="ru-RU" sz="1400" spc="-1" strike="noStrike">
                <a:solidFill>
                  <a:srgbClr val="333300"/>
                </a:solidFill>
                <a:latin typeface="Arial"/>
                <a:ea typeface="Arial"/>
              </a:rPr>
              <a:t>→ жид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27"/>
          <p:cNvSpPr/>
          <p:nvPr/>
        </p:nvSpPr>
        <p:spPr>
          <a:xfrm flipV="1">
            <a:off x="2987640" y="364500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28"/>
          <p:cNvSpPr/>
          <p:nvPr/>
        </p:nvSpPr>
        <p:spPr>
          <a:xfrm>
            <a:off x="2484360" y="544500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29"/>
          <p:cNvSpPr/>
          <p:nvPr/>
        </p:nvSpPr>
        <p:spPr>
          <a:xfrm>
            <a:off x="2556000" y="371628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30"/>
          <p:cNvSpPr/>
          <p:nvPr/>
        </p:nvSpPr>
        <p:spPr>
          <a:xfrm>
            <a:off x="5508720" y="5229360"/>
            <a:ext cx="503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31"/>
          <p:cNvSpPr/>
          <p:nvPr/>
        </p:nvSpPr>
        <p:spPr>
          <a:xfrm>
            <a:off x="6588000" y="551664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32"/>
          <p:cNvSpPr/>
          <p:nvPr/>
        </p:nvSpPr>
        <p:spPr>
          <a:xfrm>
            <a:off x="2916360" y="573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33"/>
          <p:cNvSpPr/>
          <p:nvPr/>
        </p:nvSpPr>
        <p:spPr>
          <a:xfrm>
            <a:off x="291636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34"/>
          <p:cNvSpPr/>
          <p:nvPr/>
        </p:nvSpPr>
        <p:spPr>
          <a:xfrm>
            <a:off x="2556000" y="558972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35"/>
          <p:cNvSpPr/>
          <p:nvPr/>
        </p:nvSpPr>
        <p:spPr>
          <a:xfrm>
            <a:off x="2340000" y="43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36"/>
          <p:cNvSpPr/>
          <p:nvPr/>
        </p:nvSpPr>
        <p:spPr>
          <a:xfrm flipV="1">
            <a:off x="2987640" y="5444640"/>
            <a:ext cx="432000" cy="2890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37"/>
          <p:cNvSpPr/>
          <p:nvPr/>
        </p:nvSpPr>
        <p:spPr>
          <a:xfrm>
            <a:off x="3419640" y="5445000"/>
            <a:ext cx="431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38"/>
          <p:cNvSpPr/>
          <p:nvPr/>
        </p:nvSpPr>
        <p:spPr>
          <a:xfrm flipV="1">
            <a:off x="3851280" y="4508280"/>
            <a:ext cx="504720" cy="93636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39"/>
          <p:cNvSpPr/>
          <p:nvPr/>
        </p:nvSpPr>
        <p:spPr>
          <a:xfrm>
            <a:off x="4356000" y="4508640"/>
            <a:ext cx="7923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40"/>
          <p:cNvSpPr/>
          <p:nvPr/>
        </p:nvSpPr>
        <p:spPr>
          <a:xfrm>
            <a:off x="5148360" y="4508640"/>
            <a:ext cx="431640" cy="93636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41"/>
          <p:cNvSpPr/>
          <p:nvPr/>
        </p:nvSpPr>
        <p:spPr>
          <a:xfrm>
            <a:off x="5580000" y="5445000"/>
            <a:ext cx="5032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42"/>
          <p:cNvSpPr/>
          <p:nvPr/>
        </p:nvSpPr>
        <p:spPr>
          <a:xfrm>
            <a:off x="6084720" y="5445000"/>
            <a:ext cx="43344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44"/>
          <p:cNvSpPr/>
          <p:nvPr/>
        </p:nvSpPr>
        <p:spPr>
          <a:xfrm>
            <a:off x="3132000" y="5589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45"/>
          <p:cNvSpPr/>
          <p:nvPr/>
        </p:nvSpPr>
        <p:spPr>
          <a:xfrm>
            <a:off x="3492360" y="515772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46"/>
          <p:cNvSpPr/>
          <p:nvPr/>
        </p:nvSpPr>
        <p:spPr>
          <a:xfrm>
            <a:off x="3851280" y="47242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47"/>
          <p:cNvSpPr/>
          <p:nvPr/>
        </p:nvSpPr>
        <p:spPr>
          <a:xfrm>
            <a:off x="4643280" y="4149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48"/>
          <p:cNvSpPr/>
          <p:nvPr/>
        </p:nvSpPr>
        <p:spPr>
          <a:xfrm>
            <a:off x="5292720" y="472428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49"/>
          <p:cNvSpPr/>
          <p:nvPr/>
        </p:nvSpPr>
        <p:spPr>
          <a:xfrm>
            <a:off x="5580000" y="5157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50"/>
          <p:cNvSpPr/>
          <p:nvPr/>
        </p:nvSpPr>
        <p:spPr>
          <a:xfrm>
            <a:off x="6084720" y="580536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0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9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Количество теплоты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812" name=""/>
          <p:cNvGraphicFramePr/>
          <p:nvPr/>
        </p:nvGraphicFramePr>
        <p:xfrm>
          <a:off x="179280" y="981000"/>
          <a:ext cx="8640720" cy="2328840"/>
        </p:xfrm>
        <a:graphic>
          <a:graphicData uri="http://schemas.openxmlformats.org/drawingml/2006/table">
            <a:tbl>
              <a:tblPr/>
              <a:tblGrid>
                <a:gridCol w="2160720"/>
                <a:gridCol w="2160720"/>
                <a:gridCol w="2158920"/>
                <a:gridCol w="216036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для нагревания тела или выделяемого им при охлажд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выделяемой при полном сгорании топли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плавления кристаллического тел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деляемое при кристал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превращения жидкости в пар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 в жидк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13" name="Object 96"/>
              <p:cNvSpPr txBox="1"/>
              <p:nvPr/>
            </p:nvSpPr>
            <p:spPr>
              <a:xfrm>
                <a:off x="6464160" y="2496960"/>
                <a:ext cx="4064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2476080" y="503208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815" name="Text Box 30"/>
          <p:cNvSpPr/>
          <p:nvPr/>
        </p:nvSpPr>
        <p:spPr>
          <a:xfrm>
            <a:off x="250920" y="2924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Comic Sans MS"/>
              </a:rPr>
              <a:t>Q=cm(t2 –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31"/>
          <p:cNvSpPr/>
          <p:nvPr/>
        </p:nvSpPr>
        <p:spPr>
          <a:xfrm>
            <a:off x="2627280" y="2781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Comic Sans MS"/>
              </a:rPr>
              <a:t>Q=q*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32"/>
          <p:cNvSpPr/>
          <p:nvPr/>
        </p:nvSpPr>
        <p:spPr>
          <a:xfrm>
            <a:off x="4643280" y="2781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Comic Sans MS"/>
              </a:rPr>
              <a:t>Q=</a:t>
            </a:r>
            <a:r>
              <a:rPr b="1" i="1" lang="en-US" sz="3200" spc="-1" strike="noStrike">
                <a:solidFill>
                  <a:srgbClr val="a50021"/>
                </a:solidFill>
                <a:latin typeface="Symbol"/>
                <a:ea typeface="Symbol"/>
              </a:rPr>
              <a:t></a:t>
            </a:r>
            <a:r>
              <a:rPr b="1" i="1" lang="en-US" sz="3200" spc="-1" strike="noStrike">
                <a:solidFill>
                  <a:srgbClr val="a50021"/>
                </a:solidFill>
                <a:latin typeface="Comic Sans MS"/>
              </a:rPr>
              <a:t>*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33"/>
          <p:cNvSpPr/>
          <p:nvPr/>
        </p:nvSpPr>
        <p:spPr>
          <a:xfrm>
            <a:off x="7020000" y="2708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Comic Sans MS"/>
              </a:rPr>
              <a:t>Q=L*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539640" y="3933720"/>
          <a:ext cx="7848720" cy="2773440"/>
        </p:xfrm>
        <a:graphic>
          <a:graphicData uri="http://schemas.openxmlformats.org/drawingml/2006/table">
            <a:tbl>
              <a:tblPr/>
              <a:tblGrid>
                <a:gridCol w="925560"/>
                <a:gridCol w="4919760"/>
                <a:gridCol w="2003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наз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0" name="Text Box 83"/>
          <p:cNvSpPr/>
          <p:nvPr/>
        </p:nvSpPr>
        <p:spPr>
          <a:xfrm>
            <a:off x="1835280" y="4581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Comic Sans MS"/>
              </a:rPr>
              <a:t>Удельная теплоёмкость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84"/>
          <p:cNvSpPr/>
          <p:nvPr/>
        </p:nvSpPr>
        <p:spPr>
          <a:xfrm>
            <a:off x="1619280" y="515772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Comic Sans MS"/>
              </a:rPr>
              <a:t>Удельная теплота сгорания топл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85"/>
          <p:cNvSpPr/>
          <p:nvPr/>
        </p:nvSpPr>
        <p:spPr>
          <a:xfrm>
            <a:off x="1979640" y="57340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Comic Sans MS"/>
              </a:rPr>
              <a:t>Удельная теплота пл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86"/>
          <p:cNvSpPr/>
          <p:nvPr/>
        </p:nvSpPr>
        <p:spPr>
          <a:xfrm>
            <a:off x="1908000" y="623736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Comic Sans MS"/>
              </a:rPr>
              <a:t>Удельная теплота паро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Object 145"/>
              <p:cNvSpPr txBox="1"/>
              <p:nvPr/>
            </p:nvSpPr>
            <p:spPr>
              <a:xfrm>
                <a:off x="6588000" y="5661000"/>
                <a:ext cx="343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Object 146"/>
              <p:cNvSpPr txBox="1"/>
              <p:nvPr/>
            </p:nvSpPr>
            <p:spPr>
              <a:xfrm>
                <a:off x="6659640" y="6165720"/>
                <a:ext cx="342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Object 147"/>
              <p:cNvSpPr txBox="1"/>
              <p:nvPr/>
            </p:nvSpPr>
            <p:spPr>
              <a:xfrm>
                <a:off x="6588000" y="5157720"/>
                <a:ext cx="343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wipe dir="r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7500"/>
                            </p:stCondLst>
                            <p:childTnLst>
                              <p:par>
                                <p:cTn id="4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7:57:56Z</dcterms:created>
  <dc:creator>ЛИЛЯ</dc:creator>
  <dc:description/>
  <dc:language>en-US</dc:language>
  <cp:lastModifiedBy>Пользователь</cp:lastModifiedBy>
  <dcterms:modified xsi:type="dcterms:W3CDTF">2012-11-11T11:51:07Z</dcterms:modified>
  <cp:revision>9</cp:revision>
  <dc:subject/>
  <dc:title>Слайд 1</dc:title>
</cp:coreProperties>
</file>