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.png" ContentType="image/png"/>
  <Override PartName="/ppt/media/image9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5.png" ContentType="image/png"/>
  <Override PartName="/ppt/media/image10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A3BA9-E505-4B7C-9645-700D7F927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190EF-A801-44E3-9179-7B87B6B70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F168B-FD17-48CC-AAE3-361CE4677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DF43D-9AFB-46E3-B1B0-88C15A1B6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E6ED6-7788-4020-A662-8ECF02354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573D5-FCF6-4DD4-84B3-5D1EF2B25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838AC-61B0-46B7-AE7F-6384BEF3D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9BD32-78FF-447A-93DC-4515A36DC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6E272-32C6-46A8-85D3-0BDEC4E94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B7215-735C-4261-9EBD-4774C62C6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7C782-F4B3-4403-A5A9-F42156229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E93E0-DAD2-4130-BF06-3691D9E2A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770A5-3010-415F-80B9-C5CED58A6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02D44-0EF2-4710-B709-49A58A9B1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3D76A-285A-4EE1-9197-5156A66B5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87770-30CE-4245-BDC1-8BF7CFF46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D4FB6-C883-456D-A886-06727B5C3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DA6CF-39D5-4B3A-A67E-0624DD72A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4AFDA-BFAA-49B6-B96E-8775EE86F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E4561-4D4E-4AE6-BFDC-54C425991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666B7-38FF-4F36-B816-29B7D3945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E9568-4DAC-4B61-BE8E-A50A3DD41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37F87-4F28-4B9E-B04F-E4CADBDCD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52FC5-BB42-43B0-B8F2-38950081D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3F5FD-8324-49D1-A1E3-B46174726E64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AAB89-9FA6-4369-ADCD-3F41A14629AB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2362320" y="228600"/>
            <a:ext cx="4457520" cy="64008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-757080" y="630864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634066" fill="hold"/>
                                        <p:tgtEl>
                                          <p:spTgt spid="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76364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4500720" y="0"/>
            <a:ext cx="4321080" cy="6191280"/>
          </a:xfrm>
          <a:prstGeom prst="rect">
            <a:avLst/>
          </a:prstGeom>
          <a:ln w="57240">
            <a:solidFill>
              <a:srgbClr val="990000"/>
            </a:solidFill>
            <a:miter/>
          </a:ln>
        </p:spPr>
      </p:pic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1280" y="7650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800000"/>
                </a:solidFill>
                <a:latin typeface="Arial"/>
              </a:rPr>
              <a:t>Высоцкий слушае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800000"/>
                </a:solidFill>
                <a:latin typeface="Arial"/>
              </a:rPr>
              <a:t>Симонов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800000"/>
                </a:solidFill>
                <a:latin typeface="Arial"/>
              </a:rPr>
              <a:t>как завороженны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800000"/>
                </a:solidFill>
                <a:latin typeface="Arial"/>
              </a:rPr>
              <a:t>Он ощути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800000"/>
                </a:solidFill>
                <a:latin typeface="Arial"/>
              </a:rPr>
              <a:t>по-настоящему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800000"/>
                </a:solidFill>
                <a:latin typeface="Arial"/>
              </a:rPr>
              <a:t>что такое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800000"/>
                </a:solidFill>
                <a:latin typeface="Arial"/>
              </a:rPr>
              <a:t>быть на войн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800000"/>
                </a:solidFill>
                <a:latin typeface="Arial"/>
              </a:rPr>
              <a:t>Эта встреч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800000"/>
                </a:solidFill>
                <a:latin typeface="Arial"/>
              </a:rPr>
              <a:t>с писател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800000"/>
                </a:solidFill>
                <a:latin typeface="Arial"/>
              </a:rPr>
              <a:t>Константином Симоновы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800000"/>
                </a:solidFill>
                <a:latin typeface="Arial"/>
              </a:rPr>
              <a:t>имела в дальнейш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800000"/>
                </a:solidFill>
                <a:latin typeface="Arial"/>
              </a:rPr>
              <a:t>очень большое знач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800000"/>
                </a:solidFill>
                <a:latin typeface="Arial"/>
              </a:rPr>
              <a:t>при написании </a:t>
            </a:r>
            <a:r>
              <a:rPr b="1" i="1" lang="en-US" sz="1800" spc="-1" strike="noStrike" u="sng">
                <a:solidFill>
                  <a:srgbClr val="800000"/>
                </a:solidFill>
                <a:uFillTx/>
                <a:latin typeface="Arial"/>
              </a:rPr>
              <a:t>военных песе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2627280" y="765000"/>
            <a:ext cx="3095640" cy="4755600"/>
            <a:chOff x="2627280" y="765000"/>
            <a:chExt cx="3095640" cy="4755600"/>
          </a:xfrm>
        </p:grpSpPr>
        <p:sp>
          <p:nvSpPr>
            <p:cNvPr id="122" name=""/>
            <p:cNvSpPr/>
            <p:nvPr/>
          </p:nvSpPr>
          <p:spPr>
            <a:xfrm>
              <a:off x="2627280" y="765000"/>
              <a:ext cx="2952720" cy="3384360"/>
            </a:xfrm>
            <a:prstGeom prst="octagon">
              <a:avLst>
                <a:gd name="adj" fmla="val 29287"/>
              </a:avLst>
            </a:prstGeom>
            <a:blipFill rotWithShape="0">
              <a:blip r:embed="rId1"/>
              <a:srcRect/>
              <a:stretch/>
            </a:blipFill>
            <a:ln w="76320">
              <a:solidFill>
                <a:srgbClr val="363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772000" y="5060880"/>
              <a:ext cx="2950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63000"/>
                  </a:solidFill>
                  <a:latin typeface="Arial Black"/>
                </a:rPr>
                <a:t>СИМОНОВ К.М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-1116000" y="595008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5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000"/>
                            </p:stCondLst>
                            <p:childTnLst>
                              <p:par>
                                <p:cTn id="6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8" dur="146690" fill="hold"/>
                                        <p:tgtEl>
                                          <p:spTgt spid="1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2717640" y="0"/>
            <a:ext cx="4527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998720" y="0"/>
            <a:ext cx="5145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0000"/>
                </a:solidFill>
                <a:latin typeface="Garamond"/>
              </a:rPr>
              <a:t>1941 - 1945гг.</a:t>
            </a:r>
            <a:br>
              <a:rPr sz="38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268360" y="1052640"/>
            <a:ext cx="4457880" cy="40003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1547640" y="836640"/>
            <a:ext cx="6193080" cy="466236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1625400" y="5610240"/>
            <a:ext cx="623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Великая война – Великая Победа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-1189080" y="580536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4" dur="66032" fill="hold"/>
                                        <p:tgtEl>
                                          <p:spTgt spid="1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2556000" y="2060640"/>
            <a:ext cx="3752640" cy="4498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067280" y="3357720"/>
            <a:ext cx="609480" cy="9205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3203640" y="2349360"/>
            <a:ext cx="2965320" cy="414972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 txBox="1"/>
          <p:nvPr/>
        </p:nvSpPr>
        <p:spPr>
          <a:xfrm>
            <a:off x="1619280" y="0"/>
            <a:ext cx="6697800" cy="3141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Impact"/>
              </a:rPr>
              <a:t>Поэма А.Т.Твардовског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Impact"/>
              </a:rPr>
              <a:t>"Василий Теркин"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508720" y="1413000"/>
            <a:ext cx="3103560" cy="449892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395280" y="1916280"/>
            <a:ext cx="45720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Tahoma"/>
              </a:rPr>
              <a:t>Скажем откровенн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Tahoma"/>
              </a:rPr>
              <a:t>Просто парень сам соб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Tahoma"/>
              </a:rPr>
              <a:t>Он обыкновенны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Tahoma"/>
              </a:rPr>
              <a:t>Впрочем, парень хоть куд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Tahoma"/>
              </a:rPr>
              <a:t>Парень в этом род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Tahoma"/>
              </a:rPr>
              <a:t>В каждой роте есть всегд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Tahoma"/>
              </a:rPr>
              <a:t>Да и в каждом взвод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3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3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3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4535640" y="1773360"/>
            <a:ext cx="4608360" cy="37940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250920" y="2060640"/>
            <a:ext cx="457200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b812f"/>
                </a:solidFill>
                <a:latin typeface="Arial"/>
              </a:rPr>
              <a:t>Центральный эпиз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b812f"/>
                </a:solidFill>
                <a:latin typeface="Arial"/>
              </a:rPr>
              <a:t> – </a:t>
            </a:r>
            <a:r>
              <a:rPr b="0" lang="en-US" sz="2800" spc="-1" strike="noStrike">
                <a:solidFill>
                  <a:srgbClr val="3b812f"/>
                </a:solidFill>
                <a:latin typeface="Arial"/>
              </a:rPr>
              <a:t>встреча Терк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b812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b812f"/>
                </a:solidFill>
                <a:latin typeface="Arial"/>
              </a:rPr>
              <a:t>с танкист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-828720" y="522936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2000"/>
                            </p:stCondLst>
                            <p:childTnLst>
                              <p:par>
                                <p:cTn id="3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" dur="151797" fill="hold"/>
                                        <p:tgtEl>
                                          <p:spTgt spid="1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Центральным эпизодом главы «Гармонь» является встреча Теркина с танкистами, которых герой смог немного развеселить, поднять их дух. Здесь проявился его такт и деликатность - не тревожа светлую память погибшего командира, Теркин добивается своей игрой возникновения светлых, теплых чувств танкистов, им даже начинает казаться, что с этим незнакомым парнем они уже встречались. Теркин достоин славы их командира, танкисты дарят ему самое дорогое - гармон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омандир наш был любител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Это - память про него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rcRect l="950" t="0" r="0" b="0"/>
          <a:stretch/>
        </p:blipFill>
        <p:spPr>
          <a:xfrm>
            <a:off x="2268360" y="189000"/>
            <a:ext cx="5191200" cy="39909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rcRect l="950" t="0" r="0" b="0"/>
          <a:stretch/>
        </p:blipFill>
        <p:spPr>
          <a:xfrm>
            <a:off x="609480" y="228600"/>
            <a:ext cx="7925040" cy="61516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-900000" y="580536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" dur="343196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979640" y="260280"/>
            <a:ext cx="5153040" cy="32004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57200" y="476280"/>
            <a:ext cx="8686800" cy="539424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-900000" y="522936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2" dur="343196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6084720" y="981000"/>
            <a:ext cx="2298960" cy="4530960"/>
          </a:xfrm>
          <a:prstGeom prst="rect">
            <a:avLst/>
          </a:prstGeom>
          <a:ln w="38160">
            <a:solidFill>
              <a:srgbClr val="5f5f5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076720" y="189000"/>
            <a:ext cx="3889440" cy="6480000"/>
          </a:xfrm>
          <a:prstGeom prst="rect">
            <a:avLst/>
          </a:prstGeom>
          <a:ln w="38160">
            <a:solidFill>
              <a:srgbClr val="5f5f5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114" name=""/>
          <p:cNvSpPr/>
          <p:nvPr/>
        </p:nvSpPr>
        <p:spPr>
          <a:xfrm>
            <a:off x="250920" y="333360"/>
            <a:ext cx="4572000" cy="76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Осенью 1962 года Высоцкий снимается в фильме «Живые и мёртвые». На съёмках Константин Симонов беседует с артистам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Arial"/>
              </a:rPr>
              <a:t>Представьте себе, что два человека сходятся не на жизнь, а на смерть в кровавом поединке. Солдаты рвали, резали, кусали- превращались в дикого зверя, чтобы выжить, победи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-1116000" y="616572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8" dur="84924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1T17:38:11Z</dcterms:created>
  <dc:creator>1</dc:creator>
  <dc:description/>
  <dc:language>en-US</dc:language>
  <cp:lastModifiedBy>МОУ СОШ №15</cp:lastModifiedBy>
  <dcterms:modified xsi:type="dcterms:W3CDTF">2009-12-22T11:02:58Z</dcterms:modified>
  <cp:revision>5</cp:revision>
  <dc:subject/>
  <dc:title>Слайд 1</dc:title>
</cp:coreProperties>
</file>