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656-13D8-4F07-94D7-A7B322D8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E20-8410-4DD4-B03B-2DAC690E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659-CDDE-47CA-8C5D-F414C6B8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A06-933C-4E18-BDD4-CEA81ED3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D482-2F93-41E6-B2CC-0C45519A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7F88-6B99-4DF9-AF93-E1792D52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C15F-D95C-4D80-A690-7872C973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F7E4-97E3-4B3A-AA08-03DDDB32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89BA-9D77-4DB8-908E-6BDF4BE6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B40A-5C99-436A-A95C-C9909060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80DF-EA38-4C11-958C-45A36551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783-1CEC-4395-9111-9497B10D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1F94-8D3D-4877-9516-8B44ECF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3A72-B888-4D7A-95B0-368AF8A3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8898-726F-4D21-8952-9F94A23E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4D01-B9B7-4FCF-A1D0-876DCCA1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E250-2344-421B-951D-2396B8AD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D60F-D2FC-4B5F-8E9B-9AB533B4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D8EC-D1C4-4274-8E18-EBD0FAB8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9228-7EE6-4F3A-86AD-204BD1D8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02F4-15AB-4DE4-A2AC-949F6F8D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0A36-EDD9-420B-AFB1-458853C8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D16-0C34-4DD3-8373-ADD8893E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0390-C3C1-4F9F-A81D-F547A9B2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CF28-58AD-409C-B200-BCA08667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8093-D9E8-4EB3-83C0-17F151A4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C89B-4623-4CB4-A56E-AE383454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88B2-6618-471D-8B72-F4CD84E4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12F7-CAEB-431C-A743-08753E8F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06F3-5042-487A-861B-1BD9A507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F602C-41A2-4459-805A-F9B6BEC7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93230-5FD5-4927-A9AC-2168D84B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4642-8E43-480A-9EFB-876B7C89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B14-68AF-466B-AA65-1426FD0C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61EF-FD65-4B70-BA83-28A97FC2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A4BC1-EFE6-414D-B18D-EFE94067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E8AD5-4490-4E66-BAB8-F82038B8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398D-8F7E-43C0-8C64-347DC004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5911-BB20-4E69-A774-0A8C72C1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B0FD-990E-4080-88E1-9533706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FE4B-6B96-4945-B2FD-1B0B77B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5E12-CE67-4F49-B2C7-16D6A818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B94B-DEBC-49AC-8FE7-CB1BBED4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A5D66-2E16-4982-9ECC-3EA12BED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78A-61F0-4BB6-9D66-BC588675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B32D-A0EA-4CF8-B19E-3FC6E870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147D0-B9F4-443B-9B9C-8CCCF4D0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AC37-0BF0-446E-91EC-1AB053E2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1080A-C93D-4C7F-AD52-F43E567B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BAC6E-A89D-4182-AB90-B9DDD538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1427-85B2-47DA-8A99-1BB70039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CDDA-6EF0-4AFB-ADC1-0E972188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40BC-7294-45A2-B49B-D94E1E49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03F9-1680-4698-B78E-8866EEF9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745B-6956-4F8C-A6F1-420C477D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31C-8978-4786-91A6-4D631F3E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368F-6036-4F5C-BD81-0DDB59ED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728-6501-47D7-B0BC-9640AB6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1AA-ED8A-49F7-A951-FD444ED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934-B328-4696-9161-E9B8E5DD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6759-CCC3-4C78-9B1F-1101F5866174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751-DD59-4DE7-A73E-51D3011F58A8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E3F8-A3BB-49AB-A9A7-510BD9932A6E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376D-03FA-4D47-83E1-F25710D95998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E8A4-537F-47FE-B9D8-CD459F7EE6FE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40428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3d68"/>
                </a:solidFill>
                <a:latin typeface="Verdana"/>
              </a:rPr>
              <a:t>Тема магистерской диссертации</a:t>
            </a:r>
            <a:br>
              <a:rPr sz="3200"/>
            </a:br>
            <a:r>
              <a:rPr b="1" lang="ru-RU" sz="3200" spc="-1" strike="noStrike">
                <a:solidFill>
                  <a:srgbClr val="b83d68"/>
                </a:solidFill>
                <a:latin typeface="Verdana"/>
              </a:rPr>
              <a:t> «Современные формы сопровождения учителя в методической работе школы»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00000" y="4149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полнила студентка 2 курса ПаушеваЕ.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учный руководител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вво Б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5275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611280" y="593640"/>
            <a:ext cx="80643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611280" y="673200"/>
            <a:ext cx="806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28760" y="765000"/>
            <a:ext cx="83008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Школьный методический кабин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едагог-наставни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сихологическое сопровожд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3280" y="530280"/>
            <a:ext cx="8183520" cy="534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«Служба поддержки учителя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оздается на добровольной основе, каждый желающий может предложить свои услуг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остав этой службы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методис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вато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оциальный  педаго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ординатор по обучению педагог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сихоло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пьютерный специалис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03280" y="529920"/>
            <a:ext cx="8183520" cy="5419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«Служба поддержки учите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озможны </a:t>
            </a:r>
            <a:r>
              <a:rPr b="1" i="1" lang="ru-RU" sz="2800" spc="-1" strike="noStrike">
                <a:solidFill>
                  <a:srgbClr val="c00000"/>
                </a:solidFill>
                <a:latin typeface="Verdana"/>
              </a:rPr>
              <a:t>риски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, поскольку школьные сотрудники не в состоянии выполнить весь объем функций данной службы, также как и сотрудники, работающие по догово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еобходимо продумать вопрос финанс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03280" y="530280"/>
            <a:ext cx="8183520" cy="4843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5158080"/>
            <a:ext cx="81835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акон «Об образовании» Глава 5 Статья 55 </a:t>
            </a:r>
            <a:endParaRPr b="1" lang="en-US" sz="20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907560"/>
            <a:ext cx="8183520" cy="381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83000"/>
          </a:bodyPr>
          <a:p>
            <a:pPr marL="219600" indent="-219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«При выполнении профессиональных обязанностей педагогические работники имеют право на свободу выбора и использования методик обучения и воспитания, учебных пособий и материалов, учебников в соответствии с образовательной программой, утвержденной образовательным учреждением, методов оценки знаний обучающихся, воспитанников…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19600" indent="-21960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03280" y="476280"/>
            <a:ext cx="8245440" cy="5689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ема работы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«Современные формы сопровождения учителя в методической работе школы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Объек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– методическая работа школ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Предме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– современные формы сопровождения учител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Проблема исслед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стоит в следующем: как помочь учителю организовать свою работу в новом образовательном пространств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ипотеза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: методическая работа в школе в настоящее время непродуктивна, поскольку формы сопровождения учителя не  соответствуют  потребностям современных педагог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Цель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– анализ и теоретическое обоснование существующих форм сопровождения учителей и создание методических рекомендаций по организации работы новой формы сопровожд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3280" y="530280"/>
            <a:ext cx="8183520" cy="534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ru-RU" sz="1600" spc="-1" strike="noStrike">
                <a:solidFill>
                  <a:srgbClr val="c00000"/>
                </a:solidFill>
                <a:latin typeface="Verdana"/>
              </a:rPr>
              <a:t>Научно-методическое сопровождение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деятельности учителя – это комплекс взаимосвязанных целенаправленных действий, мероприятий, направленных на оказание всесторонней помощи учителю в решении возникающих затруднений, способствующих его развитию и самоопределению на протяжении всей профессиональной дея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ru-RU" sz="1600" spc="-1" strike="noStrike">
                <a:solidFill>
                  <a:srgbClr val="c00000"/>
                </a:solidFill>
                <a:latin typeface="Verdana"/>
              </a:rPr>
              <a:t>педагогическую компетентность учителя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-его способность к эффективной реализации в образовательной практике системы социально одобряемых ценностных установок и достижению наилучших педагогических результатов за счет профессионально-личностного саморазвития»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В педагогической науке </a:t>
            </a:r>
            <a:r>
              <a:rPr b="1" i="1" lang="ru-RU" sz="1600" spc="-1" strike="noStrike">
                <a:solidFill>
                  <a:srgbClr val="c00000"/>
                </a:solidFill>
                <a:latin typeface="Verdana"/>
              </a:rPr>
              <a:t>инновационная деятельность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понимается как целенаправленная педагогическая деятельность, основанная на осмыслении собственного педагогического опыта при помощи сравнения и изучения, изменения  и развития учебно-воспитательного процесса с целью достижения более высоких результатов, получения нового знания, внедрения иной педагогической практики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3280" y="530280"/>
            <a:ext cx="8183520" cy="556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Формы сопровождения учителей начальных класс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дагогическая консультац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рганизация встреч с авторами учебно-методических комплектов для начальной школ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дагогическая студ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Формы сопровождения молодых специалист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дагогическая консультац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рганизация встреч с авторами учебно-методических комплектов для начальной школ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дагогическая студ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ндивидуальный образовательный маршру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анятия в Школе молодого специалис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рганизация обратной связи "учитель – наставник – методис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одействие в подготовке к конкурсам, фестиваля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рганизованное посещение и анализ уро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3280" y="529920"/>
            <a:ext cx="8183520" cy="570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2200" spc="-1" strike="noStrike">
                <a:solidFill>
                  <a:srgbClr val="c00000"/>
                </a:solidFill>
                <a:latin typeface="Verdana"/>
              </a:rPr>
              <a:t>Модерирование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деятельность, направленная на раскрытие потенциальных возможностей работника и его способносте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Verdana"/>
              </a:rPr>
              <a:t>Консультирование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взаимодействие между консультантом и клиентом, направленное на разрешение проблем и внесение позитивных изменений в деятельность отдельного специалиста или организации в целом»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Verdana"/>
              </a:rPr>
              <a:t>Супервизия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профессиональное консультирование и сопровождение специалиста более опытным специалистом, исключающее формальный контроль и оценку; способ создания психологически комфортных условий для субъектов профессиональной дея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3280" y="529920"/>
            <a:ext cx="8183520" cy="5275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Комплексное сопровожд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зучение потребностей уч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ыбор современных форм сопровождения с учетом андрагогических принцип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ключение педагогов в единую информационную се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147160" cy="57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599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1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06:31:14Z</dcterms:created>
  <dc:creator>ekaterina alexandrov</dc:creator>
  <dc:description/>
  <dc:language>en-US</dc:language>
  <cp:lastModifiedBy>ekaterina alexandrov</cp:lastModifiedBy>
  <dcterms:modified xsi:type="dcterms:W3CDTF">2012-06-22T08:41:33Z</dcterms:modified>
  <cp:revision>13</cp:revision>
  <dc:subject/>
  <dc:title>Слайд 1</dc:title>
</cp:coreProperties>
</file>