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9E8-9FCF-4779-B023-99ADFCAC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AAA-290F-427A-B749-E957AD29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A4A-A656-4D5D-BC16-75EBE962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09B-D230-4648-A06A-A71E73C7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6BBD-3452-460A-980D-C857BB10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18B-898E-4A9A-A8CC-D42E35E0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DA62-0272-4949-B747-06294C6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7BAE-701E-4179-9212-EC2CF2E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F29-7C8B-4428-B10D-59B6718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C1BD-742B-46E5-85C0-29BE8724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D670-85FE-4726-8F6A-3824CE4F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F84-28F5-483C-B9CA-67A6F75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6A4-A87E-423A-B473-8AE0139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E3E6-909D-416D-AA1C-3A63F56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3FD6-277F-4D3E-A3D9-6C49BA5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C20D-18DE-48DE-809C-8C6F66AA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3E8-E0D8-4881-89EF-167F6790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B8B-5494-4475-A53A-BDFAE68D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5AC-A52C-4481-9880-4690B5F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5E4-A907-43B0-A987-DA22DC90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C9A-1395-4493-83A9-AAFC0AE8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ECF-AA83-4679-BCD6-07879EBC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749-5F1D-41E5-9A58-3E5D869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132-73F3-4314-B447-E65D377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9652-9645-4B97-BEE8-0DF538E605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9152-9B18-4417-9992-5BA3D02EA1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0960" y="259920"/>
            <a:ext cx="7061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отр знаний по тем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заимно обратные числа. Деление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2565360"/>
            <a:ext cx="813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базовые знания по теме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на более высоком уровне, умение творчески мысл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92360" y="1431360"/>
            <a:ext cx="534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0920" y="1557360"/>
                <a:ext cx="15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72360" y="532800"/>
            <a:ext cx="500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4160" y="2204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50920" y="2133720"/>
                <a:ext cx="2001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372360" y="1440720"/>
            <a:ext cx="745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63592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59640" y="2492280"/>
                <a:ext cx="199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763640" y="31410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050920" y="306864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372360" y="2376000"/>
            <a:ext cx="736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3715560"/>
            <a:ext cx="49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                                                                                             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659640" y="357336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765440" y="4291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0920" y="4221000"/>
                <a:ext cx="289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6372360" y="3510000"/>
            <a:ext cx="6778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659640" y="4149720"/>
                <a:ext cx="190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40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6720" y="4796640"/>
            <a:ext cx="48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1                                                                                                                 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659640" y="465300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848320" y="188280"/>
            <a:ext cx="342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 диктант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заимопровер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1037160"/>
            <a:ext cx="63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ариант1.                                                      Вариант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57280" y="5287320"/>
            <a:ext cx="59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им к заданиям 3-го уров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адачи на плаката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18520" y="475560"/>
            <a:ext cx="34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Творческое задание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5480" y="15562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1) Упрости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2520" y="213300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58920" y="1989000"/>
                <a:ext cx="13683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73440" y="2851920"/>
            <a:ext cx="3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332000" y="2708280"/>
                <a:ext cx="1009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73440" y="364428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403280" y="3573360"/>
                <a:ext cx="1224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973080" y="4436280"/>
            <a:ext cx="3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403280" y="4292640"/>
                <a:ext cx="1150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423320" y="155628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Исключить лишнее из равен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204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59280" y="2060640"/>
                <a:ext cx="1079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502520" y="2923560"/>
            <a:ext cx="3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59280" y="2852640"/>
                <a:ext cx="1008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4500720" y="3572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32360" y="3573360"/>
                <a:ext cx="923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440" y="559800"/>
            <a:ext cx="41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омашняя работа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887480"/>
            <a:ext cx="73436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Сочинить задачу н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взаимно обратные числа,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придумать художественное оформление, формат бумаги произвольный. Приложить решение задачи. Сдать через неде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18160" y="548640"/>
            <a:ext cx="28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Итог</a:t>
            </a: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773360"/>
            <a:ext cx="8028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ка учитель-ассистент подсчитывает   баллы для выведения оценки, можно поиграть в игру “Не ошибись”. (Первый попугай, первый удав, второй попугай, первая обезьяна и т.д.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08000" y="3141720"/>
          <a:ext cx="525636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141720"/>
                    <a:ext cx="52563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18200" y="619560"/>
            <a:ext cx="60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ее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ъявляются оценки ученикам клас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0360" y="1699200"/>
            <a:ext cx="44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Times New Roman"/>
              </a:rPr>
              <a:t>Всем спасибо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8520" y="522792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ок подготовила: Фадеева Наталья Александров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математики школы № 40 г. Саран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20894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48000" y="2708280"/>
            <a:ext cx="223200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 у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81360"/>
            <a:ext cx="2700360" cy="1006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я 1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828200">
            <a:off x="755640" y="4581000"/>
            <a:ext cx="2808360" cy="1008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я 2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239800">
            <a:off x="5508360" y="4653000"/>
            <a:ext cx="2952720" cy="10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я 3-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2852640"/>
            <a:ext cx="2808360" cy="93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рческие зад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599600">
            <a:off x="539280" y="1052280"/>
            <a:ext cx="2892600" cy="10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мом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024400">
            <a:off x="5651280" y="1125000"/>
            <a:ext cx="2881080" cy="93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ашняя р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130560" y="4870440"/>
            <a:ext cx="2665440" cy="93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мину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6720" y="332280"/>
            <a:ext cx="17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549360"/>
            <a:ext cx="9144000" cy="5465520"/>
            <a:chOff x="0" y="549360"/>
            <a:chExt cx="9144000" cy="5465520"/>
          </a:xfrm>
        </p:grpSpPr>
        <p:cxnSp>
          <p:nvCxnSpPr>
            <p:cNvPr id="108" name="_s7206"/>
            <p:cNvCxnSpPr>
              <a:stCxn id="109" idx="1"/>
              <a:endCxn id="110" idx="2"/>
            </p:cNvCxnSpPr>
            <p:nvPr/>
          </p:nvCxnSpPr>
          <p:spPr>
            <a:xfrm rot="10800000">
              <a:off x="3286800" y="2568240"/>
              <a:ext cx="102240" cy="323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7200"/>
            <p:cNvCxnSpPr>
              <a:stCxn id="112" idx="1"/>
              <a:endCxn id="110" idx="2"/>
            </p:cNvCxnSpPr>
            <p:nvPr/>
          </p:nvCxnSpPr>
          <p:spPr>
            <a:xfrm rot="10800000">
              <a:off x="3286800" y="2568240"/>
              <a:ext cx="102240" cy="26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7198"/>
            <p:cNvCxnSpPr>
              <a:stCxn id="114" idx="1"/>
              <a:endCxn id="110" idx="2"/>
            </p:cNvCxnSpPr>
            <p:nvPr/>
          </p:nvCxnSpPr>
          <p:spPr>
            <a:xfrm rot="10800000">
              <a:off x="3286800" y="2568240"/>
              <a:ext cx="102240" cy="208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7196"/>
            <p:cNvCxnSpPr>
              <a:stCxn id="116" idx="1"/>
              <a:endCxn id="110" idx="2"/>
            </p:cNvCxnSpPr>
            <p:nvPr/>
          </p:nvCxnSpPr>
          <p:spPr>
            <a:xfrm rot="10800000">
              <a:off x="3286800" y="2568240"/>
              <a:ext cx="102240" cy="1514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194"/>
            <p:cNvCxnSpPr>
              <a:stCxn id="118" idx="1"/>
              <a:endCxn id="110" idx="2"/>
            </p:cNvCxnSpPr>
            <p:nvPr/>
          </p:nvCxnSpPr>
          <p:spPr>
            <a:xfrm rot="10800000">
              <a:off x="3286800" y="2568240"/>
              <a:ext cx="102240" cy="941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7184"/>
            <p:cNvCxnSpPr>
              <a:stCxn id="120" idx="1"/>
              <a:endCxn id="110" idx="2"/>
            </p:cNvCxnSpPr>
            <p:nvPr/>
          </p:nvCxnSpPr>
          <p:spPr>
            <a:xfrm rot="10800000">
              <a:off x="3286800" y="2568240"/>
              <a:ext cx="102240" cy="36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7182"/>
            <p:cNvCxnSpPr>
              <a:stCxn id="110" idx="0"/>
              <a:endCxn id="122" idx="2"/>
            </p:cNvCxnSpPr>
            <p:nvPr/>
          </p:nvCxnSpPr>
          <p:spPr>
            <a:xfrm flipH="1" flipV="1" rot="5400000">
              <a:off x="3409560" y="955800"/>
              <a:ext cx="984240" cy="122940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7180"/>
            <p:cNvCxnSpPr>
              <a:stCxn id="124" idx="0"/>
              <a:endCxn id="122" idx="2"/>
            </p:cNvCxnSpPr>
            <p:nvPr/>
          </p:nvCxnSpPr>
          <p:spPr>
            <a:xfrm flipV="1" rot="16200000">
              <a:off x="5760000" y="-165600"/>
              <a:ext cx="984240" cy="347184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7179"/>
            <p:cNvCxnSpPr>
              <a:stCxn id="126" idx="0"/>
              <a:endCxn id="122" idx="2"/>
            </p:cNvCxnSpPr>
            <p:nvPr/>
          </p:nvCxnSpPr>
          <p:spPr>
            <a:xfrm flipV="1" rot="16200000">
              <a:off x="4584240" y="1010160"/>
              <a:ext cx="984240" cy="112068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7178"/>
            <p:cNvCxnSpPr>
              <a:stCxn id="128" idx="0"/>
              <a:endCxn id="122" idx="2"/>
            </p:cNvCxnSpPr>
            <p:nvPr/>
          </p:nvCxnSpPr>
          <p:spPr>
            <a:xfrm flipH="1" flipV="1" rot="5400000">
              <a:off x="2297160" y="-156960"/>
              <a:ext cx="984240" cy="3454920"/>
            </a:xfrm>
            <a:prstGeom prst="bentConnector3">
              <a:avLst>
                <a:gd name="adj1" fmla="val 115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7174"/>
            <p:cNvSpPr/>
            <p:nvPr/>
          </p:nvSpPr>
          <p:spPr>
            <a:xfrm>
              <a:off x="2555640" y="549360"/>
              <a:ext cx="3921480" cy="52956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адания 1-го уровн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7175"/>
            <p:cNvSpPr/>
            <p:nvPr/>
          </p:nvSpPr>
          <p:spPr>
            <a:xfrm>
              <a:off x="0" y="2063160"/>
              <a:ext cx="212184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оретический опро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7176"/>
            <p:cNvSpPr/>
            <p:nvPr/>
          </p:nvSpPr>
          <p:spPr>
            <a:xfrm>
              <a:off x="4450680" y="2063160"/>
              <a:ext cx="237168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бота н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дивидуальных доск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7177"/>
            <p:cNvSpPr/>
            <p:nvPr/>
          </p:nvSpPr>
          <p:spPr>
            <a:xfrm>
              <a:off x="6926400" y="2063160"/>
              <a:ext cx="212184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ешение зада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181"/>
            <p:cNvSpPr/>
            <p:nvPr/>
          </p:nvSpPr>
          <p:spPr>
            <a:xfrm>
              <a:off x="2225160" y="2063160"/>
              <a:ext cx="2121840" cy="505440"/>
            </a:xfrm>
            <a:prstGeom prst="roundRect">
              <a:avLst>
                <a:gd name="adj" fmla="val 16667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н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7183"/>
            <p:cNvSpPr/>
            <p:nvPr/>
          </p:nvSpPr>
          <p:spPr>
            <a:xfrm>
              <a:off x="3389400" y="2725920"/>
              <a:ext cx="3084840" cy="41796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ычисли (плака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7193"/>
            <p:cNvSpPr/>
            <p:nvPr/>
          </p:nvSpPr>
          <p:spPr>
            <a:xfrm>
              <a:off x="3389400" y="3301200"/>
              <a:ext cx="4254840" cy="41652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20" rIns="2592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йдите число обратное данному (карточки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7195"/>
            <p:cNvSpPr/>
            <p:nvPr/>
          </p:nvSpPr>
          <p:spPr>
            <a:xfrm>
              <a:off x="3389400" y="3874320"/>
              <a:ext cx="4754880" cy="41508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осстанови цепочку вычислений (плака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7197"/>
            <p:cNvSpPr/>
            <p:nvPr/>
          </p:nvSpPr>
          <p:spPr>
            <a:xfrm>
              <a:off x="3389400" y="4446720"/>
              <a:ext cx="5169960" cy="41904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зовите пару взаимно обратных чисел (плака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199"/>
            <p:cNvSpPr/>
            <p:nvPr/>
          </p:nvSpPr>
          <p:spPr>
            <a:xfrm>
              <a:off x="3389400" y="5023080"/>
              <a:ext cx="5502600" cy="41796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акая часть круга демонстрируется на магнитной доске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звать дробь и ей обратную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205"/>
            <p:cNvSpPr/>
            <p:nvPr/>
          </p:nvSpPr>
          <p:spPr>
            <a:xfrm>
              <a:off x="3389400" y="5598360"/>
              <a:ext cx="5754600" cy="416520"/>
            </a:xfrm>
            <a:prstGeom prst="roundRect">
              <a:avLst>
                <a:gd name="adj" fmla="val 50000"/>
              </a:avLst>
            </a:prstGeom>
            <a:solidFill>
              <a:srgbClr val="e9a6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зделить центральное число на числа в кружочках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4160" y="499320"/>
            <a:ext cx="33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Решить уравнение</a:t>
            </a:r>
            <a:r>
              <a:rPr b="0" lang="en-US" sz="1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356000" y="333360"/>
                <a:ext cx="936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12720" y="1650600"/>
            <a:ext cx="299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писать обрат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1484280"/>
                <a:ext cx="358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356000" y="2997360"/>
            <a:ext cx="3886200" cy="2743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7500000">
            <a:off x="4082400" y="4133520"/>
            <a:ext cx="3336840" cy="1063800"/>
          </a:xfrm>
          <a:prstGeom prst="triangle">
            <a:avLst>
              <a:gd name="adj" fmla="val 4714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4869000"/>
            <a:ext cx="2016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960" y="2561400"/>
            <a:ext cx="53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2. Какая часть фигуры закраше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3440" y="357264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писать обрат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10040" y="3429000"/>
                <a:ext cx="328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486240" y="2490840"/>
            <a:ext cx="26287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4286160" y="2948040"/>
            <a:ext cx="2286000" cy="1371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00" y="832680"/>
            <a:ext cx="63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 Какая часть фигуры не заштрихова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880" y="171216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сать обратн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7280" y="1557360"/>
                <a:ext cx="36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41560" y="3623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9240" y="517788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ти кор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64000" y="5124600"/>
                <a:ext cx="1513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57800" y="5876280"/>
            <a:ext cx="31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исать обрат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995640" y="5805360"/>
                <a:ext cx="311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4680" y="759600"/>
            <a:ext cx="53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 Какая часть фигуры закраше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711680" y="2289240"/>
            <a:ext cx="3999600" cy="1713960"/>
            <a:chOff x="4711680" y="2289240"/>
            <a:chExt cx="3999600" cy="1713960"/>
          </a:xfrm>
        </p:grpSpPr>
        <p:sp>
          <p:nvSpPr>
            <p:cNvPr id="153" name=""/>
            <p:cNvSpPr/>
            <p:nvPr/>
          </p:nvSpPr>
          <p:spPr>
            <a:xfrm>
              <a:off x="4711680" y="2289240"/>
              <a:ext cx="3999600" cy="1713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11600" y="22892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11160" y="22892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11800" y="2289240"/>
              <a:ext cx="72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11720" y="2289240"/>
              <a:ext cx="72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1720" y="2289240"/>
              <a:ext cx="799560" cy="171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13800" y="299664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Написать обрат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24360" y="25653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89040" y="4433040"/>
            <a:ext cx="63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Записать число обратное самому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600" y="522864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Записать число, для которого нет обратно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5600" y="33264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 Какая часть фигуры не заштрихована?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141720"/>
            <a:ext cx="647640" cy="316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58920" y="1773360"/>
          <a:ext cx="6095880" cy="4555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86880" y="90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Написать обрат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80000" y="836640"/>
                <a:ext cx="479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98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2879640" cy="193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8686800" cy="1333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640" y="4755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84360" y="981000"/>
            <a:ext cx="8064360" cy="3454560"/>
            <a:chOff x="684360" y="981000"/>
            <a:chExt cx="8064360" cy="3454560"/>
          </a:xfrm>
        </p:grpSpPr>
        <p:cxnSp>
          <p:nvCxnSpPr>
            <p:cNvPr id="175" name="_s96277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259600" y="1559160"/>
              <a:ext cx="713520" cy="230544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96276"/>
            <p:cNvCxnSpPr>
              <a:stCxn id="179" idx="0"/>
              <a:endCxn id="177" idx="2"/>
            </p:cNvCxnSpPr>
            <p:nvPr/>
          </p:nvCxnSpPr>
          <p:spPr>
            <a:xfrm flipH="1" flipV="1" rot="5400000">
              <a:off x="3081600" y="1686240"/>
              <a:ext cx="713520" cy="2051640"/>
            </a:xfrm>
            <a:prstGeom prst="bentConnector3">
              <a:avLst>
                <a:gd name="adj1" fmla="val 160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96271"/>
            <p:cNvSpPr/>
            <p:nvPr/>
          </p:nvSpPr>
          <p:spPr>
            <a:xfrm>
              <a:off x="2700360" y="981000"/>
              <a:ext cx="3527280" cy="137484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адания 2-го уровн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96273"/>
            <p:cNvSpPr/>
            <p:nvPr/>
          </p:nvSpPr>
          <p:spPr>
            <a:xfrm>
              <a:off x="684360" y="3068640"/>
              <a:ext cx="3456000" cy="134784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ктан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на два голоса с магнитофона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96274"/>
            <p:cNvSpPr/>
            <p:nvPr/>
          </p:nvSpPr>
          <p:spPr>
            <a:xfrm>
              <a:off x="4788000" y="3068640"/>
              <a:ext cx="3960720" cy="1366920"/>
            </a:xfrm>
            <a:prstGeom prst="roundRect">
              <a:avLst>
                <a:gd name="adj" fmla="val 50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тематическая эстаф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на доске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A</cp:lastModifiedBy>
  <dcterms:modified xsi:type="dcterms:W3CDTF">2007-02-11T18:09:48Z</dcterms:modified>
  <cp:revision>22</cp:revision>
  <dc:subject/>
  <dc:title>PowerPoint Presentation</dc:title>
</cp:coreProperties>
</file>