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DEF-9600-45D9-B9B7-C772A547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C35-C84E-4764-86CF-D2F0ED9E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3AB-4712-41E5-B61F-0FC25BE3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682-6410-4C89-95A8-64BA744A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EE9-6D92-4F6B-9D2D-772D9BAE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143-7C72-4E35-8D73-EF9409AD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B2B-4F41-4202-A5E5-BB18E798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AD5-2262-431F-9F30-C22C3D2D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758-FBFA-4AFC-854D-FF5B7BA9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F63-4EBA-4FE5-A801-3820E9C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880-8C99-4C81-8A0F-20C5D51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F5D-9C82-4740-9853-3567686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F1F-DD84-4AC4-BB2C-7DA5CFB8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692280"/>
            <a:ext cx="792000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latin typeface="Arial"/>
              </a:rPr>
              <a:t>Реш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>
                  <a:alpha val="69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latin typeface="Arial"/>
              </a:rPr>
              <a:t>тригонометр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>
                  <a:alpha val="69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latin typeface="Arial"/>
              </a:rPr>
              <a:t>уравн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>
                  <a:alpha val="69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Решение 2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2600" y="860040"/>
            <a:ext cx="828684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√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3 sin x/4 – cos x/4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√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3 tg x/4 – 1 = 0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√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3 tg x/4 = 1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g x/4 = 1/√3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x/4 = arctg 1/√3 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x/4 =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/6 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4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Решение 3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145880"/>
            <a:ext cx="804384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 cos x - cos² x = 0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x (sin x – cos x) = 0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x = 0,   x =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 – cos x = 0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x – 1 = 0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x = 1,   x =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 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3" descr=""/>
          <p:cNvPicPr/>
          <p:nvPr/>
        </p:nvPicPr>
        <p:blipFill>
          <a:blip r:embed="rId1"/>
          <a:stretch/>
        </p:blipFill>
        <p:spPr>
          <a:xfrm>
            <a:off x="712800" y="165240"/>
            <a:ext cx="7785000" cy="2054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5840" y="2356920"/>
            <a:ext cx="850104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«Темная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лошадка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270972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sin 2 x + √3 sin x cos x + 6 cos 2 x = 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3" descr=""/>
          <p:cNvPicPr/>
          <p:nvPr/>
        </p:nvPicPr>
        <p:blipFill>
          <a:blip r:embed="rId1"/>
          <a:stretch/>
        </p:blipFill>
        <p:spPr>
          <a:xfrm>
            <a:off x="712800" y="165240"/>
            <a:ext cx="7785000" cy="2054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85840" y="330048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2060"/>
                </a:solidFill>
                <a:latin typeface="Times New Roman"/>
              </a:rPr>
              <a:t>«Заморочки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13840" y="476280"/>
            <a:ext cx="857268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если «да»  + , если «нет»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 ² x + sin ² x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шением данного уравнения являются любые значения 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= П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+ 2П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ень уравнения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 x =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 x = 1/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го серия корней  х = П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3 + 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решения уравнения 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 ² x 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 x =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ожение на множите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n x + cos x = 1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родное урав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матика – мой любимый предм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5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429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19280" y="3905280"/>
            <a:ext cx="5267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частливая случайность выпадает лишь на долю подготовленных умов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.Пастерна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3" descr=""/>
          <p:cNvPicPr/>
          <p:nvPr/>
        </p:nvPicPr>
        <p:blipFill>
          <a:blip r:embed="rId1"/>
          <a:stretch/>
        </p:blipFill>
        <p:spPr>
          <a:xfrm>
            <a:off x="712800" y="165240"/>
            <a:ext cx="7785000" cy="2054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71680" y="3214800"/>
            <a:ext cx="77724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2060"/>
                </a:solidFill>
                <a:latin typeface="Bookman Old Style"/>
              </a:rPr>
              <a:t>«Разминка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ce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уравнения вида cos x=a при |a| &gt; 1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ком значении а, уравнение cos x =a имеет решения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оси откладывается значе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шении уравнения cos x =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му числовому промежутку принадлежат значения arccos  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йти arccos(-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ому промежутку принадлежат значения arctg 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ему равен arctg (-a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шение уравнения вида sin x=a при |a| &gt; 1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 каком значени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равнение sin x =a имеет решения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 какой оси откладывается значе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решении уравнения sin x =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акому числовому промежутку принадлежат значения arcsin 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йти arcsin(-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Какому промежутку принадлежат значения arcctg a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Чему равен arcctg (-a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712800" y="165240"/>
            <a:ext cx="7785000" cy="205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400" y="2204640"/>
            <a:ext cx="7986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060"/>
                </a:solidFill>
                <a:latin typeface="Times New Roman"/>
              </a:rPr>
              <a:t>«Спешите видеть,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060"/>
                </a:solidFill>
                <a:latin typeface="Times New Roman"/>
              </a:rPr>
              <a:t>отвечать,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060"/>
                </a:solidFill>
                <a:latin typeface="Times New Roman"/>
              </a:rPr>
              <a:t>реша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00320" y="928800"/>
            <a:ext cx="44290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± arccos a +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 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csin a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arctg a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arcctg a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929880"/>
            <a:ext cx="3143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sin x =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2. cos x =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3. tg x =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4. ctg x =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5. sin x =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6. cos x =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7. sin x =-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8. cos x =-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9. sin x = 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10. cos x = 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712800" y="165240"/>
            <a:ext cx="7785000" cy="205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09720"/>
            <a:ext cx="8607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060"/>
                </a:solidFill>
                <a:latin typeface="Times New Roman"/>
              </a:rPr>
              <a:t>«Дальше, дальше…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360" y="126792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x + sin x – 1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√3 sin x/4 – cos x/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in x cos x – co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Решение 1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5520" y="1071360"/>
            <a:ext cx="790092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²x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 – 1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 = t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½,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1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 = ½, x =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 1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 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 = - 1, x = 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+ 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6:44:34Z</dcterms:created>
  <dc:creator>User</dc:creator>
  <dc:description/>
  <dc:language>en-US</dc:language>
  <cp:lastModifiedBy>Пользователь</cp:lastModifiedBy>
  <dcterms:modified xsi:type="dcterms:W3CDTF">2012-01-26T11:22:35Z</dcterms:modified>
  <cp:revision>37</cp:revision>
  <dc:subject/>
  <dc:title>Методы решения тригонометрических уравнений</dc:title>
</cp:coreProperties>
</file>