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982-204C-49CD-A8DF-C752D266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13D-22CC-4499-A0EC-218CF274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3E5-965D-49A6-AB64-5C08423B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AC5-5DC6-4E62-8948-BA6032D0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9BD2-381C-4776-9747-D7636376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3A7F-557C-451B-9D1A-A57C0395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EA73-6299-4EAE-A0CB-CE8147EC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8319-75F7-443F-B451-AF6D0B6F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79C6-E589-40DF-9CF8-6DB750EF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9E1D-2D18-4CB4-92E3-4F5E69A9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0DE3-006E-4558-A409-FD4A11C8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F59-8636-4325-81B0-FB8FD388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FCFA-6717-4D55-939A-C3629CAA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C9D5-04B4-423E-B4AE-D754150F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DF3B-6A40-422B-9613-42A1CE9F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11C7-8DA4-44C6-874B-B29BC1BA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F551-6EC6-4DEE-A512-C953783D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AE1-DF2C-4330-9A46-83AFD0B6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4DA-04BB-4FA6-B76B-976012DD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3E5-88F7-4180-AEE1-294B0AC8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A20-EEF2-485F-B336-8BC50C62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B26-E429-4757-BD57-E73688F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031-7E7A-4999-A07B-34404CA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20CF-8621-4268-845A-5EA1D85B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A96A-0B59-4627-98B0-2F2B19B8E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413C-0E57-49AD-B848-34F580094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Родительское собра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ФЛИКТНЫЕ СИТУАЦИИ МЕЖДУ ДЕТЬМИ И РОДИТЕЛЯ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СПОСОБЫ ИХ РЕ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-КОНЦЕПЦИ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оль родителя предполагает действия по принципу «делай так, как я сказал», то есть диктаторство, подавление другой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оль ребенка предполагает действие по принципу «я хочу…», то есть эгоизм, желание удовлетворить только свои желания и потреб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оль взрослого предполагает сотрудничество, ответственность за себя и за свои поступ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ТУАЦИЯ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дросток не убирает на место свои вещи, они валяются по всей квартире, что очень раздражает ма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Ее неоднократные беседы не дали результата. Однажды, когда сына не было дома, мама сделала уборку в квартире, а затем ушла в магазин. Когда она вернулась, увидела, что сын пришел домой и вновь разбросал свои вещи. Тогда мам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еализованный вариант решения конфликтной ситуации - ультимату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зала «Если я еще раз увижу твои вещи разбросанными, я сложу их в ванну и залью водо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ТУАЦИЯ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ебенок постоянно лжет родителям о том, где был, с кем и т.д. Однажды ушел в школу, но на занятиях отсутствовал.  Классный руководитель позвонил домой, чтобы узнать причину отсутствия. Так мама узнала, что сын ей солгал. Когда он вернулся домой (якобы с занятий) и положил сумку с учебниками,  мам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еализованный вариант решения конфликтной ситуации - анализ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стала провоцировать сына на новую ложь, задавая вопросы, не стала ругаться. Она объяснила, что будет, если сын перестанет учиться, показала перспективу и предложила сделать выб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КЛЮЧ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фликты в нашей жизни неизбежны, но мы можем извлечь пользу даже из конфликтных ситуац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ло решая и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фликт – один из механизмов развития личности и межличностных отнош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ЦЕЛЬ: Психолого-педагогическое просвещение родител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ть определение понятия «конфликт», раскрыть его сущ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зать стадии развития конфли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крыть варианты решения конфликтных ситу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сти совместно с родителями обсуждение и анализ конфликтных ситу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b7"/>
                </a:solidFill>
                <a:latin typeface="Arial Black"/>
              </a:rPr>
              <a:t>КОНФЛИКТ – это момент в межличностных отношениях двух субъектов, обладающих индивидуальным внутренним миром, когда между этими личностями возникает противоречие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ущность конфликта как социального явл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ежде всего необходимы два субъекта – участника конфликта (участников может быть и больш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 противоречие, которое лежит в основе конфликта, должно быть личностно значимым для субъек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 необходимы определенные обстоятельства, которые выявили бы противоречие и столкнули интересы субъе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ДИИ КОНФЛИ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фликтная ситу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цид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ешение конфли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структив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рукти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3716280"/>
            <a:ext cx="865080" cy="504720"/>
          </a:xfrm>
          <a:prstGeom prst="rightArrow">
            <a:avLst>
              <a:gd name="adj1" fmla="val 50000"/>
              <a:gd name="adj2" fmla="val 4285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ормы протекания конфликт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довольство – ощущение неудовлетвор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зногласие – несходство во мнениях, взгляд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отиводействие – действие, препятствующее другому действ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отивостояние – концентрация на конкретном интересе субъек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отивоборство – борьба субъекта с кем-либо, чем-либо, мешающим реализации интересов субъ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АЖНО ПОМНИТЬ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ым первым шагом на пути к решению конфликта является факт признания того, что проблема действительно ес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мысливая содержание конфликта, мы уже приступаем к его реш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ПОСОБЫ РАЗРЕШЕНИЯ КОНФЛИК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Юмор – постараться увидеть смешное в создавшейся ситу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изнание достоинств – увидеть хорошие качества в другом участнике конфли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омпромисс – соглашение на основе взаимных уступ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ретейский суд – обращение к незаинтересованному лиц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Анализ – попытаться добраться до истоков проблемы и найти реш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льтиматум – решительное требование с угрозой применения мер воз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ОСЛЕДСТВИЯ КОНФЛИК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еструктивные – разрыв связей, разрушение нормальных взаимоотнош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нструктивные – конфликт способствует выходу на новый уровень развития личности или межличностных отнош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ри  конструктивном решении проблемы конфликт несет в себе огромный воспитательный потенциал, являясь одним из механизмов развития личност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конструктивного решения проблемы следует соблюдать некоторые прави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ва возбужденных человека не могут прийти к согласию, надо сначала успокоить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ледует бояться конфликта, надо его реш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мейте сдерживать свои эмоции, даже если вас провоцируют, ибо «сильнее всех – владеющий собо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важайте личность другого, он имеет право на собственные взгля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8:44:51Z</dcterms:created>
  <dc:creator>Веселов Юрий</dc:creator>
  <dc:description/>
  <dc:language>en-US</dc:language>
  <cp:lastModifiedBy>Веселов Юрий</cp:lastModifiedBy>
  <dcterms:modified xsi:type="dcterms:W3CDTF">2011-12-20T06:52:34Z</dcterms:modified>
  <cp:revision>4</cp:revision>
  <dc:subject/>
  <dc:title>Родительское собрание</dc:title>
</cp:coreProperties>
</file>