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2556" r="5332" b="0"/>
          <a:stretch/>
        </p:blipFill>
        <p:spPr>
          <a:xfrm>
            <a:off x="685800" y="609480"/>
            <a:ext cx="175428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3504960" cy="220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21064800">
            <a:off x="837720" y="533160"/>
            <a:ext cx="73915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ятая рота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ляет алгоритм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8562" r="-9396" b="0"/>
          <a:stretch/>
        </p:blipFill>
        <p:spPr>
          <a:xfrm>
            <a:off x="4876920" y="3276720"/>
            <a:ext cx="373356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3809880"/>
            <a:ext cx="1219320" cy="1676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1905120"/>
            <a:ext cx="2666880" cy="3934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cc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Мы изучаем на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а она треб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не зазубривания ее теоретических выклад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а осознанного усво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Поним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Для этого надо учиться сопоставлять и исслед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языковые явле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Тогда придет успе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447920" cy="2361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29200" y="685800"/>
            <a:ext cx="3048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28800" y="762120"/>
            <a:ext cx="6324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руга дней моих суров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 дряхлая мо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на в глуши л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в с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но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авно, давно ты ждешь ме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ы под окном своей св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лиц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ю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шь, бу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о на час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 медлят поминутно спиц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твоих наморще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н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ых ру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ишь в забытые в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ч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ный о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аленный пу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ка, предчу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вия, з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2800" spc="-1" strike="noStrike">
                <a:solidFill>
                  <a:srgbClr val="cc9900"/>
                </a:solidFill>
                <a:latin typeface="Times New Roman"/>
              </a:rPr>
              <a:t>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нят твою всечасно груд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457200"/>
            <a:ext cx="27432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Times New Roman"/>
              </a:rPr>
              <a:t>Как на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Times New Roman"/>
              </a:rPr>
              <a:t>четвертое лишне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о)мину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а)морщ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От)дал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)гл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609480"/>
            <a:ext cx="4876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Алгоритм (правило-помощн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смотреть, употребляется ли слово без данного компон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37160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1295280"/>
            <a:ext cx="0" cy="38124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54400" y="1600200"/>
            <a:ext cx="10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9051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06880" y="1523880"/>
            <a:ext cx="11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182880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55320" y="205740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30000" y="2133720"/>
            <a:ext cx="9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51460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 Является ли слово глагол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28195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54400" y="2971800"/>
            <a:ext cx="10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06880" y="2971800"/>
            <a:ext cx="11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33526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32767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6520" y="350532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3505320"/>
            <a:ext cx="2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886200"/>
            <a:ext cx="48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Задать вопрос. Есть ли данны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вопрос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4419720"/>
            <a:ext cx="0" cy="38088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54400" y="4648320"/>
            <a:ext cx="10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82840" y="4648320"/>
            <a:ext cx="11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502920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9528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0920" y="5257800"/>
            <a:ext cx="19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предло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5181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пристав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57200"/>
            <a:ext cx="0" cy="5943600"/>
          </a:xfrm>
          <a:prstGeom prst="line">
            <a:avLst/>
          </a:prstGeom>
          <a:ln w="7632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89548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Поминутно, отдаленны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 употребляются без данного компон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Наморщи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глаг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В глуш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ч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Перепровер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чем? в </a:t>
            </a: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сам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глуш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в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- глу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2920" y="4191120"/>
            <a:ext cx="1447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62400" y="571680"/>
            <a:ext cx="36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Безударные гласные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876240"/>
            <a:ext cx="67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 какой    группе    относится     данная    гласна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2193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2193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2193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0160" y="1471680"/>
            <a:ext cx="23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проверяе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1760" y="1471680"/>
            <a:ext cx="20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оверяе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37440" y="1447920"/>
            <a:ext cx="22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ередующие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7524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7524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7320" y="1928880"/>
            <a:ext cx="17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смот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в сло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19810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поста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под уда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59092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пределить, к какой группе корней с чередованием относ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28954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1080" y="3124080"/>
            <a:ext cx="234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кас-/-ко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лаг-/-лож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ипа –бер-/-бир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6080" y="3147840"/>
            <a:ext cx="19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раст-/-ро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954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080" y="1981080"/>
            <a:ext cx="10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47242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42900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9320" y="4191120"/>
            <a:ext cx="30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Посмотреть, есть 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сле корня 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суффикс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9080" y="4952880"/>
            <a:ext cx="10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44360" y="4952880"/>
            <a:ext cx="11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2760" y="5410080"/>
            <a:ext cx="13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а,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43640" y="5410080"/>
            <a:ext cx="11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о,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36576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Посмотреть, стоит ли гласная  перед </a:t>
            </a: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ст, 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9625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3962520"/>
            <a:ext cx="0" cy="3045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6000" y="4191120"/>
            <a:ext cx="107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9720" y="4191120"/>
            <a:ext cx="11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4956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4495680"/>
            <a:ext cx="0" cy="3049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525780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1600" y="46483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5334120"/>
            <a:ext cx="45720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сключения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808000"/>
                </a:solidFill>
                <a:latin typeface="Times New Roman"/>
              </a:rPr>
              <a:t>росток,    Рос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808000"/>
                </a:solidFill>
                <a:latin typeface="Times New Roman"/>
              </a:rPr>
              <a:t>Ростислав,    отра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553080" y="685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71800" y="533520"/>
            <a:ext cx="2971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еще у нас есть м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ругих алгоритм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х мы записыва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imes New Roman"/>
              </a:rPr>
              <a:t>в тетрадь-справоч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а помогает нам выполнять домашние зада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ы любим уч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69680" y="350532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«Русский язык – интересный предмет!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Считает каждый из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Равнодушных к нему, конечно, н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Хоть и не все выходит под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Русские девочки, русские мальч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Мы будем учиться т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Чтоб наши родители, педагоги и баб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Никогда не краснели за на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емид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2133360" cy="2111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2200" y="914400"/>
            <a:ext cx="21304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 Николаевна</cp:lastModifiedBy>
  <dcterms:modified xsi:type="dcterms:W3CDTF">2012-03-27T17:07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