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6EE-A158-44D1-8650-225975F2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C54-C2C4-4EC0-BBFC-B1F75862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EBB-39C0-465F-B3FF-360BA979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305-B3FB-4D1E-A205-33049E0B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566-4204-485D-83B7-16B2C754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27E-2E99-46C3-B218-D10C5DA2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C89-A89F-40D8-8061-F409A262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786-C50D-4CFF-BB6D-8F4F9E5C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024-3542-41F0-8303-0BAD4AA5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DAF-E0D8-4A7A-B6D5-CB2260B0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27D-290A-428A-BD7A-42019BDE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E95-FCC6-48E7-8ACE-49BC50D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C060-7F7B-473B-8EA1-9873A1120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pg.kz/wallpapers/62bbb7458ba559f0a2ed81b0fe34c71c/2422_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club.foto.ru/gallery/images/photo/2007/10/14/963681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npath.ru/files/Photos/notes/28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ral.ru/lhotse/photo/nev_14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climb.com.ua/fotogor/133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7summits.com/images/media/kilimanjaro3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eastmartour.com/images/ligi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kavun.kherson.ua/images/gallery/big/167-K4vJ78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87480" y="299880"/>
            <a:ext cx="5564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00"/>
                </a:solidFill>
                <a:latin typeface="Arial"/>
              </a:rPr>
              <a:t>Отгадайте загадки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8440" y="831960"/>
            <a:ext cx="4555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е видать ее корней,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Вершина выше тополей,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Все вверх и вверх она идет,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 не растет…..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43" name="Picture 7" descr="Картинка 3 из 12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12680"/>
            <a:ext cx="3240360" cy="2432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01880" y="2558880"/>
            <a:ext cx="44604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тала группа гор в цепочку,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Есть для перевалов точки.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И конца цепочке нет –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Это тянется …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45" name="Picture 10" descr="Картинка 19 из 14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1916280"/>
            <a:ext cx="3691080" cy="2458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-144000" y="4437000"/>
            <a:ext cx="4312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3.Её название – два слова.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Первое – цветочек с поля.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Алый, с черной сердцевиной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И с дурманящею силой.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права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"Кинли"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напиши,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Все название найди! 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47" name="Picture 13" descr="Картинка 10 из 15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4149720"/>
            <a:ext cx="3826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835280" y="476280"/>
            <a:ext cx="50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87280" y="4762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По </a:t>
            </a:r>
            <a:r>
              <a:rPr b="1" i="1" lang="ru-RU" sz="3600" spc="-1" strike="noStrike">
                <a:solidFill>
                  <a:srgbClr val="ff7c80"/>
                </a:solidFill>
                <a:latin typeface="Arial"/>
              </a:rPr>
              <a:t>абсолютной высоте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выделяют три группы равнин:</a:t>
            </a: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2421000"/>
            <a:ext cx="882000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Низменности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(0-200м):</a:t>
            </a: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Амазонская, Прикаспийская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озвышенности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(200-500м):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алдайская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лоскогорья</a:t>
            </a: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500-1000м)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реднесибирское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12211" t="5891" r="13147" b="27336"/>
          <a:stretch/>
        </p:blipFill>
        <p:spPr>
          <a:xfrm>
            <a:off x="0" y="620640"/>
            <a:ext cx="4248000" cy="304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2211" t="4637" r="12211" b="26057"/>
          <a:stretch/>
        </p:blipFill>
        <p:spPr>
          <a:xfrm>
            <a:off x="1692360" y="3618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-108720" y="-792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изменность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570920" y="135000"/>
            <a:ext cx="33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звышенность</a:t>
            </a:r>
            <a:endParaRPr b="0" lang="en-US" sz="2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870520" y="4405320"/>
            <a:ext cx="31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лоскогорье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88" name="Picture 11" descr="Картинка 33 из 581"/>
          <p:cNvPicPr/>
          <p:nvPr/>
        </p:nvPicPr>
        <p:blipFill>
          <a:blip r:embed="rId3"/>
          <a:stretch/>
        </p:blipFill>
        <p:spPr>
          <a:xfrm>
            <a:off x="4572000" y="692280"/>
            <a:ext cx="4213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539640" y="476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Определите каким цветом </a:t>
            </a:r>
            <a:br>
              <a:rPr sz="3600"/>
            </a:b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на физической карте показаны  равнины:</a:t>
            </a: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8360" y="2565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Западно – Сибирская равнина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1" name="Text Box 1024"/>
          <p:cNvSpPr/>
          <p:nvPr/>
        </p:nvSpPr>
        <p:spPr>
          <a:xfrm>
            <a:off x="395280" y="3346560"/>
            <a:ext cx="54007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Arial"/>
              </a:rPr>
              <a:t>(зеленый цвет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2" name="Text Box 1025"/>
          <p:cNvSpPr/>
          <p:nvPr/>
        </p:nvSpPr>
        <p:spPr>
          <a:xfrm>
            <a:off x="468360" y="3860640"/>
            <a:ext cx="80643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Среднерусская возвышенность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3" name="Text Box 1026"/>
          <p:cNvSpPr/>
          <p:nvPr/>
        </p:nvSpPr>
        <p:spPr>
          <a:xfrm>
            <a:off x="468360" y="4508640"/>
            <a:ext cx="68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d215"/>
                </a:solidFill>
                <a:latin typeface="Arial"/>
              </a:rPr>
              <a:t>(желтый цвет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d2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4" name="Text Box 1028"/>
          <p:cNvSpPr/>
          <p:nvPr/>
        </p:nvSpPr>
        <p:spPr>
          <a:xfrm>
            <a:off x="468360" y="5229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Среднесибирское плоскогорье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5" name="Text Box 1029"/>
          <p:cNvSpPr/>
          <p:nvPr/>
        </p:nvSpPr>
        <p:spPr>
          <a:xfrm>
            <a:off x="468360" y="6021360"/>
            <a:ext cx="64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(оранжевый цвет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800"/>
                </a:solidFill>
                <a:latin typeface="Arial"/>
              </a:rPr>
              <a:t>Определите лишнее по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Западно-Сибир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95280" y="2421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Амазонская</a:t>
            </a: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68360" y="3284640"/>
            <a:ext cx="7920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Восточно-Европейская</a:t>
            </a: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39640" y="4221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Кордильеры</a:t>
            </a: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39640" y="5013360"/>
            <a:ext cx="7345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Среднесибирское</a:t>
            </a: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hsl" dir="cw">
                                      <p:cBhvr>
                                        <p:cTn id="2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800"/>
                </a:solidFill>
                <a:latin typeface="Arial"/>
              </a:rPr>
              <a:t>Определите лишнее по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Амазон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8360" y="256536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Среднерусская</a:t>
            </a: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360" y="357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Западно-Сибирская</a:t>
            </a: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9640" y="464184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Восточно-Европейская</a:t>
            </a: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hsl" dir="cw">
                                      <p:cBhvr>
                                        <p:cTn id="2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7727"/>
                </a:solidFill>
                <a:latin typeface="Arial"/>
              </a:rPr>
              <a:t>Какая ошибка допущена в классифика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132000" y="1989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Рельеф суши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042920" y="2852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156360" y="292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Равнины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0" y="429264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изкие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908000" y="4076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лоские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3708360" y="3933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сокие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7020000" y="5229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Средние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7216920" y="3860640"/>
            <a:ext cx="138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843280" y="587700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Холмистые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7" name="Line 29"/>
          <p:cNvSpPr/>
          <p:nvPr/>
        </p:nvSpPr>
        <p:spPr>
          <a:xfrm flipH="1">
            <a:off x="2771280" y="2492280"/>
            <a:ext cx="1584360" cy="505080"/>
          </a:xfrm>
          <a:prstGeom prst="line">
            <a:avLst/>
          </a:prstGeom>
          <a:ln w="9360">
            <a:solidFill>
              <a:srgbClr val="277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8" name="Line 31"/>
          <p:cNvSpPr/>
          <p:nvPr/>
        </p:nvSpPr>
        <p:spPr>
          <a:xfrm flipH="1">
            <a:off x="755280" y="3357720"/>
            <a:ext cx="1368360" cy="1008000"/>
          </a:xfrm>
          <a:prstGeom prst="line">
            <a:avLst/>
          </a:prstGeom>
          <a:ln w="9360">
            <a:solidFill>
              <a:srgbClr val="277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2124000" y="3357720"/>
            <a:ext cx="576360" cy="792000"/>
          </a:xfrm>
          <a:prstGeom prst="line">
            <a:avLst/>
          </a:prstGeom>
          <a:ln w="9360">
            <a:solidFill>
              <a:srgbClr val="277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2124000" y="3357720"/>
            <a:ext cx="2087640" cy="647640"/>
          </a:xfrm>
          <a:prstGeom prst="line">
            <a:avLst/>
          </a:prstGeom>
          <a:ln w="9360">
            <a:solidFill>
              <a:srgbClr val="277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>
            <a:off x="4356000" y="2492280"/>
            <a:ext cx="2160720" cy="505080"/>
          </a:xfrm>
          <a:prstGeom prst="line">
            <a:avLst/>
          </a:prstGeom>
          <a:ln w="9360">
            <a:solidFill>
              <a:srgbClr val="277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 flipH="1">
            <a:off x="4571640" y="3357720"/>
            <a:ext cx="2305080" cy="2303280"/>
          </a:xfrm>
          <a:prstGeom prst="line">
            <a:avLst/>
          </a:prstGeom>
          <a:ln w="9360">
            <a:solidFill>
              <a:srgbClr val="277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23" name="Line 37"/>
          <p:cNvSpPr/>
          <p:nvPr/>
        </p:nvSpPr>
        <p:spPr>
          <a:xfrm>
            <a:off x="6877080" y="3357720"/>
            <a:ext cx="1079640" cy="1800000"/>
          </a:xfrm>
          <a:prstGeom prst="line">
            <a:avLst/>
          </a:prstGeom>
          <a:ln w="9360">
            <a:solidFill>
              <a:srgbClr val="2777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Rot by="21600000">
                                      <p:cBhvr>
                                        <p:cTn id="2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Rot by="21600000">
                                      <p:cBhvr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для Вас"/>
          <p:cNvPicPr/>
          <p:nvPr/>
        </p:nvPicPr>
        <p:blipFill>
          <a:blip r:embed="rId1"/>
          <a:stretch/>
        </p:blipFill>
        <p:spPr>
          <a:xfrm>
            <a:off x="1116000" y="1541520"/>
            <a:ext cx="6624720" cy="1527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95280" y="260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e00"/>
                </a:solidFill>
                <a:latin typeface="Arial"/>
              </a:rPr>
              <a:t>Определите, какой вид равнин изображен на профиле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126" name="Picture 6" descr="для Вас"/>
          <p:cNvPicPr/>
          <p:nvPr/>
        </p:nvPicPr>
        <p:blipFill>
          <a:blip r:embed="rId2"/>
          <a:stretch/>
        </p:blipFill>
        <p:spPr>
          <a:xfrm>
            <a:off x="1116000" y="3357720"/>
            <a:ext cx="6624720" cy="165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для Вас"/>
          <p:cNvPicPr/>
          <p:nvPr/>
        </p:nvPicPr>
        <p:blipFill>
          <a:blip r:embed="rId3"/>
          <a:stretch/>
        </p:blipFill>
        <p:spPr>
          <a:xfrm>
            <a:off x="1187280" y="5229360"/>
            <a:ext cx="6624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979640" y="260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84360" y="1125360"/>
            <a:ext cx="7920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21, стр. 63, упр. 4 (письменно) 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2. Нанести на контурную карту: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00"/>
                </a:solidFill>
                <a:latin typeface="Arial"/>
              </a:rPr>
              <a:t>Восточно – Европейскую равнину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00"/>
                </a:solidFill>
                <a:latin typeface="Arial"/>
              </a:rPr>
              <a:t>Западно – Сибирскую равнину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00"/>
                </a:solidFill>
                <a:latin typeface="Arial"/>
              </a:rPr>
              <a:t>Амазонскую низменность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00"/>
                </a:solidFill>
                <a:latin typeface="Arial"/>
              </a:rPr>
              <a:t>Среднерусскую возвышенность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00"/>
                </a:solidFill>
                <a:latin typeface="Arial"/>
              </a:rPr>
              <a:t>Среднесибирское плоскогорье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3. (По желанию)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оставить кроссворд по теме «Рельеф»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a00"/>
                </a:solidFill>
                <a:latin typeface="Arial"/>
              </a:rPr>
              <a:t>Где находятся го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Картинка 14 из 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549360"/>
            <a:ext cx="3402000" cy="2552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11480" y="31417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Эверест 8848 м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51" name="Picture 9" descr="Картинка 18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620640"/>
            <a:ext cx="3617640" cy="2716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596200" y="342900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Аконкагуа 6960 м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53" name="Picture 12" descr="Картинка 86 из 15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573360"/>
            <a:ext cx="4032000" cy="2664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05520" y="6303960"/>
            <a:ext cx="35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Килиманджаро 5895 м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55" name="Picture 15" descr="Картинка 11 из 67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3789360"/>
            <a:ext cx="3348000" cy="2511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6"/>
          <p:cNvSpPr/>
          <p:nvPr/>
        </p:nvSpPr>
        <p:spPr>
          <a:xfrm>
            <a:off x="5574960" y="6230880"/>
            <a:ext cx="27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Эльбрус 5642 м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042920" y="981000"/>
            <a:ext cx="32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58" name="Text Box 1024"/>
          <p:cNvSpPr/>
          <p:nvPr/>
        </p:nvSpPr>
        <p:spPr>
          <a:xfrm>
            <a:off x="395280" y="1125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00"/>
                </a:solidFill>
                <a:latin typeface="Arial"/>
              </a:rPr>
              <a:t>Какую форму рельефа мы изучили на прошлом уроке?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59" name="Text Box 1025"/>
          <p:cNvSpPr/>
          <p:nvPr/>
        </p:nvSpPr>
        <p:spPr>
          <a:xfrm>
            <a:off x="395280" y="21337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00"/>
                </a:solidFill>
                <a:latin typeface="Arial"/>
              </a:rPr>
              <a:t>На какие группы горы делятся по абсолютной высоте?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60" name="Text Box 1026"/>
          <p:cNvSpPr/>
          <p:nvPr/>
        </p:nvSpPr>
        <p:spPr>
          <a:xfrm>
            <a:off x="395280" y="3213000"/>
            <a:ext cx="842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00"/>
                </a:solidFill>
                <a:latin typeface="Arial"/>
              </a:rPr>
              <a:t>По карте полушарий определите какие горы пересекает параллель 30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°</a:t>
            </a:r>
            <a:r>
              <a:rPr b="0" lang="ru-RU" sz="3200" spc="-1" strike="noStrike">
                <a:solidFill>
                  <a:srgbClr val="00b000"/>
                </a:solidFill>
                <a:latin typeface="Arial"/>
              </a:rPr>
              <a:t> ю.ш.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61" name="Text Box 1027"/>
          <p:cNvSpPr/>
          <p:nvPr/>
        </p:nvSpPr>
        <p:spPr>
          <a:xfrm>
            <a:off x="468360" y="4292640"/>
            <a:ext cx="770400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00"/>
                </a:solidFill>
                <a:latin typeface="Arial"/>
              </a:rPr>
              <a:t>По карте полушарий определите какие горы расположены вдоль меридиана 60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°</a:t>
            </a:r>
            <a:r>
              <a:rPr b="0" lang="ru-RU" sz="3200" spc="-1" strike="noStrike">
                <a:solidFill>
                  <a:srgbClr val="00b000"/>
                </a:solidFill>
                <a:latin typeface="Arial"/>
              </a:rPr>
              <a:t>в.д.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33" descr="rav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28"/>
          <p:cNvSpPr/>
          <p:nvPr/>
        </p:nvSpPr>
        <p:spPr>
          <a:xfrm>
            <a:off x="826920" y="404640"/>
            <a:ext cx="777744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71"/>
                </a:solidFill>
                <a:latin typeface="Arial"/>
              </a:rPr>
              <a:t>Тема:</a:t>
            </a:r>
            <a:endParaRPr b="0" lang="en-US" sz="72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7c80"/>
                </a:solidFill>
                <a:latin typeface="Arial"/>
                <a:ea typeface="Arial"/>
              </a:rPr>
              <a:t>РАВНИНЫ СУШИ</a:t>
            </a:r>
            <a:endParaRPr b="0" lang="en-US" sz="66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332000" y="1052640"/>
            <a:ext cx="62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692360" y="98100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187280" y="692280"/>
            <a:ext cx="6409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Как угрюмый кошмар исполина,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Поглотивший луга и леса,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Без конца протянулась равнина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И краями ушла в небеса.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И краями пронзила пространство,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И до звезд прикоснулась вдали,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Затенив мировое пространство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Монотонной печалью земли.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К.Бальмонт</a:t>
            </a:r>
            <a:endParaRPr b="0" lang="en-US" sz="28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mountains_005"/>
          <p:cNvPicPr/>
          <p:nvPr/>
        </p:nvPicPr>
        <p:blipFill>
          <a:blip r:embed="rId1"/>
          <a:stretch/>
        </p:blipFill>
        <p:spPr>
          <a:xfrm>
            <a:off x="324000" y="2060640"/>
            <a:ext cx="4246560" cy="4032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68" name="Picture 5" descr="rav 3"/>
          <p:cNvPicPr/>
          <p:nvPr/>
        </p:nvPicPr>
        <p:blipFill>
          <a:blip r:embed="rId2"/>
          <a:stretch/>
        </p:blipFill>
        <p:spPr>
          <a:xfrm>
            <a:off x="4799160" y="2060640"/>
            <a:ext cx="4074840" cy="4105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69" name="Text Box 1024"/>
          <p:cNvSpPr/>
          <p:nvPr/>
        </p:nvSpPr>
        <p:spPr>
          <a:xfrm>
            <a:off x="684360" y="620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Назовите главное отличие гор от равнин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68360" y="33336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опытайтесь сами сказать, что такое «равнина»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71" name="Picture 1025" descr="Картинка 7 из 12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84280"/>
            <a:ext cx="6697800" cy="50259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25" descr="Картинка 16 из 127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476280"/>
            <a:ext cx="88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авнины –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то участки земной поверхности,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 которых перепады относительных высот не превышают 200м.</a:t>
            </a:r>
            <a:endParaRPr b="0" lang="en-US" sz="4000" spc="-1" strike="noStrike">
              <a:solidFill>
                <a:srgbClr val="00b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147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200"/>
                </a:solidFill>
                <a:latin typeface="Arial"/>
              </a:rPr>
              <a:t>По </a:t>
            </a: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характеру рельефа</a:t>
            </a:r>
            <a:r>
              <a:rPr b="1" i="1" lang="ru-RU" sz="4000" spc="-1" strike="noStrike">
                <a:solidFill>
                  <a:srgbClr val="009200"/>
                </a:solidFill>
                <a:latin typeface="Arial"/>
              </a:rPr>
              <a:t> выделяют следующие виды равни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3168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Плоские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 (без перепада выс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падно - Сиби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148360" y="2205000"/>
            <a:ext cx="37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Холмистые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 (с перепадом высот менее 200 м)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сточно - Европейская</a:t>
            </a:r>
            <a:endParaRPr b="0" lang="en-US" sz="20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41656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1"/>
          <a:stretch/>
        </p:blipFill>
        <p:spPr>
          <a:xfrm>
            <a:off x="4716360" y="3467160"/>
            <a:ext cx="4211640" cy="3178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Картинка 120 из 168"/>
          <p:cNvPicPr/>
          <p:nvPr/>
        </p:nvPicPr>
        <p:blipFill>
          <a:blip r:embed="rId2"/>
          <a:stretch/>
        </p:blipFill>
        <p:spPr>
          <a:xfrm>
            <a:off x="0" y="3500280"/>
            <a:ext cx="45720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4:35:34Z</dcterms:created>
  <dc:creator>Komp1</dc:creator>
  <dc:description/>
  <dc:language>en-US</dc:language>
  <cp:lastModifiedBy>User</cp:lastModifiedBy>
  <dcterms:modified xsi:type="dcterms:W3CDTF">2012-11-11T14:22:19Z</dcterms:modified>
  <cp:revision>29</cp:revision>
  <dc:subject/>
  <dc:title>Слайд 1</dc:title>
</cp:coreProperties>
</file>