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17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gif" ContentType="image/gif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925-4F38-4955-8BFD-7E1C7C68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65F-3597-4972-B56E-19941CC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725-7C13-447D-85BF-AAFF2AD4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896-60CF-4C29-8956-A4E63E84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84A-0180-416E-9727-565A9B6A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9C3-7E77-4E4F-87CF-7058BF6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D67-19BD-4478-BD83-76DBB661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440-A80F-4810-B0C2-92FA4D4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8B1-6FB2-4AAC-A49F-9DBAF24E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BD8-C198-46A6-985E-644C86F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74E-8A52-46A9-94A0-D14494D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256-FE67-452C-8507-0B2F92E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DA2F-C5D6-4CD2-B354-ACA8E0294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ecoera.ucoz.ua/_nw/0/29568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dark-shadow.3dn.ru/_fr/0/1487018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unseal.narod.ru/picture_3/fish_nz_4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jpg.kz/wallpapers/62bbb7458ba559f0a2ed81b0fe34c71c/2422_1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club.foto.ru/gallery/images/photo/2007/10/14/963681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npath.ru/files/Photos/notes/28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fishery.com.ua/images/product_images/popup_images/5128_0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ral.ru/lhotse/photo/nev_14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climb.com.ua/fotogor/133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7summits.com/images/media/kilimanjaro3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eastmartour.com/images/ligi.jp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Рельеф дна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178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cc0066"/>
                </a:solidFill>
                <a:uFillTx/>
                <a:latin typeface="Arial"/>
              </a:rPr>
              <a:t>Основные части дна 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атериковая отм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шельф) – подводная окраина матер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7406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Материковая отм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елководная слегка холмистая равнина, постепенно понижается до 200 м. ниже уровня океана. Она покрыта обломочными породами, принесёнными реками с суши или образовавшихся при разрушении берег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шельфовом мелководье вода хорошо прогревается , реки приносят с суши питательные вещества, развивается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ЛАНКТОН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а следовательно здесь много рыбы. Именно шельфовая зона МО дает 90 % мирового улова ры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4535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шельфе ведется добыча нефти, алма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ть добывают В Северном  море, Персидском и Мексиканском заливах, в России – на о.Сахалин, Каспийском , Карском и Баренцевом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35 из 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13000"/>
            <a:ext cx="4081320" cy="4081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Материковый склон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ь подводной окраины материка, крутой уступ до глубины 2 – 3 тыс.  метров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плавно переходит в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ложе океана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ое занимает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более 70% д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имеет самые большие –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котлови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глубина которых от 4 до 7 тыс. м. Котловины разделены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хребтами и возвышен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дном котловин поднимаются на тысячи метров высокие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конусы вулкан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ействующие извергают лаву, которая разносится водными потоками и оседают на дно. Потухшие вулканы имеют плоские вершины, т.к. выровнены течениями.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Вулканы, поднявшиеся над водой, образуют вулканические о-в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мером таких вулканов могут служить Гавайские о-ва и Курильские о-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17 из 134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35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а 9 из 181"/>
          <p:cNvPicPr/>
          <p:nvPr/>
        </p:nvPicPr>
        <p:blipFill>
          <a:blip r:embed="rId3"/>
          <a:stretch/>
        </p:blipFill>
        <p:spPr>
          <a:xfrm>
            <a:off x="4788000" y="2421000"/>
            <a:ext cx="40687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0848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рединно-океанические хреб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крупнейшие фор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ирового океана, образующие единую горную систему, протяженностью более 60 тыс. км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ельная высота их 3-4 км., ширина до 2 тыс. км. Наиболее широкие срединно-океанические хребты находятся в Тихом океане- Восточно – Тихоокеанское поднятие. Там где вершины срединно-океанических хребтов выходят на поверхность образуются о-ва (о. Исландия) Есть в океане и отдельные горные хребты (хребет Ломоносова в Северном Ледовитом океа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427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не океанов встречаются и необычные формы рельефа – </a:t>
            </a: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глубоководные жело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Это узкие и длинные (в сотни и тысячи км.) понижения с крутыми склонами и почти ровным дном, глубиной более 6000 м.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Самый глубокий на Земле желоб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Марианский (11 022 м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Картинка 3 из 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907920"/>
            <a:ext cx="4465800" cy="446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300720" y="278136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41280" y="16477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Тихий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изучают рельеф д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ньше глубину измеряли с помощь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старинный прибор , состоящий из троса с грузилом на конце)каната или троса, так длина троса с грузом у Магеллана составляла  37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Картинка 35 из 33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3789360"/>
            <a:ext cx="2158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7480" y="299880"/>
            <a:ext cx="5564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гадайте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40" y="831960"/>
            <a:ext cx="4555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Не видать ее корн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Вершина выше топо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Все вверх и вверх она ид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Но не растет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3 из 126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112680"/>
            <a:ext cx="3240360" cy="243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1880" y="2558880"/>
            <a:ext cx="44604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Стала группа гор в цепоч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Есть для перевалов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И конца цепочке не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Это тяне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9 из 14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916280"/>
            <a:ext cx="3691080" cy="245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4000" y="4437000"/>
            <a:ext cx="431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3.Её название – два слова.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ервое – цветочек с поля.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Алый, с черной сердцевиной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И с дурманящею силой.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права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"Кинли"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напиши, </a:t>
            </a:r>
            <a:br>
              <a:rPr sz="2000"/>
            </a:b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Все название найд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0 из 15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4149720"/>
            <a:ext cx="3826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ременные ученые для измерения глубин используют прибор </a:t>
            </a: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ЭХОЛОТ-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ор для изучения рельефа дна МО. В основе действия – принцип измерения времени, которое требуется звуку, чтобы дойти с борта корабля до дна и вернуться назад(скорость распространения звука в воде 1500 м/се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146 из 4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84960" y="4751280"/>
            <a:ext cx="27590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173 из 461"/>
          <p:cNvPicPr/>
          <p:nvPr/>
        </p:nvPicPr>
        <p:blipFill>
          <a:blip r:embed="rId4"/>
          <a:stretch/>
        </p:blipFill>
        <p:spPr>
          <a:xfrm>
            <a:off x="0" y="4802040"/>
            <a:ext cx="2570040" cy="2055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77 из 461"/>
          <p:cNvPicPr/>
          <p:nvPr/>
        </p:nvPicPr>
        <p:blipFill>
          <a:blip r:embed="rId5"/>
          <a:stretch/>
        </p:blipFill>
        <p:spPr>
          <a:xfrm>
            <a:off x="3635280" y="4292640"/>
            <a:ext cx="1830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3250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, повторить16-21,вопросы на странице 67-6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обобщающему уроку по теме «Литосфе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600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Где находятся го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4 из 9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620640"/>
            <a:ext cx="3402000" cy="255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1480" y="31417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Эверест 8848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8 из 16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620640"/>
            <a:ext cx="3617640" cy="271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96200" y="342900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Аконкагуа 696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86 из 15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3573360"/>
            <a:ext cx="4032000" cy="266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5520" y="6303960"/>
            <a:ext cx="35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Килиманджаро 5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11 из 67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92720" y="378936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74960" y="6230880"/>
            <a:ext cx="27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Эльбрус 564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ая равнина находится восточне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адно-Сиби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изменность на севере Юж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равнина находится восточне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сибирское плоскогорь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адно-Сибирская низ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Горы на севере Скандинавского полу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Какие горы расположены южне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малаи или Ти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765000"/>
            <a:ext cx="8317080" cy="68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Какой вулкан расположен западнее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илиманджаро или Камер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Какие горы располагаются восточнее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ральские или Тянь-Ш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Горы Кордилье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расположены на западе или востоке Север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Горы между Черным и Каспийским  мор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Какие горы выше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ьпы или Анд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2276640"/>
            <a:ext cx="6192720" cy="18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льеф д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рового океа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спом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релье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отличается материковая земная кора от океаничес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формы рельефа с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о физической карте полушарий можно определить глубины морей и океа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7451640" y="1341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6443640" y="1844640"/>
            <a:ext cx="792360" cy="755640"/>
          </a:xfrm>
          <a:custGeom>
            <a:avLst/>
            <a:gdLst>
              <a:gd name="textAreaLeft" fmla="*/ 48960 w 792360"/>
              <a:gd name="textAreaRight" fmla="*/ 743400 w 79236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49" h="21600">
                <a:moveTo>
                  <a:pt x="0" y="0"/>
                </a:moveTo>
                <a:lnTo>
                  <a:pt x="22649" y="0"/>
                </a:lnTo>
                <a:lnTo>
                  <a:pt x="22649" y="21600"/>
                </a:lnTo>
                <a:lnTo>
                  <a:pt x="0" y="21600"/>
                </a:lnTo>
                <a:close/>
              </a:path>
              <a:path fill="lightenLess" w="22649" h="21600">
                <a:moveTo>
                  <a:pt x="0" y="0"/>
                </a:moveTo>
                <a:lnTo>
                  <a:pt x="22649" y="0"/>
                </a:lnTo>
                <a:lnTo>
                  <a:pt x="21249" y="1400"/>
                </a:lnTo>
                <a:lnTo>
                  <a:pt x="1400" y="1400"/>
                </a:lnTo>
                <a:close/>
              </a:path>
              <a:path fill="darken" w="22649" h="21600">
                <a:moveTo>
                  <a:pt x="22649" y="0"/>
                </a:moveTo>
                <a:lnTo>
                  <a:pt x="22649" y="21600"/>
                </a:lnTo>
                <a:lnTo>
                  <a:pt x="21249" y="20200"/>
                </a:lnTo>
                <a:lnTo>
                  <a:pt x="21249" y="1400"/>
                </a:lnTo>
                <a:close/>
              </a:path>
              <a:path fill="darkenLess" w="22649" h="21600">
                <a:moveTo>
                  <a:pt x="22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9" y="20200"/>
                </a:lnTo>
                <a:close/>
              </a:path>
              <a:path fill="lighten" w="22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4" action="ppaction://hlinksldjump"/>
          </p:cNvPr>
          <p:cNvSpPr/>
          <p:nvPr/>
        </p:nvSpPr>
        <p:spPr>
          <a:xfrm>
            <a:off x="2700360" y="314172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7:36:00Z</dcterms:created>
  <dc:creator>Татьяна</dc:creator>
  <dc:description/>
  <dc:language>en-US</dc:language>
  <cp:lastModifiedBy>Дом</cp:lastModifiedBy>
  <dcterms:modified xsi:type="dcterms:W3CDTF">2008-12-03T13:17:59Z</dcterms:modified>
  <cp:revision>7</cp:revision>
  <dc:subject/>
  <dc:title>Слайд 1</dc:title>
</cp:coreProperties>
</file>