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0BE-50D8-4E4C-A8C0-89552DC3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36A-1910-48DB-BF66-EAFDF41C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353-4DD9-4DDE-BFCE-EC76B4BA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439-3A60-4853-97CD-F5F201D3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F13C-DC56-4E34-A380-EDD21685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234D-0C08-4479-9534-7CE7FB31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257F-CDB2-47FB-9448-B3ADA6FA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67D4-097D-41A3-AA07-7DDCCE13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15AF-D46D-47A7-8F53-7FC65C50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5062-5A5D-4E29-B95F-1544CD37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FA0F-BCE6-4590-A648-84AA1FA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050-F347-419A-862F-967D5FB0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59E2-0E85-4CDC-9376-71A8E72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6EEA-4ABC-423D-A1C1-9288987D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00E1-3ED0-4430-8ACF-23FBDB8B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3B48-81FA-493A-A596-6E0680B9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BC73-28D7-4E19-9199-BCE655A1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AC3-A83E-42F9-A9D9-55BFAD88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EC5-9246-467A-9B7A-0ECF02EA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0CF-F3AF-4252-B9F0-20F8B7B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80C-DA28-475C-9DDA-D1384767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80E-D012-4748-82A7-9D168E77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445-0BAC-4FA2-B03A-2E13A0A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ED9-741E-4F53-966D-8A2EC501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3CBF-51E2-4902-8EF2-5C565A487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7BE5-91F5-413C-A546-3307D666DA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вая оценк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к ней относ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286000" y="152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У СОШ №5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углубленным изучением англий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18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25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33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47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52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ч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ша родительская обяз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относиться к отметкам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AG00319_"/>
          <p:cNvPicPr/>
          <p:nvPr/>
        </p:nvPicPr>
        <p:blipFill>
          <a:blip r:embed="rId1"/>
          <a:stretch/>
        </p:blipFill>
        <p:spPr>
          <a:xfrm>
            <a:off x="3851280" y="3141720"/>
            <a:ext cx="4680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ребёнку оценки всл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омнения - идите в школу и  попытайтесь объективно разобраться в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виняйте беспричинно других взрослых и детей в проблемах собств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15960" cy="140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4114800"/>
            <a:ext cx="927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80520" y="3772080"/>
            <a:ext cx="80010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111</cp:lastModifiedBy>
  <dcterms:modified xsi:type="dcterms:W3CDTF">2012-11-10T11:53:08Z</dcterms:modified>
  <cp:revision>53</cp:revision>
  <dc:subject/>
  <dc:title>PowerPoint Template</dc:title>
</cp:coreProperties>
</file>