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5EB-974F-4ACE-8DD4-EAC9BADE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829-6FDE-402E-B9F4-54303C4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472C0-4037-4407-906C-CE0A73ED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00169-8D32-423E-95D2-678BDFBC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755C7-94B9-41F3-B820-3CEA6F8C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853FC-E237-4459-B9D5-CA83B9A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1EA6-EBD1-4366-8021-666CFAD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B41D8-9955-42B9-BC59-ED1E59C3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7634E-16F9-48D8-A337-8F515A23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C0F49-BD3F-4881-9A2D-5C36DA19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41927-446A-4B65-AB80-3B8CA9AE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A7A-D4F1-4FBD-8A6C-F3CDCFDE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E4A-C6FD-449A-A6F3-A4300F90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310C-65A6-45AB-99B4-668F21E8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EA3-304C-4DB2-8A66-23C087CF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D35D-15BB-4064-A242-3D9BA9F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66C1-CC12-406F-976E-2A874E0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CA5D-E825-4A29-9561-4133799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A2C-37D8-4B67-AE6C-D30C41A2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A45C-508B-4F94-8E4E-E220A9B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98D-417E-4E0E-9348-9F798A9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B02-885A-40A7-8A51-05C0693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6552-A6E4-489B-8D20-2635C88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971E-54F6-4653-9597-34BA5A5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1773-0E99-4F62-B26F-CCBFA623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263-331E-419D-9C0C-2EC7A1FC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95B5-4C4F-4446-B015-794E9328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68AF-7234-4E53-A143-61B0044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D973-301D-4DCB-A988-E11ECDFB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1960-4B14-4858-9DCF-161D730F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8683-0A6D-46CF-B6B8-800C961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9AE-2B1E-45C9-AA6E-0E68C3F0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4840-203D-42E7-A9BF-5931418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2513-2667-4124-A6CD-5F9958E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D703-0961-4DA9-BDA3-202D93D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4672-EB53-4836-813F-1174CAE5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23FC-B590-4583-980D-78016707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FA58-29EC-4323-AE21-972A7CC6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B01F-6ACC-4383-ADC0-132BDCD4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1FA7-D597-49B5-B243-D9BA74EF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C40A-4E70-45EA-8745-2FB2F5B8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E315-2541-4D28-9A6F-C52983BD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845-870C-43E4-A8E2-6C3D57E8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5A03-42C6-41C9-97F1-8AE4F5DF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F1B49-B7BC-4709-87E9-8EE3F24C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E9CA-B00D-456A-96A4-AD512424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3433-0417-47C0-8E3B-6DC7B88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2698-D77B-4E37-8BD2-498C4B0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9F5D-DCB2-4E89-A285-DDD0E7E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09F87-3B3B-493A-852E-859DB63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5B18-3D40-4B80-B971-9DBD705D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FCEB-2A54-49A6-A512-A9D0F288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284EB-5585-4B29-AF5F-21CAEB48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771-B160-4A76-BC16-D71D5E55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E7EC-CD46-4980-90D8-A1C1E69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990C-01A7-46B0-B1B3-854220A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CA5DD-D458-4E85-86DE-5D1347F8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3B54-11E8-479C-9DAA-361C351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5200-DB4C-4785-8021-ED4A0122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90CA-AD6A-48C7-AD4D-2CBDDA9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6C9C-F3D8-44E0-BDF9-B2BC5A7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771C-F0B9-4F6A-BA71-FD70080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1A16-CD27-400B-B559-943B457A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7DD1-B032-4F7D-BBC4-C9A8CF2D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5FC-B8E4-452D-BB7E-9DE93238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E426-BC97-49A7-ADE2-90B05B0A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15267-092A-43BF-9A57-41C0E990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1EE8-4D39-47B7-9767-779A95C3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AF61-E303-4498-A5B9-D9999E2C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69F61-878E-431F-8A42-2698F37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6890-E881-4B09-836B-B60BF4E9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284C2-0ED0-4400-BAF4-CD5F369E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D318-7263-4FE4-B28A-1ADD4B5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F09B-6802-41D9-91EC-2C23AF4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511C-E246-4BC3-BD50-448A296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ACA-1F74-4C07-A19B-89B058F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2DD47-F5F0-4367-BF97-2E6608B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B2FA-F651-447A-B66C-173A07B6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B4A7-8697-404A-B2E6-9595465E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44032-5F35-4626-BDD5-34019270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16CC-4530-4FEB-B1A9-B91EE36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B9C5-C1AC-4B01-AAC9-752CC6D8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9D8E-287C-483D-8872-DA9879DE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2CAEA-B465-49BA-9372-A07008CE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F5EE-25B1-43C9-B44C-5135BD62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5786-C55B-45E5-B6F0-864D101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542-3303-4F34-B052-BF5B8DA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98E4-2587-4437-84F3-2E394A5B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E6025-03C0-46B8-9C7E-F40D91D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8E955-F620-4CB2-B46E-931B5961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175B-D402-4CC9-83CC-EF689DEA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91D9-27FF-4BAE-8A84-177551CF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1CFE7-5EFD-49ED-8EB5-07106924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8D808-B500-4C57-ABAD-F602980A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094E1-F35D-4C47-AA71-866AD52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93D67-EE6C-43F3-94CD-0D2C1CB2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3AE51-C6AD-48BB-B076-FCCA382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AFD-A043-47CF-BADE-48B5346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429A-5437-41C6-BD98-460B8BC9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F01C2-1F19-4B7B-97E5-EE38B36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76D7-FECD-49DB-965D-236F0C1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EB19B-0141-4EA5-BC15-6CF21F7A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B3CF0-4356-4763-B521-EFBC281E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5DCCE-C45F-418D-843C-36050709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5C137-1483-48AB-BDEE-BB4D861D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B0923-D54D-4363-8AEB-ED82D3D8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0C879-A1D0-49D1-8CA9-34469C7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CAE43-545A-40A5-98D3-167FAE6F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E1F-98A2-4352-8AB6-12DB4B0578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E4AA-CB74-43C0-A279-579E462983C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24C-D084-46FC-B152-93DBE09678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2F32-562F-411E-8DB7-1122326C80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753-56EB-4FDB-83D2-186FAFAA7D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AF9-CDB3-4A12-9668-84FA67F49D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CA6-8FE9-4124-9332-54E815A961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956E-F60B-40C3-82C7-F1CCDB17B9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F91-08AF-4514-9829-5E92A670DE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66640" y="1620720"/>
            <a:ext cx="7785360" cy="1141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643040" y="3071520"/>
            <a:ext cx="641520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Я чайник, чайник, чайник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На кухне я начальник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ыхчу, ворчу, клокочу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ай-чаек согреть хочу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оровь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молок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E:\Маша\картинки к презентации\корова.jpeg"/>
          <p:cNvPicPr/>
          <p:nvPr/>
        </p:nvPicPr>
        <p:blipFill>
          <a:blip r:embed="rId1"/>
          <a:stretch/>
        </p:blipFill>
        <p:spPr>
          <a:xfrm>
            <a:off x="1357200" y="2214720"/>
            <a:ext cx="65725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974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52912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E:\Маша\картинки к презентации\кольца.jpeg"/>
          <p:cNvPicPr/>
          <p:nvPr/>
        </p:nvPicPr>
        <p:blipFill>
          <a:blip r:embed="rId2"/>
          <a:stretch/>
        </p:blipFill>
        <p:spPr>
          <a:xfrm>
            <a:off x="1378080" y="1554120"/>
            <a:ext cx="654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E:\Маша\картинки к презентации\деревянный домик.jpeg"/>
          <p:cNvPicPr/>
          <p:nvPr/>
        </p:nvPicPr>
        <p:blipFill>
          <a:blip r:embed="rId2"/>
          <a:stretch/>
        </p:blipFill>
        <p:spPr>
          <a:xfrm>
            <a:off x="571680" y="1357200"/>
            <a:ext cx="82152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E:\Маша\картинки к презентации\малина.jpg"/>
          <p:cNvPicPr/>
          <p:nvPr/>
        </p:nvPicPr>
        <p:blipFill>
          <a:blip r:embed="rId2"/>
          <a:stretch/>
        </p:blipFill>
        <p:spPr>
          <a:xfrm>
            <a:off x="1285920" y="1357200"/>
            <a:ext cx="6215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3267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E:\Маша\картинки к презентации\трактор.jpg"/>
          <p:cNvPicPr/>
          <p:nvPr/>
        </p:nvPicPr>
        <p:blipFill>
          <a:blip r:embed="rId2"/>
          <a:stretch/>
        </p:blipFill>
        <p:spPr>
          <a:xfrm>
            <a:off x="2428920" y="3071880"/>
            <a:ext cx="500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5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5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5400" spc="-1" strike="noStrike">
                <a:solidFill>
                  <a:srgbClr val="4e3b30"/>
                </a:solidFill>
                <a:latin typeface="Franklin Gothic Book"/>
              </a:rPr>
              <a:t>В нашей деревне много   _______. Мой отец работает в ________ бригаде. Я тоже буду ____________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328920" y="237960"/>
            <a:ext cx="5570640" cy="63644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285840" y="1785960"/>
            <a:ext cx="3044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Утром __  __ __  в саду.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2571840" y="2928960"/>
            <a:ext cx="304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407880"/>
            <a:ext cx="8913960" cy="1981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09760" y="2143080"/>
            <a:ext cx="8348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85840" y="2143080"/>
          <a:ext cx="8572320" cy="36622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. 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. 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. пр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б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бе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бе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истот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шум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даро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едвежь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берлога -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7862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осковска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улица -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1238400" y="2214720"/>
            <a:ext cx="61912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560" y="1553760"/>
            <a:ext cx="88390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рандашная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абрика 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E:\Маша\картинки к презентации\карандаш.jpg"/>
          <p:cNvPicPr/>
          <p:nvPr/>
        </p:nvPicPr>
        <p:blipFill>
          <a:blip r:embed="rId1"/>
          <a:stretch/>
        </p:blipFill>
        <p:spPr>
          <a:xfrm>
            <a:off x="1357200" y="2530440"/>
            <a:ext cx="6338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ебячьи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ло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E:\Маша\картинки к презентации\ребята.jpg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орозный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ден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2000160" y="2357280"/>
            <a:ext cx="5072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23:10:08Z</dcterms:created>
  <dc:creator>Машенька</dc:creator>
  <dc:description/>
  <dc:language>en-US</dc:language>
  <cp:lastModifiedBy>Александр</cp:lastModifiedBy>
  <dcterms:modified xsi:type="dcterms:W3CDTF">2012-11-11T17:27:25Z</dcterms:modified>
  <cp:revision>11</cp:revision>
  <dc:subject/>
  <dc:title>       Читай внимательно:</dc:title>
</cp:coreProperties>
</file>