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43D-653D-454C-9E7A-CDC899CE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304-9404-446C-A133-2353992B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6BF-3ED0-48EE-8ADF-9DA9D784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34E-AECD-427A-AE2B-12FDB47B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8B86-F113-4ECA-88B8-2A6B956F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B3D-3F60-4A4C-8B38-4D229068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858-E391-48C7-B2A2-4FE4707D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F6F-5262-4EA0-8F6C-297B1265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08F-E136-4145-ACA2-2E7CD48A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6F8-C496-4842-897D-2604E5FA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B6C-4D1E-4F54-8E09-21027342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55D-A57A-486C-9C41-F3A21791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7D3D-206E-44E8-9130-C69416DB0E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Щелочные металл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86200"/>
            <a:ext cx="7058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3232"/>
                </a:solidFill>
                <a:latin typeface="Calibri"/>
              </a:rPr>
              <a:t>Куцапкина Людмила Васильев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53232"/>
                </a:solidFill>
                <a:latin typeface="Calibri"/>
              </a:rPr>
              <a:t>Учитель химии ГБОУ гимназии 343 Нев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User\Desktop\1286611177_rrrrr10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Users\User\Desktop\6-02.jpg"/>
          <p:cNvPicPr/>
          <p:nvPr/>
        </p:nvPicPr>
        <p:blipFill>
          <a:blip r:embed="rId1"/>
          <a:stretch/>
        </p:blipFill>
        <p:spPr>
          <a:xfrm>
            <a:off x="290520" y="285840"/>
            <a:ext cx="8639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рашивание пламени солями натрия и ка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User\Desktop\1286611186_rrrrr11.jpg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л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ак как щелочные металлы - это самые сильные восстановители, их можно восстановить из соединений только при электролизе расплавов солей</a:t>
            </a:r>
            <a:br>
              <a:rPr sz="3600"/>
            </a:b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2NaCl=2Na+Cl</a:t>
            </a:r>
            <a:r>
              <a:rPr b="0" lang="ru-RU" sz="8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14200" y="928800"/>
            <a:ext cx="8715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ратите внимание на соединения, образующиеся при химическом взаимодействии щелочных металлов с кислородом. Сравните полученные веще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представляют собой гидриды щелочных металл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образуется при взаимодействии щелочных металлов с водой? Сравните скорость реак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е вещества образуются при взаимодействии щелочных металлов с галогенам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распознать соединения щелочных металлов (обратите внимание на цвет пламени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 выполненных задан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→ 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елочь и водоро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→ 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логенид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Li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→ 2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сид лит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→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оксид натр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→ K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пероксид кал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М + Н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→ 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гидрид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→ 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трид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лектронный баланс для взаимодействия щелочных металлов с вод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0 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ē 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+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-восстанов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Н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+ 2 ē → Н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0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-окислитель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4"/>
          <p:cNvSpPr/>
          <p:nvPr/>
        </p:nvSpPr>
        <p:spPr>
          <a:xfrm flipH="1">
            <a:off x="4572000" y="2143080"/>
            <a:ext cx="1440" cy="2001960"/>
          </a:xfrm>
          <a:prstGeom prst="line">
            <a:avLst/>
          </a:prstGeom>
          <a:ln w="9360">
            <a:solidFill>
              <a:srgbClr val="d344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6"/>
          <p:cNvSpPr/>
          <p:nvPr/>
        </p:nvSpPr>
        <p:spPr>
          <a:xfrm flipH="1">
            <a:off x="4142880" y="2143080"/>
            <a:ext cx="1800" cy="2000160"/>
          </a:xfrm>
          <a:prstGeom prst="line">
            <a:avLst/>
          </a:prstGeom>
          <a:ln w="9360">
            <a:solidFill>
              <a:srgbClr val="d344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годня на урок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ыло интересно… было трудно… я выполнял задания… я понял, что… теперь я могу… я почувствовал, что… я научился… я приобрел… у меня получилось … я смог… я попробую… меня удивило… урок дал мне для жизни… мне захотелос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йте характеристику химическим свойствам калия (записать уравнения реакций  и рассмотреть их с точки зрения ОВР). Предложите применение щелочных металлов. Подумайте на тему: «Соединения щелочных металлов в прир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§ 11, стр.52-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4297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Происхождение названий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щелочных металлов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2071800"/>
            <a:ext cx="81154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Li (1817) лат. " литос" - кам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Na (1807) араб. "натрум" -со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 (1807) араб. "алкали" - щелоч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Rb (1861) лат. "рубидус" - темно-крас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Cs (1860) лат. "цезиус" - небесно-голуб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Fr (1939) от названия страны Франц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ложение в периодической системе химических элементов Д.И.Менделе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группа главная подгрупп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User\Desktop\0003-002-Tablitsa-Mendeleeva.jpg"/>
          <p:cNvPicPr/>
          <p:nvPr/>
        </p:nvPicPr>
        <p:blipFill>
          <a:blip r:embed="rId1"/>
          <a:stretch/>
        </p:blipFill>
        <p:spPr>
          <a:xfrm>
            <a:off x="1357200" y="2214720"/>
            <a:ext cx="6494400" cy="3714480"/>
          </a:xfrm>
          <a:prstGeom prst="rect">
            <a:avLst/>
          </a:prstGeom>
          <a:ln w="0">
            <a:noFill/>
          </a:ln>
        </p:spPr>
      </p:pic>
      <p:sp>
        <p:nvSpPr>
          <p:cNvPr id="48" name="Стрелка вниз 4"/>
          <p:cNvSpPr/>
          <p:nvPr/>
        </p:nvSpPr>
        <p:spPr>
          <a:xfrm>
            <a:off x="928800" y="2428920"/>
            <a:ext cx="331560" cy="364320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57120" y="6000840"/>
            <a:ext cx="57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величивается радиус атомов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астет восстановительная 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менение в подгрупп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User\Desktop\Щелочные_металлы2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User\Desktop\1286611087_rrrrr6.jpg"/>
          <p:cNvPicPr/>
          <p:nvPr/>
        </p:nvPicPr>
        <p:blipFill>
          <a:blip r:embed="rId1"/>
          <a:stretch/>
        </p:blipFill>
        <p:spPr>
          <a:xfrm>
            <a:off x="214200" y="320760"/>
            <a:ext cx="864396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имическая связь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 кристаллической реше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аллическая связ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бическая объемноцентрированная кристаллическая решет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User\Desktop\image765.gif"/>
          <p:cNvPicPr/>
          <p:nvPr/>
        </p:nvPicPr>
        <p:blipFill>
          <a:blip r:embed="rId1"/>
          <a:stretch/>
        </p:blipFill>
        <p:spPr>
          <a:xfrm>
            <a:off x="455760" y="2714760"/>
            <a:ext cx="4187520" cy="378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User\Desktop\84.jpg"/>
          <p:cNvPicPr/>
          <p:nvPr/>
        </p:nvPicPr>
        <p:blipFill>
          <a:blip r:embed="rId2"/>
          <a:stretch/>
        </p:blipFill>
        <p:spPr>
          <a:xfrm>
            <a:off x="5000760" y="2857680"/>
            <a:ext cx="37224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Desktop\1286611159_rrrrr8.jpg"/>
          <p:cNvPicPr/>
          <p:nvPr/>
        </p:nvPicPr>
        <p:blipFill>
          <a:blip r:embed="rId1"/>
          <a:stretch/>
        </p:blipFill>
        <p:spPr>
          <a:xfrm>
            <a:off x="40464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Users\User\Desktop\1286611145_rrrrr9.jpg"/>
          <p:cNvPicPr/>
          <p:nvPr/>
        </p:nvPicPr>
        <p:blipFill>
          <a:blip r:embed="rId1"/>
          <a:stretch/>
        </p:blipFill>
        <p:spPr>
          <a:xfrm>
            <a:off x="285840" y="214200"/>
            <a:ext cx="85676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щелочных металлов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Типичные металлы, очень сильные восстановители. В соединениях проявляют единственную степень окисления +1. Восстановительная способность увеличивается с ростом атомной массы. Взаимодействуют с водой воде с образованием гидроксидов         (R–OH)– щёлочей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оспламеняются на воздухе при умеренном нагревании. С водородом образуют солеобразные гидриды. Продукты сгорания чаще всего пероксиды (кроме лития)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осстановительная способность увеличивается в ряду Li–Na–K–Rb–C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08:45:42Z</dcterms:created>
  <dc:creator>User</dc:creator>
  <dc:description/>
  <dc:language>en-US</dc:language>
  <cp:lastModifiedBy>User</cp:lastModifiedBy>
  <dcterms:modified xsi:type="dcterms:W3CDTF">2012-11-11T11:26:14Z</dcterms:modified>
  <cp:revision>13</cp:revision>
  <dc:subject/>
  <dc:title>Щелочные металлы</dc:title>
</cp:coreProperties>
</file>