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8F2D-E4DE-4B06-9780-F24B8C63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52E1-A720-4EF2-9368-851CFF81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52E1-8D2F-40C9-B5C5-618EE833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39AB-9652-48AA-AAD3-BDD9C16B5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C8AC-53C7-4AF6-9690-902ED2F0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37C8-4FE1-4500-8F15-9C17D8B8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5C0C-4CB9-4E41-A332-841BECA6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EEC9-2E49-4A7B-9464-CCE230A8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C70B-4115-4C84-B648-123DA589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0845-7A0A-4AB1-B645-E8E0891F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6F22-F363-41C2-A441-0EED8E00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10E0-F681-4EAB-A718-EC44D432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A92E-1055-45E9-9383-B6C7FD86CE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rcRect l="30646" t="20162" r="16128" b="13981"/>
          <a:stretch/>
        </p:blipFill>
        <p:spPr>
          <a:xfrm>
            <a:off x="0" y="0"/>
            <a:ext cx="9144000" cy="67881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1571760" y="1571760"/>
            <a:ext cx="6286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Bookman Old Style"/>
              </a:rPr>
              <a:t>Слож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Bookman Old Style"/>
              </a:rPr>
              <a:t>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Bookman Old Style"/>
              </a:rPr>
              <a:t>вычит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Bookman Old Style"/>
              </a:rPr>
              <a:t>десятичных дроб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rcRect l="30646" t="20162" r="16128" b="13981"/>
          <a:stretch/>
        </p:blipFill>
        <p:spPr>
          <a:xfrm>
            <a:off x="0" y="0"/>
            <a:ext cx="9144000" cy="67881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6"/>
          <p:cNvSpPr/>
          <p:nvPr/>
        </p:nvSpPr>
        <p:spPr>
          <a:xfrm>
            <a:off x="857160" y="714240"/>
            <a:ext cx="742968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Даны числа: </a:t>
            </a:r>
            <a:r>
              <a:rPr b="1" lang="ru-RU" sz="3200" spc="-1" strike="noStrike">
                <a:solidFill>
                  <a:srgbClr val="dce6f2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ce6f2"/>
                </a:solidFill>
                <a:latin typeface="Calibri"/>
              </a:rPr>
              <a:t>0,8      1,6       2,9        3,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Разность двух из них равна одному из оставшихся чисел. Запишите это равен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000080" y="4357800"/>
            <a:ext cx="7143840" cy="916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15968"/>
                </a:solidFill>
                <a:latin typeface="Calibri"/>
              </a:rPr>
              <a:t>3,7 – 2,9 = 0,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rcRect l="30646" t="20162" r="16128" b="13981"/>
          <a:stretch/>
        </p:blipFill>
        <p:spPr>
          <a:xfrm>
            <a:off x="0" y="0"/>
            <a:ext cx="9144000" cy="6788160"/>
          </a:xfrm>
          <a:prstGeom prst="rect">
            <a:avLst/>
          </a:prstGeom>
          <a:ln w="0">
            <a:noFill/>
          </a:ln>
        </p:spPr>
      </p:pic>
      <p:sp>
        <p:nvSpPr>
          <p:cNvPr id="143" name="TextBox 4"/>
          <p:cNvSpPr/>
          <p:nvPr/>
        </p:nvSpPr>
        <p:spPr>
          <a:xfrm>
            <a:off x="1571760" y="1571760"/>
            <a:ext cx="6286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2071800" y="642960"/>
            <a:ext cx="5715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928800" y="857160"/>
            <a:ext cx="735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Над каждой ступенью лесенки впиши соответствующий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928800" y="2143080"/>
            <a:ext cx="38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8"/>
          <p:cNvSpPr/>
          <p:nvPr/>
        </p:nvSpPr>
        <p:spPr>
          <a:xfrm>
            <a:off x="857160" y="2071800"/>
            <a:ext cx="7429680" cy="4071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9"/>
          <p:cNvSpPr/>
          <p:nvPr/>
        </p:nvSpPr>
        <p:spPr>
          <a:xfrm>
            <a:off x="1000080" y="5572080"/>
            <a:ext cx="18576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5968"/>
                </a:solidFill>
                <a:latin typeface="Calibri"/>
              </a:rPr>
              <a:t>5+0,9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10"/>
          <p:cNvSpPr/>
          <p:nvPr/>
        </p:nvSpPr>
        <p:spPr>
          <a:xfrm>
            <a:off x="1857240" y="5000760"/>
            <a:ext cx="185760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Calibri"/>
              </a:rPr>
              <a:t>12,1 – 0,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кругленный прямоугольник 11"/>
          <p:cNvSpPr/>
          <p:nvPr/>
        </p:nvSpPr>
        <p:spPr>
          <a:xfrm>
            <a:off x="2643120" y="4429080"/>
            <a:ext cx="18576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Calibri"/>
              </a:rPr>
              <a:t>0,378+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12"/>
          <p:cNvSpPr/>
          <p:nvPr/>
        </p:nvSpPr>
        <p:spPr>
          <a:xfrm>
            <a:off x="5072040" y="2714760"/>
            <a:ext cx="18572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Calibri"/>
              </a:rPr>
              <a:t>33,4 – 1,1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13"/>
          <p:cNvSpPr/>
          <p:nvPr/>
        </p:nvSpPr>
        <p:spPr>
          <a:xfrm>
            <a:off x="4286160" y="3286080"/>
            <a:ext cx="18576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Calibri"/>
              </a:rPr>
              <a:t>7,5 + 3,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14"/>
          <p:cNvSpPr/>
          <p:nvPr/>
        </p:nvSpPr>
        <p:spPr>
          <a:xfrm>
            <a:off x="3357720" y="3857760"/>
            <a:ext cx="18572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413,1 – 131,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8-конечная звезда 15"/>
          <p:cNvSpPr/>
          <p:nvPr/>
        </p:nvSpPr>
        <p:spPr>
          <a:xfrm>
            <a:off x="6929280" y="3786120"/>
            <a:ext cx="1071720" cy="928800"/>
          </a:xfrm>
          <a:custGeom>
            <a:avLst/>
            <a:gdLst>
              <a:gd name="textAreaLeft" fmla="*/ 251640 w 1071720"/>
              <a:gd name="textAreaRight" fmla="*/ 820080 w 1071720"/>
              <a:gd name="textAreaTop" fmla="*/ 218160 h 928800"/>
              <a:gd name="textAreaBottom" fmla="*/ 71064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11,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8-конечная звезда 16"/>
          <p:cNvSpPr/>
          <p:nvPr/>
        </p:nvSpPr>
        <p:spPr>
          <a:xfrm>
            <a:off x="7143840" y="2714760"/>
            <a:ext cx="1071360" cy="928440"/>
          </a:xfrm>
          <a:custGeom>
            <a:avLst/>
            <a:gdLst>
              <a:gd name="textAreaLeft" fmla="*/ 251640 w 1071360"/>
              <a:gd name="textAreaRight" fmla="*/ 819720 w 1071360"/>
              <a:gd name="textAreaTop" fmla="*/ 217800 h 928440"/>
              <a:gd name="textAreaBottom" fmla="*/ 710640 h 92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5,9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8-конечная звезда 17"/>
          <p:cNvSpPr/>
          <p:nvPr/>
        </p:nvSpPr>
        <p:spPr>
          <a:xfrm>
            <a:off x="5429160" y="4071960"/>
            <a:ext cx="1214640" cy="928800"/>
          </a:xfrm>
          <a:custGeom>
            <a:avLst/>
            <a:gdLst>
              <a:gd name="textAreaLeft" fmla="*/ 285120 w 1214640"/>
              <a:gd name="textAreaRight" fmla="*/ 929520 w 1214640"/>
              <a:gd name="textAreaTop" fmla="*/ 218160 h 928800"/>
              <a:gd name="textAreaBottom" fmla="*/ 71064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22,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8-конечная звезда 18"/>
          <p:cNvSpPr/>
          <p:nvPr/>
        </p:nvSpPr>
        <p:spPr>
          <a:xfrm>
            <a:off x="7000920" y="5143680"/>
            <a:ext cx="1214280" cy="928440"/>
          </a:xfrm>
          <a:custGeom>
            <a:avLst/>
            <a:gdLst>
              <a:gd name="textAreaLeft" fmla="*/ 285120 w 1214280"/>
              <a:gd name="textAreaRight" fmla="*/ 929160 w 1214280"/>
              <a:gd name="textAreaTop" fmla="*/ 217800 h 928440"/>
              <a:gd name="textAreaBottom" fmla="*/ 710640 h 92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32,2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8-конечная звезда 19"/>
          <p:cNvSpPr/>
          <p:nvPr/>
        </p:nvSpPr>
        <p:spPr>
          <a:xfrm>
            <a:off x="5786280" y="5214960"/>
            <a:ext cx="1071720" cy="928800"/>
          </a:xfrm>
          <a:custGeom>
            <a:avLst/>
            <a:gdLst>
              <a:gd name="textAreaLeft" fmla="*/ 251640 w 1071720"/>
              <a:gd name="textAreaRight" fmla="*/ 820080 w 1071720"/>
              <a:gd name="textAreaTop" fmla="*/ 218160 h 928800"/>
              <a:gd name="textAreaBottom" fmla="*/ 71064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10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8-конечная звезда 20"/>
          <p:cNvSpPr/>
          <p:nvPr/>
        </p:nvSpPr>
        <p:spPr>
          <a:xfrm>
            <a:off x="4500720" y="5214960"/>
            <a:ext cx="1071360" cy="928800"/>
          </a:xfrm>
          <a:custGeom>
            <a:avLst/>
            <a:gdLst>
              <a:gd name="textAreaLeft" fmla="*/ 251640 w 1071360"/>
              <a:gd name="textAreaRight" fmla="*/ 819720 w 1071360"/>
              <a:gd name="textAreaTop" fmla="*/ 218160 h 928800"/>
              <a:gd name="textAreaBottom" fmla="*/ 71064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28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625 0.01551 L -0.70209 0.3199 E">
                                      <p:cBhvr>
                                        <p:cTn id="417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785 0.01689 L -0.59983 0.09051 E">
                                      <p:cBhvr>
                                        <p:cTn id="426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63 0.01713 L -0.35694 -0.03541 E">
                                      <p:cBhvr>
                                        <p:cTn id="435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08 -0.04468 L -0.16875 -0.31759 E">
                                      <p:cBhvr>
                                        <p:cTn id="444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85 -0.05509 L -0.20712 -0.40162 E">
                                      <p:cBhvr>
                                        <p:cTn id="453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82 -0.06551 L -0.17447 -0.475 E">
                                      <p:cBhvr>
                                        <p:cTn id="462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rcRect l="30646" t="20162" r="16128" b="13981"/>
          <a:stretch/>
        </p:blipFill>
        <p:spPr>
          <a:xfrm>
            <a:off x="0" y="0"/>
            <a:ext cx="9144000" cy="67881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6"/>
          <p:cNvSpPr/>
          <p:nvPr/>
        </p:nvSpPr>
        <p:spPr>
          <a:xfrm>
            <a:off x="1000080" y="785880"/>
            <a:ext cx="7000920" cy="642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Выполни диагностический те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1000080" y="1785960"/>
            <a:ext cx="7072200" cy="20437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40315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Выберите верную запись сложения чисел 5,41 и 32,6 в столб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А)   5,41     б)  5,41       в)   5,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32,6             32,6            32,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9"/>
          <p:cNvSpPr/>
          <p:nvPr/>
        </p:nvSpPr>
        <p:spPr>
          <a:xfrm>
            <a:off x="1928880" y="3786120"/>
            <a:ext cx="1000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люс 10"/>
          <p:cNvSpPr/>
          <p:nvPr/>
        </p:nvSpPr>
        <p:spPr>
          <a:xfrm>
            <a:off x="1928880" y="3071880"/>
            <a:ext cx="214200" cy="285840"/>
          </a:xfrm>
          <a:custGeom>
            <a:avLst/>
            <a:gdLst>
              <a:gd name="textAreaLeft" fmla="*/ 28080 w 214200"/>
              <a:gd name="textAreaRight" fmla="*/ 186120 w 214200"/>
              <a:gd name="textAreaTop" fmla="*/ 117720 h 285840"/>
              <a:gd name="textAreaBottom" fmla="*/ 168120 h 285840"/>
            </a:gdLst>
            <a:ahLst/>
            <a:rect l="textAreaLeft" t="textAreaTop" r="textAreaRight" b="textAreaBottom"/>
            <a:pathLst>
              <a:path w="214312" h="285750">
                <a:moveTo>
                  <a:pt x="28407" y="117672"/>
                </a:moveTo>
                <a:lnTo>
                  <a:pt x="81953" y="117672"/>
                </a:lnTo>
                <a:lnTo>
                  <a:pt x="81953" y="37876"/>
                </a:lnTo>
                <a:lnTo>
                  <a:pt x="132359" y="37876"/>
                </a:lnTo>
                <a:lnTo>
                  <a:pt x="132359" y="117672"/>
                </a:lnTo>
                <a:lnTo>
                  <a:pt x="185905" y="117672"/>
                </a:lnTo>
                <a:lnTo>
                  <a:pt x="185905" y="168078"/>
                </a:lnTo>
                <a:lnTo>
                  <a:pt x="132359" y="168078"/>
                </a:lnTo>
                <a:lnTo>
                  <a:pt x="132359" y="247874"/>
                </a:lnTo>
                <a:lnTo>
                  <a:pt x="81953" y="247874"/>
                </a:lnTo>
                <a:lnTo>
                  <a:pt x="81953" y="168078"/>
                </a:lnTo>
                <a:lnTo>
                  <a:pt x="28407" y="16807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11"/>
          <p:cNvSpPr/>
          <p:nvPr/>
        </p:nvSpPr>
        <p:spPr>
          <a:xfrm>
            <a:off x="3714840" y="3786120"/>
            <a:ext cx="1000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люс 12"/>
          <p:cNvSpPr/>
          <p:nvPr/>
        </p:nvSpPr>
        <p:spPr>
          <a:xfrm>
            <a:off x="3714840" y="3143160"/>
            <a:ext cx="214200" cy="285840"/>
          </a:xfrm>
          <a:custGeom>
            <a:avLst/>
            <a:gdLst>
              <a:gd name="textAreaLeft" fmla="*/ 28080 w 214200"/>
              <a:gd name="textAreaRight" fmla="*/ 186120 w 214200"/>
              <a:gd name="textAreaTop" fmla="*/ 117720 h 285840"/>
              <a:gd name="textAreaBottom" fmla="*/ 168120 h 285840"/>
            </a:gdLst>
            <a:ahLst/>
            <a:rect l="textAreaLeft" t="textAreaTop" r="textAreaRight" b="textAreaBottom"/>
            <a:pathLst>
              <a:path w="214313" h="285750">
                <a:moveTo>
                  <a:pt x="28407" y="117672"/>
                </a:moveTo>
                <a:lnTo>
                  <a:pt x="81953" y="117672"/>
                </a:lnTo>
                <a:lnTo>
                  <a:pt x="81953" y="37876"/>
                </a:lnTo>
                <a:lnTo>
                  <a:pt x="132360" y="37876"/>
                </a:lnTo>
                <a:lnTo>
                  <a:pt x="132360" y="117672"/>
                </a:lnTo>
                <a:lnTo>
                  <a:pt x="185906" y="117672"/>
                </a:lnTo>
                <a:lnTo>
                  <a:pt x="185906" y="168078"/>
                </a:lnTo>
                <a:lnTo>
                  <a:pt x="132360" y="168078"/>
                </a:lnTo>
                <a:lnTo>
                  <a:pt x="132360" y="247874"/>
                </a:lnTo>
                <a:lnTo>
                  <a:pt x="81953" y="247874"/>
                </a:lnTo>
                <a:lnTo>
                  <a:pt x="81953" y="168078"/>
                </a:lnTo>
                <a:lnTo>
                  <a:pt x="28407" y="16807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люс 13"/>
          <p:cNvSpPr/>
          <p:nvPr/>
        </p:nvSpPr>
        <p:spPr>
          <a:xfrm>
            <a:off x="5572080" y="3071880"/>
            <a:ext cx="214200" cy="285840"/>
          </a:xfrm>
          <a:custGeom>
            <a:avLst/>
            <a:gdLst>
              <a:gd name="textAreaLeft" fmla="*/ 28080 w 214200"/>
              <a:gd name="textAreaRight" fmla="*/ 186120 w 214200"/>
              <a:gd name="textAreaTop" fmla="*/ 117720 h 285840"/>
              <a:gd name="textAreaBottom" fmla="*/ 168120 h 285840"/>
            </a:gdLst>
            <a:ahLst/>
            <a:rect l="textAreaLeft" t="textAreaTop" r="textAreaRight" b="textAreaBottom"/>
            <a:pathLst>
              <a:path w="214313" h="285750">
                <a:moveTo>
                  <a:pt x="28407" y="117672"/>
                </a:moveTo>
                <a:lnTo>
                  <a:pt x="81953" y="117672"/>
                </a:lnTo>
                <a:lnTo>
                  <a:pt x="81953" y="37876"/>
                </a:lnTo>
                <a:lnTo>
                  <a:pt x="132360" y="37876"/>
                </a:lnTo>
                <a:lnTo>
                  <a:pt x="132360" y="117672"/>
                </a:lnTo>
                <a:lnTo>
                  <a:pt x="185906" y="117672"/>
                </a:lnTo>
                <a:lnTo>
                  <a:pt x="185906" y="168078"/>
                </a:lnTo>
                <a:lnTo>
                  <a:pt x="132360" y="168078"/>
                </a:lnTo>
                <a:lnTo>
                  <a:pt x="132360" y="247874"/>
                </a:lnTo>
                <a:lnTo>
                  <a:pt x="81953" y="247874"/>
                </a:lnTo>
                <a:lnTo>
                  <a:pt x="81953" y="168078"/>
                </a:lnTo>
                <a:lnTo>
                  <a:pt x="28407" y="16807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15"/>
          <p:cNvSpPr/>
          <p:nvPr/>
        </p:nvSpPr>
        <p:spPr>
          <a:xfrm>
            <a:off x="5643720" y="3786120"/>
            <a:ext cx="1000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6"/>
          <p:cNvSpPr/>
          <p:nvPr/>
        </p:nvSpPr>
        <p:spPr>
          <a:xfrm>
            <a:off x="1071720" y="4214880"/>
            <a:ext cx="7000560" cy="1556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2.  При сложении 3,571  и  4,429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получили  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а) да    б) нет    в) не зн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rcRect l="30646" t="20162" r="16128" b="13981"/>
          <a:stretch/>
        </p:blipFill>
        <p:spPr>
          <a:xfrm>
            <a:off x="0" y="0"/>
            <a:ext cx="9144000" cy="6788160"/>
          </a:xfrm>
          <a:prstGeom prst="rect">
            <a:avLst/>
          </a:prstGeom>
          <a:ln w="0">
            <a:noFill/>
          </a:ln>
        </p:spPr>
      </p:pic>
      <p:sp>
        <p:nvSpPr>
          <p:cNvPr id="175" name="TextBox 6"/>
          <p:cNvSpPr/>
          <p:nvPr/>
        </p:nvSpPr>
        <p:spPr>
          <a:xfrm>
            <a:off x="1000080" y="785880"/>
            <a:ext cx="7000920" cy="642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Выполни диагностический те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1000080" y="1785960"/>
            <a:ext cx="7072200" cy="10688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3. Сумма чисел  1,13 и  2,3 рав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а) 1,36    б) 3,43   в) сво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6"/>
          <p:cNvSpPr/>
          <p:nvPr/>
        </p:nvSpPr>
        <p:spPr>
          <a:xfrm>
            <a:off x="1071720" y="3429000"/>
            <a:ext cx="7000560" cy="1556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403152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Если а=1,09, то знач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выражения  12,37 + а рав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а) 13,46   б) 23,27    в) 22,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rcRect l="30646" t="20162" r="16128" b="13981"/>
          <a:stretch/>
        </p:blipFill>
        <p:spPr>
          <a:xfrm>
            <a:off x="0" y="0"/>
            <a:ext cx="9144000" cy="67881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6"/>
          <p:cNvSpPr/>
          <p:nvPr/>
        </p:nvSpPr>
        <p:spPr>
          <a:xfrm>
            <a:off x="1000080" y="785880"/>
            <a:ext cx="7000920" cy="642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Выполни диагностический те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7"/>
          <p:cNvSpPr/>
          <p:nvPr/>
        </p:nvSpPr>
        <p:spPr>
          <a:xfrm>
            <a:off x="1000080" y="1785960"/>
            <a:ext cx="7072200" cy="10688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5. При уменьшении числа 43,7 на 8,7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а) 34,34  б) 34,97   в) сво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6"/>
          <p:cNvSpPr/>
          <p:nvPr/>
        </p:nvSpPr>
        <p:spPr>
          <a:xfrm>
            <a:off x="1071720" y="3429000"/>
            <a:ext cx="7215120" cy="1556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6. Корень уравнения у+0,83=1,1 равен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а) 1,93  б) 0,33   в) сво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rcRect l="30646" t="20162" r="16128" b="13981"/>
          <a:stretch/>
        </p:blipFill>
        <p:spPr>
          <a:xfrm>
            <a:off x="0" y="0"/>
            <a:ext cx="9144000" cy="6788160"/>
          </a:xfrm>
          <a:prstGeom prst="rect">
            <a:avLst/>
          </a:prstGeom>
          <a:ln w="0">
            <a:noFill/>
          </a:ln>
        </p:spPr>
      </p:pic>
      <p:sp>
        <p:nvSpPr>
          <p:cNvPr id="48" name="TextBox 6"/>
          <p:cNvSpPr/>
          <p:nvPr/>
        </p:nvSpPr>
        <p:spPr>
          <a:xfrm>
            <a:off x="2357280" y="785880"/>
            <a:ext cx="4286520" cy="642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Дана дробь  0,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1143000" y="1928880"/>
            <a:ext cx="7000920" cy="28371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Дополните до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Больше или меньше 0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Представь в виде суммы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Представь в виде раз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Запиши обыкновенной дроб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rcRect l="30646" t="20162" r="16128" b="13981"/>
          <a:stretch/>
        </p:blipFill>
        <p:spPr>
          <a:xfrm>
            <a:off x="0" y="0"/>
            <a:ext cx="9144000" cy="678816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857160" y="714240"/>
            <a:ext cx="7572600" cy="5031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Calibri"/>
              </a:rPr>
              <a:t>Сравнит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6d9f1"/>
                </a:solidFill>
                <a:latin typeface="Calibri"/>
              </a:rPr>
              <a:t>4,3**</a:t>
            </a:r>
            <a:r>
              <a:rPr b="0" lang="en-US" sz="5400" spc="-1" strike="noStrike">
                <a:solidFill>
                  <a:srgbClr val="c6d9f1"/>
                </a:solidFill>
                <a:latin typeface="Calibri"/>
              </a:rPr>
              <a:t>     </a:t>
            </a:r>
            <a:r>
              <a:rPr b="0" lang="ru-RU" sz="5400" spc="-1" strike="noStrike">
                <a:solidFill>
                  <a:srgbClr val="c6d9f1"/>
                </a:solidFill>
                <a:latin typeface="Calibri"/>
              </a:rPr>
              <a:t>4,7**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6d9f1"/>
                </a:solidFill>
                <a:latin typeface="Calibri"/>
              </a:rPr>
              <a:t>       </a:t>
            </a:r>
            <a:r>
              <a:rPr b="0" lang="ru-RU" sz="5400" spc="-1" strike="noStrike">
                <a:solidFill>
                  <a:srgbClr val="c6d9f1"/>
                </a:solidFill>
                <a:latin typeface="Calibri"/>
              </a:rPr>
              <a:t>**, 412 </a:t>
            </a:r>
            <a:r>
              <a:rPr b="0" lang="en-US" sz="5400" spc="-1" strike="noStrike">
                <a:solidFill>
                  <a:srgbClr val="c6d9f1"/>
                </a:solidFill>
                <a:latin typeface="Calibri"/>
              </a:rPr>
              <a:t>     </a:t>
            </a:r>
            <a:r>
              <a:rPr b="0" lang="ru-RU" sz="5400" spc="-1" strike="noStrike">
                <a:solidFill>
                  <a:srgbClr val="c6d9f1"/>
                </a:solidFill>
                <a:latin typeface="Calibri"/>
              </a:rPr>
              <a:t>*,9*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6d9f1"/>
                </a:solidFill>
                <a:latin typeface="Calibri"/>
              </a:rPr>
              <a:t>          </a:t>
            </a:r>
            <a:r>
              <a:rPr b="0" lang="ru-RU" sz="5400" spc="-1" strike="noStrike">
                <a:solidFill>
                  <a:srgbClr val="c6d9f1"/>
                </a:solidFill>
                <a:latin typeface="Calibri"/>
              </a:rPr>
              <a:t>*,*** </a:t>
            </a:r>
            <a:r>
              <a:rPr b="0" lang="en-US" sz="5400" spc="-1" strike="noStrike">
                <a:solidFill>
                  <a:srgbClr val="c6d9f1"/>
                </a:solidFill>
                <a:latin typeface="Calibri"/>
              </a:rPr>
              <a:t>     </a:t>
            </a:r>
            <a:r>
              <a:rPr b="0" lang="ru-RU" sz="5400" spc="-1" strike="noStrike">
                <a:solidFill>
                  <a:srgbClr val="c6d9f1"/>
                </a:solidFill>
                <a:latin typeface="Calibri"/>
              </a:rPr>
              <a:t>**,**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оловина рамки 8"/>
          <p:cNvSpPr/>
          <p:nvPr/>
        </p:nvSpPr>
        <p:spPr>
          <a:xfrm rot="19231800">
            <a:off x="4551480" y="1676160"/>
            <a:ext cx="538200" cy="576000"/>
          </a:xfrm>
          <a:custGeom>
            <a:avLst/>
            <a:gdLst/>
            <a:ahLst/>
            <a:rect l="l" t="t" r="r" b="b"/>
            <a:pathLst>
              <a:path w="538162" h="576263">
                <a:moveTo>
                  <a:pt x="0" y="0"/>
                </a:moveTo>
                <a:lnTo>
                  <a:pt x="538162" y="0"/>
                </a:lnTo>
                <a:lnTo>
                  <a:pt x="370637" y="179386"/>
                </a:lnTo>
                <a:lnTo>
                  <a:pt x="179386" y="179386"/>
                </a:lnTo>
                <a:lnTo>
                  <a:pt x="179386" y="384177"/>
                </a:lnTo>
                <a:lnTo>
                  <a:pt x="0" y="57626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оловина рамки 9"/>
          <p:cNvSpPr/>
          <p:nvPr/>
        </p:nvSpPr>
        <p:spPr>
          <a:xfrm rot="8526600">
            <a:off x="4191840" y="2533320"/>
            <a:ext cx="538200" cy="576360"/>
          </a:xfrm>
          <a:custGeom>
            <a:avLst/>
            <a:gdLst/>
            <a:ahLst/>
            <a:rect l="l" t="t" r="r" b="b"/>
            <a:pathLst>
              <a:path w="538162" h="576263">
                <a:moveTo>
                  <a:pt x="0" y="0"/>
                </a:moveTo>
                <a:lnTo>
                  <a:pt x="538162" y="0"/>
                </a:lnTo>
                <a:lnTo>
                  <a:pt x="370637" y="179386"/>
                </a:lnTo>
                <a:lnTo>
                  <a:pt x="179386" y="179386"/>
                </a:lnTo>
                <a:lnTo>
                  <a:pt x="179386" y="384177"/>
                </a:lnTo>
                <a:lnTo>
                  <a:pt x="0" y="57626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оловина рамки 10"/>
          <p:cNvSpPr/>
          <p:nvPr/>
        </p:nvSpPr>
        <p:spPr>
          <a:xfrm rot="19231800">
            <a:off x="4479840" y="3319200"/>
            <a:ext cx="538200" cy="576000"/>
          </a:xfrm>
          <a:custGeom>
            <a:avLst/>
            <a:gdLst/>
            <a:ahLst/>
            <a:rect l="l" t="t" r="r" b="b"/>
            <a:pathLst>
              <a:path w="538163" h="576262">
                <a:moveTo>
                  <a:pt x="0" y="0"/>
                </a:moveTo>
                <a:lnTo>
                  <a:pt x="538163" y="0"/>
                </a:lnTo>
                <a:lnTo>
                  <a:pt x="370637" y="179386"/>
                </a:lnTo>
                <a:lnTo>
                  <a:pt x="179386" y="179386"/>
                </a:lnTo>
                <a:lnTo>
                  <a:pt x="179386" y="384177"/>
                </a:lnTo>
                <a:lnTo>
                  <a:pt x="0" y="576262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rcRect l="30646" t="20162" r="16128" b="13981"/>
          <a:stretch/>
        </p:blipFill>
        <p:spPr>
          <a:xfrm>
            <a:off x="0" y="0"/>
            <a:ext cx="9144000" cy="678816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7"/>
          <p:cNvSpPr/>
          <p:nvPr/>
        </p:nvSpPr>
        <p:spPr>
          <a:xfrm>
            <a:off x="785880" y="571680"/>
            <a:ext cx="7215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Некоторое число удовлетворяет  одновременно трём неравенствам. Найдите е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8"/>
          <p:cNvSpPr/>
          <p:nvPr/>
        </p:nvSpPr>
        <p:spPr>
          <a:xfrm>
            <a:off x="1428840" y="3244680"/>
            <a:ext cx="5715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6d9f1"/>
                </a:solidFill>
                <a:latin typeface="Calibri"/>
              </a:rPr>
              <a:t>3,5 </a:t>
            </a:r>
            <a:r>
              <a:rPr b="0" lang="en-US" sz="4400" spc="-1" strike="noStrike">
                <a:solidFill>
                  <a:srgbClr val="c6d9f1"/>
                </a:solidFill>
                <a:latin typeface="Calibri"/>
              </a:rPr>
              <a:t> &lt;         &lt; </a:t>
            </a:r>
            <a:r>
              <a:rPr b="0" lang="ru-RU" sz="4400" spc="-1" strike="noStrike">
                <a:solidFill>
                  <a:srgbClr val="c6d9f1"/>
                </a:solidFill>
                <a:latin typeface="Calibri"/>
              </a:rPr>
              <a:t>4,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6d9f1"/>
                </a:solidFill>
                <a:latin typeface="Calibri"/>
              </a:rPr>
              <a:t>3,7  </a:t>
            </a:r>
            <a:r>
              <a:rPr b="0" lang="en-US" sz="4400" spc="-1" strike="noStrike">
                <a:solidFill>
                  <a:srgbClr val="c6d9f1"/>
                </a:solidFill>
                <a:latin typeface="Calibri"/>
              </a:rPr>
              <a:t>&lt;         &lt; 4</a:t>
            </a:r>
            <a:r>
              <a:rPr b="0" lang="ru-RU" sz="4400" spc="-1" strike="noStrike">
                <a:solidFill>
                  <a:srgbClr val="c6d9f1"/>
                </a:solidFill>
                <a:latin typeface="Calibri"/>
              </a:rPr>
              <a:t>,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6d9f1"/>
                </a:solidFill>
                <a:latin typeface="Calibri"/>
              </a:rPr>
              <a:t>3,6  </a:t>
            </a:r>
            <a:r>
              <a:rPr b="0" lang="en-US" sz="4400" spc="-1" strike="noStrike">
                <a:solidFill>
                  <a:srgbClr val="c6d9f1"/>
                </a:solidFill>
                <a:latin typeface="Calibri"/>
              </a:rPr>
              <a:t>&lt;         &lt;</a:t>
            </a:r>
            <a:r>
              <a:rPr b="0" lang="ru-RU" sz="4400" spc="-1" strike="noStrike">
                <a:solidFill>
                  <a:srgbClr val="c6d9f1"/>
                </a:solidFill>
                <a:latin typeface="Calibri"/>
              </a:rPr>
              <a:t> 3,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олнце 11"/>
          <p:cNvSpPr/>
          <p:nvPr/>
        </p:nvSpPr>
        <p:spPr>
          <a:xfrm>
            <a:off x="3143160" y="3357720"/>
            <a:ext cx="571680" cy="5000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олнце 12"/>
          <p:cNvSpPr/>
          <p:nvPr/>
        </p:nvSpPr>
        <p:spPr>
          <a:xfrm>
            <a:off x="3143160" y="4071960"/>
            <a:ext cx="571680" cy="5000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олнце 13"/>
          <p:cNvSpPr/>
          <p:nvPr/>
        </p:nvSpPr>
        <p:spPr>
          <a:xfrm>
            <a:off x="3143160" y="4786200"/>
            <a:ext cx="571680" cy="5000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6"/>
          <p:cNvSpPr/>
          <p:nvPr/>
        </p:nvSpPr>
        <p:spPr>
          <a:xfrm>
            <a:off x="5857920" y="3714840"/>
            <a:ext cx="2000160" cy="100836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3,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9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rcRect l="30646" t="20162" r="16128" b="13981"/>
          <a:stretch/>
        </p:blipFill>
        <p:spPr>
          <a:xfrm>
            <a:off x="0" y="0"/>
            <a:ext cx="9144000" cy="67881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7"/>
          <p:cNvSpPr/>
          <p:nvPr/>
        </p:nvSpPr>
        <p:spPr>
          <a:xfrm>
            <a:off x="642960" y="785880"/>
            <a:ext cx="7858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Некоторое число удовлетворяет  одновременно трём неравенствам. Найдите е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8"/>
          <p:cNvSpPr/>
          <p:nvPr/>
        </p:nvSpPr>
        <p:spPr>
          <a:xfrm>
            <a:off x="1428840" y="3244680"/>
            <a:ext cx="5715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6d9f1"/>
                </a:solidFill>
                <a:latin typeface="Calibri"/>
              </a:rPr>
              <a:t>2,11 </a:t>
            </a:r>
            <a:r>
              <a:rPr b="0" lang="en-US" sz="4400" spc="-1" strike="noStrike">
                <a:solidFill>
                  <a:srgbClr val="c6d9f1"/>
                </a:solidFill>
                <a:latin typeface="Calibri"/>
              </a:rPr>
              <a:t> &lt;       &lt; </a:t>
            </a:r>
            <a:r>
              <a:rPr b="0" lang="ru-RU" sz="4400" spc="-1" strike="noStrike">
                <a:solidFill>
                  <a:srgbClr val="c6d9f1"/>
                </a:solidFill>
                <a:latin typeface="Calibri"/>
              </a:rPr>
              <a:t>2,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6d9f1"/>
                </a:solidFill>
                <a:latin typeface="Calibri"/>
              </a:rPr>
              <a:t>2,4  </a:t>
            </a:r>
            <a:r>
              <a:rPr b="0" lang="en-US" sz="4400" spc="-1" strike="noStrike">
                <a:solidFill>
                  <a:srgbClr val="c6d9f1"/>
                </a:solidFill>
                <a:latin typeface="Calibri"/>
              </a:rPr>
              <a:t>&lt;         &lt; </a:t>
            </a:r>
            <a:r>
              <a:rPr b="0" lang="ru-RU" sz="4400" spc="-1" strike="noStrike">
                <a:solidFill>
                  <a:srgbClr val="c6d9f1"/>
                </a:solidFill>
                <a:latin typeface="Calibri"/>
              </a:rPr>
              <a:t>2,7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6d9f1"/>
                </a:solidFill>
                <a:latin typeface="Calibri"/>
              </a:rPr>
              <a:t>2,39 </a:t>
            </a:r>
            <a:r>
              <a:rPr b="0" lang="en-US" sz="4400" spc="-1" strike="noStrike">
                <a:solidFill>
                  <a:srgbClr val="c6d9f1"/>
                </a:solidFill>
                <a:latin typeface="Calibri"/>
              </a:rPr>
              <a:t>&lt;        &lt;</a:t>
            </a:r>
            <a:r>
              <a:rPr b="0" lang="ru-RU" sz="4400" spc="-1" strike="noStrike">
                <a:solidFill>
                  <a:srgbClr val="c6d9f1"/>
                </a:solidFill>
                <a:latin typeface="Calibri"/>
              </a:rPr>
              <a:t> 2,4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олнце 11"/>
          <p:cNvSpPr/>
          <p:nvPr/>
        </p:nvSpPr>
        <p:spPr>
          <a:xfrm>
            <a:off x="3143160" y="3357720"/>
            <a:ext cx="571680" cy="5000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олнце 12"/>
          <p:cNvSpPr/>
          <p:nvPr/>
        </p:nvSpPr>
        <p:spPr>
          <a:xfrm>
            <a:off x="3143160" y="4071960"/>
            <a:ext cx="571680" cy="5000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олнце 13"/>
          <p:cNvSpPr/>
          <p:nvPr/>
        </p:nvSpPr>
        <p:spPr>
          <a:xfrm>
            <a:off x="3143160" y="4786200"/>
            <a:ext cx="571680" cy="5000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6"/>
          <p:cNvSpPr/>
          <p:nvPr/>
        </p:nvSpPr>
        <p:spPr>
          <a:xfrm>
            <a:off x="5857920" y="3714840"/>
            <a:ext cx="2000160" cy="100836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2,4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1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rcRect l="30646" t="20162" r="16128" b="13981"/>
          <a:stretch/>
        </p:blipFill>
        <p:spPr>
          <a:xfrm>
            <a:off x="0" y="0"/>
            <a:ext cx="9144000" cy="67881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7"/>
          <p:cNvSpPr/>
          <p:nvPr/>
        </p:nvSpPr>
        <p:spPr>
          <a:xfrm>
            <a:off x="857160" y="571680"/>
            <a:ext cx="62150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Исправьте ошибк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8"/>
          <p:cNvSpPr/>
          <p:nvPr/>
        </p:nvSpPr>
        <p:spPr>
          <a:xfrm>
            <a:off x="1000080" y="1285920"/>
            <a:ext cx="6786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6d9f1"/>
                </a:solidFill>
                <a:latin typeface="Calibri"/>
              </a:rPr>
              <a:t>24,95   +  4,5 = 2 9 4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6d9f1"/>
                </a:solidFill>
                <a:latin typeface="Calibri"/>
              </a:rPr>
              <a:t>0,613   +  32,7 = 3 3 3 1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6d9f1"/>
                </a:solidFill>
                <a:latin typeface="Calibri"/>
              </a:rPr>
              <a:t>7,891   +  3,9   = 1 1 7 9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6d9f1"/>
                </a:solidFill>
                <a:latin typeface="Calibri"/>
              </a:rPr>
              <a:t>76,38   +  9,62 = 8 6 0 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есяц 9"/>
          <p:cNvSpPr/>
          <p:nvPr/>
        </p:nvSpPr>
        <p:spPr>
          <a:xfrm rot="10800000">
            <a:off x="5643720" y="1857240"/>
            <a:ext cx="142560" cy="214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есяц 10"/>
          <p:cNvSpPr/>
          <p:nvPr/>
        </p:nvSpPr>
        <p:spPr>
          <a:xfrm rot="10800000">
            <a:off x="5143680" y="3214440"/>
            <a:ext cx="142560" cy="21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есяц 11"/>
          <p:cNvSpPr/>
          <p:nvPr/>
        </p:nvSpPr>
        <p:spPr>
          <a:xfrm rot="10800000">
            <a:off x="5857560" y="4500360"/>
            <a:ext cx="214200" cy="21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есяц 15"/>
          <p:cNvSpPr/>
          <p:nvPr/>
        </p:nvSpPr>
        <p:spPr>
          <a:xfrm rot="10800000">
            <a:off x="5500440" y="5786280"/>
            <a:ext cx="142920" cy="285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695 0.00902 -0.00261 0.00509 -0.01372 0.01018 C -0.01528 0.01087 -0.01823 0.01226 -0.01823 0.01226 C -0.04341 0.00879 -0.02744 0.0162 -0.03646 0.00416 C -0.0382 0.00185 -0.0408 0.00023 -0.04254 -0.00209 E">
                                      <p:cBhvr>
                                        <p:cTn id="246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15 0.01273 C 0.02639 0.01018 0.03038 0.01227 0.03038 -0.00741 E">
                                      <p:cBhvr>
                                        <p:cTn id="250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572 -0.00208 -0.00954 -0.00579 -0.0151 -0.0081 C -0.03263 -0.00625 -0.02847 -0.01042 -0.03628 0 E">
                                      <p:cBhvr>
                                        <p:cTn id="254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rcRect l="30646" t="20162" r="16128" b="13981"/>
          <a:stretch/>
        </p:blipFill>
        <p:spPr>
          <a:xfrm>
            <a:off x="0" y="0"/>
            <a:ext cx="9144000" cy="6788160"/>
          </a:xfrm>
          <a:prstGeom prst="rect">
            <a:avLst/>
          </a:prstGeom>
          <a:ln w="0">
            <a:noFill/>
          </a:ln>
        </p:spPr>
      </p:pic>
      <p:sp>
        <p:nvSpPr>
          <p:cNvPr id="87" name="TextBox 7"/>
          <p:cNvSpPr/>
          <p:nvPr/>
        </p:nvSpPr>
        <p:spPr>
          <a:xfrm>
            <a:off x="1143000" y="642960"/>
            <a:ext cx="700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Calibri"/>
              </a:rPr>
              <a:t>Реши самостоятельно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1000080" y="1714680"/>
            <a:ext cx="37861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ce6f2"/>
                </a:solidFill>
                <a:latin typeface="Calibri"/>
              </a:rPr>
              <a:t>2,1  + 1,36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ce6f2"/>
                </a:solidFill>
                <a:latin typeface="Calibri"/>
              </a:rPr>
              <a:t>7,3  + 0,668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ce6f2"/>
                </a:solidFill>
                <a:latin typeface="Calibri"/>
              </a:rPr>
              <a:t>0,55 + 0,668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ce6f2"/>
                </a:solidFill>
                <a:latin typeface="Calibri"/>
              </a:rPr>
              <a:t>13,0+ 19,3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ce6f2"/>
                </a:solidFill>
                <a:latin typeface="Calibri"/>
              </a:rPr>
              <a:t>1,27  +  24,3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ce6f2"/>
                </a:solidFill>
                <a:latin typeface="Calibri"/>
              </a:rPr>
              <a:t>63,5  +  0,635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Группа 30"/>
          <p:cNvGrpSpPr/>
          <p:nvPr/>
        </p:nvGrpSpPr>
        <p:grpSpPr>
          <a:xfrm>
            <a:off x="5786280" y="1571760"/>
            <a:ext cx="2428920" cy="531000"/>
            <a:chOff x="5786280" y="1571760"/>
            <a:chExt cx="2428920" cy="531000"/>
          </a:xfrm>
        </p:grpSpPr>
        <p:sp>
          <p:nvSpPr>
            <p:cNvPr id="90" name="Лента лицом вниз 11"/>
            <p:cNvSpPr/>
            <p:nvPr/>
          </p:nvSpPr>
          <p:spPr>
            <a:xfrm>
              <a:off x="5786280" y="1571760"/>
              <a:ext cx="2428920" cy="500040"/>
            </a:xfrm>
            <a:custGeom>
              <a:avLst/>
              <a:gdLst>
                <a:gd name="textAreaLeft" fmla="*/ 607320 w 2428920"/>
                <a:gd name="textAreaRight" fmla="*/ 1821960 w 2428920"/>
                <a:gd name="textAreaTop" fmla="*/ 8316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900" stAng="16200000" swAng="5400000"/>
                  <a:lnTo>
                    <a:pt x="8100" y="3600"/>
                  </a:lnTo>
                  <a:lnTo>
                    <a:pt x="13500" y="3600"/>
                  </a:lnTo>
                  <a:lnTo>
                    <a:pt x="13500" y="900"/>
                  </a:lnTo>
                  <a:arcTo wR="675" hR="900" stAng="10800000" swAng="5400000"/>
                  <a:lnTo>
                    <a:pt x="21600" y="0"/>
                  </a:lnTo>
                  <a:lnTo>
                    <a:pt x="18900" y="9000"/>
                  </a:lnTo>
                  <a:lnTo>
                    <a:pt x="21600" y="18000"/>
                  </a:lnTo>
                  <a:lnTo>
                    <a:pt x="16200" y="18000"/>
                  </a:lnTo>
                  <a:lnTo>
                    <a:pt x="16200" y="20700"/>
                  </a:lnTo>
                  <a:arcTo wR="675" hR="900" stAng="0" swAng="5400000"/>
                  <a:lnTo>
                    <a:pt x="6075" y="21600"/>
                  </a:lnTo>
                  <a:arcTo wR="675" hR="900" stAng="5400000" swAng="5400000"/>
                  <a:lnTo>
                    <a:pt x="5400" y="18000"/>
                  </a:lnTo>
                  <a:lnTo>
                    <a:pt x="0" y="18000"/>
                  </a:lnTo>
                  <a:lnTo>
                    <a:pt x="2700" y="9000"/>
                  </a:lnTo>
                  <a:close/>
                </a:path>
                <a:path fill="none" w="21600" h="21600">
                  <a:moveTo>
                    <a:pt x="8100" y="900"/>
                  </a:moveTo>
                  <a:arcTo wR="675" hR="900" stAng="0" swAng="5400000"/>
                  <a:lnTo>
                    <a:pt x="6075" y="1800"/>
                  </a:lnTo>
                  <a:arcTo wR="675" hR="900" stAng="16200000" swAng="-5400000"/>
                  <a:arcTo wR="675" hR="900" stAng="10800000" swAng="-5400000"/>
                  <a:lnTo>
                    <a:pt x="8100" y="3600"/>
                  </a:lnTo>
                </a:path>
                <a:path fill="none" w="21600" h="21600">
                  <a:moveTo>
                    <a:pt x="13500" y="900"/>
                  </a:moveTo>
                  <a:arcTo wR="675" hR="900" stAng="10800000" swAng="-5400000"/>
                  <a:lnTo>
                    <a:pt x="15525" y="1800"/>
                  </a:lnTo>
                  <a:arcTo wR="675" hR="900" stAng="16200000" swAng="5400000"/>
                  <a:arcTo wR="675" hR="900" stAng="0" swAng="5400000"/>
                  <a:lnTo>
                    <a:pt x="13500" y="3600"/>
                  </a:lnTo>
                </a:path>
                <a:path fill="none" w="21600" h="21600">
                  <a:moveTo>
                    <a:pt x="5400" y="2700"/>
                  </a:moveTo>
                  <a:lnTo>
                    <a:pt x="5400" y="18000"/>
                  </a:lnTo>
                </a:path>
                <a:path fill="none" w="21600" h="21600">
                  <a:moveTo>
                    <a:pt x="16200" y="2700"/>
                  </a:moveTo>
                  <a:lnTo>
                    <a:pt x="16200" y="18000"/>
                  </a:lnTo>
                </a:path>
              </a:pathLst>
            </a:cu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24"/>
            <p:cNvSpPr/>
            <p:nvPr/>
          </p:nvSpPr>
          <p:spPr>
            <a:xfrm>
              <a:off x="6429240" y="1643040"/>
              <a:ext cx="114300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64,13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Группа 35"/>
          <p:cNvGrpSpPr/>
          <p:nvPr/>
        </p:nvGrpSpPr>
        <p:grpSpPr>
          <a:xfrm>
            <a:off x="6072120" y="4643280"/>
            <a:ext cx="2428920" cy="500400"/>
            <a:chOff x="6072120" y="4643280"/>
            <a:chExt cx="2428920" cy="500400"/>
          </a:xfrm>
        </p:grpSpPr>
        <p:sp>
          <p:nvSpPr>
            <p:cNvPr id="93" name="Лента лицом вниз 22"/>
            <p:cNvSpPr/>
            <p:nvPr/>
          </p:nvSpPr>
          <p:spPr>
            <a:xfrm>
              <a:off x="6072120" y="4643280"/>
              <a:ext cx="2428920" cy="500400"/>
            </a:xfrm>
            <a:custGeom>
              <a:avLst/>
              <a:gdLst>
                <a:gd name="textAreaLeft" fmla="*/ 607320 w 2428920"/>
                <a:gd name="textAreaRight" fmla="*/ 1821960 w 2428920"/>
                <a:gd name="textAreaTop" fmla="*/ 83160 h 500400"/>
                <a:gd name="textAreaBottom" fmla="*/ 500760 h 5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900" stAng="16200000" swAng="5400000"/>
                  <a:lnTo>
                    <a:pt x="8100" y="3600"/>
                  </a:lnTo>
                  <a:lnTo>
                    <a:pt x="13500" y="3600"/>
                  </a:lnTo>
                  <a:lnTo>
                    <a:pt x="13500" y="900"/>
                  </a:lnTo>
                  <a:arcTo wR="675" hR="900" stAng="10800000" swAng="5400000"/>
                  <a:lnTo>
                    <a:pt x="21600" y="0"/>
                  </a:lnTo>
                  <a:lnTo>
                    <a:pt x="18900" y="9000"/>
                  </a:lnTo>
                  <a:lnTo>
                    <a:pt x="21600" y="18000"/>
                  </a:lnTo>
                  <a:lnTo>
                    <a:pt x="16200" y="18000"/>
                  </a:lnTo>
                  <a:lnTo>
                    <a:pt x="16200" y="20700"/>
                  </a:lnTo>
                  <a:arcTo wR="675" hR="900" stAng="0" swAng="5400000"/>
                  <a:lnTo>
                    <a:pt x="6075" y="21600"/>
                  </a:lnTo>
                  <a:arcTo wR="675" hR="900" stAng="5400000" swAng="5400000"/>
                  <a:lnTo>
                    <a:pt x="5400" y="18000"/>
                  </a:lnTo>
                  <a:lnTo>
                    <a:pt x="0" y="18000"/>
                  </a:lnTo>
                  <a:lnTo>
                    <a:pt x="2700" y="9000"/>
                  </a:lnTo>
                  <a:close/>
                </a:path>
                <a:path fill="none" w="21600" h="21600">
                  <a:moveTo>
                    <a:pt x="8100" y="900"/>
                  </a:moveTo>
                  <a:arcTo wR="675" hR="900" stAng="0" swAng="5400000"/>
                  <a:lnTo>
                    <a:pt x="6075" y="1800"/>
                  </a:lnTo>
                  <a:arcTo wR="675" hR="900" stAng="16200000" swAng="-5400000"/>
                  <a:arcTo wR="675" hR="900" stAng="10800000" swAng="-5400000"/>
                  <a:lnTo>
                    <a:pt x="8100" y="3600"/>
                  </a:lnTo>
                </a:path>
                <a:path fill="none" w="21600" h="21600">
                  <a:moveTo>
                    <a:pt x="13500" y="900"/>
                  </a:moveTo>
                  <a:arcTo wR="675" hR="900" stAng="10800000" swAng="-5400000"/>
                  <a:lnTo>
                    <a:pt x="15525" y="1800"/>
                  </a:lnTo>
                  <a:arcTo wR="675" hR="900" stAng="16200000" swAng="5400000"/>
                  <a:arcTo wR="675" hR="900" stAng="0" swAng="5400000"/>
                  <a:lnTo>
                    <a:pt x="13500" y="3600"/>
                  </a:lnTo>
                </a:path>
                <a:path fill="none" w="21600" h="21600">
                  <a:moveTo>
                    <a:pt x="5400" y="2700"/>
                  </a:moveTo>
                  <a:lnTo>
                    <a:pt x="5400" y="18000"/>
                  </a:lnTo>
                </a:path>
                <a:path fill="none" w="21600" h="21600">
                  <a:moveTo>
                    <a:pt x="16200" y="2700"/>
                  </a:moveTo>
                  <a:lnTo>
                    <a:pt x="16200" y="18000"/>
                  </a:lnTo>
                </a:path>
              </a:pathLst>
            </a:cu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26"/>
            <p:cNvSpPr/>
            <p:nvPr/>
          </p:nvSpPr>
          <p:spPr>
            <a:xfrm>
              <a:off x="6715080" y="4643280"/>
              <a:ext cx="114300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32,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Группа 36"/>
          <p:cNvGrpSpPr/>
          <p:nvPr/>
        </p:nvGrpSpPr>
        <p:grpSpPr>
          <a:xfrm>
            <a:off x="6072120" y="5500800"/>
            <a:ext cx="2428920" cy="500040"/>
            <a:chOff x="6072120" y="5500800"/>
            <a:chExt cx="2428920" cy="500040"/>
          </a:xfrm>
        </p:grpSpPr>
        <p:sp>
          <p:nvSpPr>
            <p:cNvPr id="96" name="Лента лицом вниз 23"/>
            <p:cNvSpPr/>
            <p:nvPr/>
          </p:nvSpPr>
          <p:spPr>
            <a:xfrm>
              <a:off x="6072120" y="5500800"/>
              <a:ext cx="2428920" cy="500040"/>
            </a:xfrm>
            <a:custGeom>
              <a:avLst/>
              <a:gdLst>
                <a:gd name="textAreaLeft" fmla="*/ 607320 w 2428920"/>
                <a:gd name="textAreaRight" fmla="*/ 1821960 w 2428920"/>
                <a:gd name="textAreaTop" fmla="*/ 8316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900" stAng="16200000" swAng="5400000"/>
                  <a:lnTo>
                    <a:pt x="8100" y="3600"/>
                  </a:lnTo>
                  <a:lnTo>
                    <a:pt x="13500" y="3600"/>
                  </a:lnTo>
                  <a:lnTo>
                    <a:pt x="13500" y="900"/>
                  </a:lnTo>
                  <a:arcTo wR="675" hR="900" stAng="10800000" swAng="5400000"/>
                  <a:lnTo>
                    <a:pt x="21600" y="0"/>
                  </a:lnTo>
                  <a:lnTo>
                    <a:pt x="18900" y="9000"/>
                  </a:lnTo>
                  <a:lnTo>
                    <a:pt x="21600" y="18000"/>
                  </a:lnTo>
                  <a:lnTo>
                    <a:pt x="16200" y="18000"/>
                  </a:lnTo>
                  <a:lnTo>
                    <a:pt x="16200" y="20700"/>
                  </a:lnTo>
                  <a:arcTo wR="675" hR="900" stAng="0" swAng="5400000"/>
                  <a:lnTo>
                    <a:pt x="6075" y="21600"/>
                  </a:lnTo>
                  <a:arcTo wR="675" hR="900" stAng="5400000" swAng="5400000"/>
                  <a:lnTo>
                    <a:pt x="5400" y="18000"/>
                  </a:lnTo>
                  <a:lnTo>
                    <a:pt x="0" y="18000"/>
                  </a:lnTo>
                  <a:lnTo>
                    <a:pt x="2700" y="9000"/>
                  </a:lnTo>
                  <a:close/>
                </a:path>
                <a:path fill="none" w="21600" h="21600">
                  <a:moveTo>
                    <a:pt x="8100" y="900"/>
                  </a:moveTo>
                  <a:arcTo wR="675" hR="900" stAng="0" swAng="5400000"/>
                  <a:lnTo>
                    <a:pt x="6075" y="1800"/>
                  </a:lnTo>
                  <a:arcTo wR="675" hR="900" stAng="16200000" swAng="-5400000"/>
                  <a:arcTo wR="675" hR="900" stAng="10800000" swAng="-5400000"/>
                  <a:lnTo>
                    <a:pt x="8100" y="3600"/>
                  </a:lnTo>
                </a:path>
                <a:path fill="none" w="21600" h="21600">
                  <a:moveTo>
                    <a:pt x="13500" y="900"/>
                  </a:moveTo>
                  <a:arcTo wR="675" hR="900" stAng="10800000" swAng="-5400000"/>
                  <a:lnTo>
                    <a:pt x="15525" y="1800"/>
                  </a:lnTo>
                  <a:arcTo wR="675" hR="900" stAng="16200000" swAng="5400000"/>
                  <a:arcTo wR="675" hR="900" stAng="0" swAng="5400000"/>
                  <a:lnTo>
                    <a:pt x="13500" y="3600"/>
                  </a:lnTo>
                </a:path>
                <a:path fill="none" w="21600" h="21600">
                  <a:moveTo>
                    <a:pt x="5400" y="2700"/>
                  </a:moveTo>
                  <a:lnTo>
                    <a:pt x="5400" y="18000"/>
                  </a:lnTo>
                </a:path>
                <a:path fill="none" w="21600" h="21600">
                  <a:moveTo>
                    <a:pt x="16200" y="2700"/>
                  </a:moveTo>
                  <a:lnTo>
                    <a:pt x="16200" y="18000"/>
                  </a:lnTo>
                </a:path>
              </a:pathLst>
            </a:cu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27"/>
            <p:cNvSpPr/>
            <p:nvPr/>
          </p:nvSpPr>
          <p:spPr>
            <a:xfrm>
              <a:off x="6715080" y="5500800"/>
              <a:ext cx="114300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1,2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Группа 34"/>
          <p:cNvGrpSpPr/>
          <p:nvPr/>
        </p:nvGrpSpPr>
        <p:grpSpPr>
          <a:xfrm>
            <a:off x="6000840" y="4071960"/>
            <a:ext cx="2428920" cy="500040"/>
            <a:chOff x="6000840" y="4071960"/>
            <a:chExt cx="2428920" cy="500040"/>
          </a:xfrm>
        </p:grpSpPr>
        <p:sp>
          <p:nvSpPr>
            <p:cNvPr id="99" name="Лента лицом вниз 21"/>
            <p:cNvSpPr/>
            <p:nvPr/>
          </p:nvSpPr>
          <p:spPr>
            <a:xfrm>
              <a:off x="6000840" y="4071960"/>
              <a:ext cx="2428920" cy="500040"/>
            </a:xfrm>
            <a:custGeom>
              <a:avLst/>
              <a:gdLst>
                <a:gd name="textAreaLeft" fmla="*/ 607320 w 2428920"/>
                <a:gd name="textAreaRight" fmla="*/ 1821960 w 2428920"/>
                <a:gd name="textAreaTop" fmla="*/ 8316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900" stAng="16200000" swAng="5400000"/>
                  <a:lnTo>
                    <a:pt x="8100" y="3600"/>
                  </a:lnTo>
                  <a:lnTo>
                    <a:pt x="13500" y="3600"/>
                  </a:lnTo>
                  <a:lnTo>
                    <a:pt x="13500" y="900"/>
                  </a:lnTo>
                  <a:arcTo wR="675" hR="900" stAng="10800000" swAng="5400000"/>
                  <a:lnTo>
                    <a:pt x="21600" y="0"/>
                  </a:lnTo>
                  <a:lnTo>
                    <a:pt x="18900" y="9000"/>
                  </a:lnTo>
                  <a:lnTo>
                    <a:pt x="21600" y="18000"/>
                  </a:lnTo>
                  <a:lnTo>
                    <a:pt x="16200" y="18000"/>
                  </a:lnTo>
                  <a:lnTo>
                    <a:pt x="16200" y="20700"/>
                  </a:lnTo>
                  <a:arcTo wR="675" hR="900" stAng="0" swAng="5400000"/>
                  <a:lnTo>
                    <a:pt x="6075" y="21600"/>
                  </a:lnTo>
                  <a:arcTo wR="675" hR="900" stAng="5400000" swAng="5400000"/>
                  <a:lnTo>
                    <a:pt x="5400" y="18000"/>
                  </a:lnTo>
                  <a:lnTo>
                    <a:pt x="0" y="18000"/>
                  </a:lnTo>
                  <a:lnTo>
                    <a:pt x="2700" y="9000"/>
                  </a:lnTo>
                  <a:close/>
                </a:path>
                <a:path fill="none" w="21600" h="21600">
                  <a:moveTo>
                    <a:pt x="8100" y="900"/>
                  </a:moveTo>
                  <a:arcTo wR="675" hR="900" stAng="0" swAng="5400000"/>
                  <a:lnTo>
                    <a:pt x="6075" y="1800"/>
                  </a:lnTo>
                  <a:arcTo wR="675" hR="900" stAng="16200000" swAng="-5400000"/>
                  <a:arcTo wR="675" hR="900" stAng="10800000" swAng="-5400000"/>
                  <a:lnTo>
                    <a:pt x="8100" y="3600"/>
                  </a:lnTo>
                </a:path>
                <a:path fill="none" w="21600" h="21600">
                  <a:moveTo>
                    <a:pt x="13500" y="900"/>
                  </a:moveTo>
                  <a:arcTo wR="675" hR="900" stAng="10800000" swAng="-5400000"/>
                  <a:lnTo>
                    <a:pt x="15525" y="1800"/>
                  </a:lnTo>
                  <a:arcTo wR="675" hR="900" stAng="16200000" swAng="5400000"/>
                  <a:arcTo wR="675" hR="900" stAng="0" swAng="5400000"/>
                  <a:lnTo>
                    <a:pt x="13500" y="3600"/>
                  </a:lnTo>
                </a:path>
                <a:path fill="none" w="21600" h="21600">
                  <a:moveTo>
                    <a:pt x="5400" y="2700"/>
                  </a:moveTo>
                  <a:lnTo>
                    <a:pt x="5400" y="18000"/>
                  </a:lnTo>
                </a:path>
                <a:path fill="none" w="21600" h="21600">
                  <a:moveTo>
                    <a:pt x="16200" y="2700"/>
                  </a:moveTo>
                  <a:lnTo>
                    <a:pt x="16200" y="18000"/>
                  </a:lnTo>
                </a:path>
              </a:pathLst>
            </a:cu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28"/>
            <p:cNvSpPr/>
            <p:nvPr/>
          </p:nvSpPr>
          <p:spPr>
            <a:xfrm>
              <a:off x="6643800" y="4071960"/>
              <a:ext cx="114300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25,5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Группа 31"/>
          <p:cNvGrpSpPr/>
          <p:nvPr/>
        </p:nvGrpSpPr>
        <p:grpSpPr>
          <a:xfrm>
            <a:off x="5857920" y="2428920"/>
            <a:ext cx="2428920" cy="531000"/>
            <a:chOff x="5857920" y="2428920"/>
            <a:chExt cx="2428920" cy="531000"/>
          </a:xfrm>
        </p:grpSpPr>
        <p:sp>
          <p:nvSpPr>
            <p:cNvPr id="102" name="Лента лицом вниз 18"/>
            <p:cNvSpPr/>
            <p:nvPr/>
          </p:nvSpPr>
          <p:spPr>
            <a:xfrm>
              <a:off x="5857920" y="2428920"/>
              <a:ext cx="2428920" cy="500400"/>
            </a:xfrm>
            <a:custGeom>
              <a:avLst/>
              <a:gdLst>
                <a:gd name="textAreaLeft" fmla="*/ 607320 w 2428920"/>
                <a:gd name="textAreaRight" fmla="*/ 1821960 w 2428920"/>
                <a:gd name="textAreaTop" fmla="*/ 83160 h 500400"/>
                <a:gd name="textAreaBottom" fmla="*/ 500760 h 5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900" stAng="16200000" swAng="5400000"/>
                  <a:lnTo>
                    <a:pt x="8100" y="3600"/>
                  </a:lnTo>
                  <a:lnTo>
                    <a:pt x="13500" y="3600"/>
                  </a:lnTo>
                  <a:lnTo>
                    <a:pt x="13500" y="900"/>
                  </a:lnTo>
                  <a:arcTo wR="675" hR="900" stAng="10800000" swAng="5400000"/>
                  <a:lnTo>
                    <a:pt x="21600" y="0"/>
                  </a:lnTo>
                  <a:lnTo>
                    <a:pt x="18900" y="9000"/>
                  </a:lnTo>
                  <a:lnTo>
                    <a:pt x="21600" y="18000"/>
                  </a:lnTo>
                  <a:lnTo>
                    <a:pt x="16200" y="18000"/>
                  </a:lnTo>
                  <a:lnTo>
                    <a:pt x="16200" y="20700"/>
                  </a:lnTo>
                  <a:arcTo wR="675" hR="900" stAng="0" swAng="5400000"/>
                  <a:lnTo>
                    <a:pt x="6075" y="21600"/>
                  </a:lnTo>
                  <a:arcTo wR="675" hR="900" stAng="5400000" swAng="5400000"/>
                  <a:lnTo>
                    <a:pt x="5400" y="18000"/>
                  </a:lnTo>
                  <a:lnTo>
                    <a:pt x="0" y="18000"/>
                  </a:lnTo>
                  <a:lnTo>
                    <a:pt x="2700" y="9000"/>
                  </a:lnTo>
                  <a:close/>
                </a:path>
                <a:path fill="none" w="21600" h="21600">
                  <a:moveTo>
                    <a:pt x="8100" y="900"/>
                  </a:moveTo>
                  <a:arcTo wR="675" hR="900" stAng="0" swAng="5400000"/>
                  <a:lnTo>
                    <a:pt x="6075" y="1800"/>
                  </a:lnTo>
                  <a:arcTo wR="675" hR="900" stAng="16200000" swAng="-5400000"/>
                  <a:arcTo wR="675" hR="900" stAng="10800000" swAng="-5400000"/>
                  <a:lnTo>
                    <a:pt x="8100" y="3600"/>
                  </a:lnTo>
                </a:path>
                <a:path fill="none" w="21600" h="21600">
                  <a:moveTo>
                    <a:pt x="13500" y="900"/>
                  </a:moveTo>
                  <a:arcTo wR="675" hR="900" stAng="10800000" swAng="-5400000"/>
                  <a:lnTo>
                    <a:pt x="15525" y="1800"/>
                  </a:lnTo>
                  <a:arcTo wR="675" hR="900" stAng="16200000" swAng="5400000"/>
                  <a:arcTo wR="675" hR="900" stAng="0" swAng="5400000"/>
                  <a:lnTo>
                    <a:pt x="13500" y="3600"/>
                  </a:lnTo>
                </a:path>
                <a:path fill="none" w="21600" h="21600">
                  <a:moveTo>
                    <a:pt x="5400" y="2700"/>
                  </a:moveTo>
                  <a:lnTo>
                    <a:pt x="5400" y="18000"/>
                  </a:lnTo>
                </a:path>
                <a:path fill="none" w="21600" h="21600">
                  <a:moveTo>
                    <a:pt x="16200" y="2700"/>
                  </a:moveTo>
                  <a:lnTo>
                    <a:pt x="16200" y="18000"/>
                  </a:lnTo>
                </a:path>
              </a:pathLst>
            </a:cu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25"/>
            <p:cNvSpPr/>
            <p:nvPr/>
          </p:nvSpPr>
          <p:spPr>
            <a:xfrm>
              <a:off x="6500880" y="2500200"/>
              <a:ext cx="114300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3,4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Группа 33"/>
          <p:cNvGrpSpPr/>
          <p:nvPr/>
        </p:nvGrpSpPr>
        <p:grpSpPr>
          <a:xfrm>
            <a:off x="6000840" y="3286080"/>
            <a:ext cx="2428920" cy="531000"/>
            <a:chOff x="6000840" y="3286080"/>
            <a:chExt cx="2428920" cy="531000"/>
          </a:xfrm>
        </p:grpSpPr>
        <p:sp>
          <p:nvSpPr>
            <p:cNvPr id="105" name="Лента лицом вниз 19"/>
            <p:cNvSpPr/>
            <p:nvPr/>
          </p:nvSpPr>
          <p:spPr>
            <a:xfrm>
              <a:off x="6000840" y="3286080"/>
              <a:ext cx="2428920" cy="500400"/>
            </a:xfrm>
            <a:custGeom>
              <a:avLst/>
              <a:gdLst>
                <a:gd name="textAreaLeft" fmla="*/ 607320 w 2428920"/>
                <a:gd name="textAreaRight" fmla="*/ 1821960 w 2428920"/>
                <a:gd name="textAreaTop" fmla="*/ 83160 h 500400"/>
                <a:gd name="textAreaBottom" fmla="*/ 500760 h 5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900" stAng="16200000" swAng="5400000"/>
                  <a:lnTo>
                    <a:pt x="8100" y="3600"/>
                  </a:lnTo>
                  <a:lnTo>
                    <a:pt x="13500" y="3600"/>
                  </a:lnTo>
                  <a:lnTo>
                    <a:pt x="13500" y="900"/>
                  </a:lnTo>
                  <a:arcTo wR="675" hR="900" stAng="10800000" swAng="5400000"/>
                  <a:lnTo>
                    <a:pt x="21600" y="0"/>
                  </a:lnTo>
                  <a:lnTo>
                    <a:pt x="18900" y="9000"/>
                  </a:lnTo>
                  <a:lnTo>
                    <a:pt x="21600" y="18000"/>
                  </a:lnTo>
                  <a:lnTo>
                    <a:pt x="16200" y="18000"/>
                  </a:lnTo>
                  <a:lnTo>
                    <a:pt x="16200" y="20700"/>
                  </a:lnTo>
                  <a:arcTo wR="675" hR="900" stAng="0" swAng="5400000"/>
                  <a:lnTo>
                    <a:pt x="6075" y="21600"/>
                  </a:lnTo>
                  <a:arcTo wR="675" hR="900" stAng="5400000" swAng="5400000"/>
                  <a:lnTo>
                    <a:pt x="5400" y="18000"/>
                  </a:lnTo>
                  <a:lnTo>
                    <a:pt x="0" y="18000"/>
                  </a:lnTo>
                  <a:lnTo>
                    <a:pt x="2700" y="9000"/>
                  </a:lnTo>
                  <a:close/>
                </a:path>
                <a:path fill="none" w="21600" h="21600">
                  <a:moveTo>
                    <a:pt x="8100" y="900"/>
                  </a:moveTo>
                  <a:arcTo wR="675" hR="900" stAng="0" swAng="5400000"/>
                  <a:lnTo>
                    <a:pt x="6075" y="1800"/>
                  </a:lnTo>
                  <a:arcTo wR="675" hR="900" stAng="16200000" swAng="-5400000"/>
                  <a:arcTo wR="675" hR="900" stAng="10800000" swAng="-5400000"/>
                  <a:lnTo>
                    <a:pt x="8100" y="3600"/>
                  </a:lnTo>
                </a:path>
                <a:path fill="none" w="21600" h="21600">
                  <a:moveTo>
                    <a:pt x="13500" y="900"/>
                  </a:moveTo>
                  <a:arcTo wR="675" hR="900" stAng="10800000" swAng="-5400000"/>
                  <a:lnTo>
                    <a:pt x="15525" y="1800"/>
                  </a:lnTo>
                  <a:arcTo wR="675" hR="900" stAng="16200000" swAng="5400000"/>
                  <a:arcTo wR="675" hR="900" stAng="0" swAng="5400000"/>
                  <a:lnTo>
                    <a:pt x="13500" y="3600"/>
                  </a:lnTo>
                </a:path>
                <a:path fill="none" w="21600" h="21600">
                  <a:moveTo>
                    <a:pt x="5400" y="2700"/>
                  </a:moveTo>
                  <a:lnTo>
                    <a:pt x="5400" y="18000"/>
                  </a:lnTo>
                </a:path>
                <a:path fill="none" w="21600" h="21600">
                  <a:moveTo>
                    <a:pt x="16200" y="2700"/>
                  </a:moveTo>
                  <a:lnTo>
                    <a:pt x="16200" y="18000"/>
                  </a:lnTo>
                </a:path>
              </a:pathLst>
            </a:cu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29"/>
            <p:cNvSpPr/>
            <p:nvPr/>
          </p:nvSpPr>
          <p:spPr>
            <a:xfrm>
              <a:off x="6643800" y="3357360"/>
              <a:ext cx="114300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7,96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209 0.03935 C -0.1375 0.0199 -0.15608 0.00185 -0.16563 -0.01112 C -0.16702 -0.01297 -0.16736 -0.01551 -0.16875 -0.01737 C -0.17448 -0.025 -0.17413 -0.02153 -0.17934 -0.02732 C -0.19254 -0.0419 -0.1757 -0.0257 -0.18837 -0.0375 C -0.19375 -0.04792 -0.19983 -0.05556 -0.2066 -0.06366 C -0.20972 -0.0676 -0.21181 -0.07338 -0.21563 -0.07593 C -0.21771 -0.07732 -0.21962 -0.07871 -0.2217 -0.07987 C -0.22309 -0.08079 -0.22622 -0.08195 -0.22622 -0.08172 E">
                                      <p:cBhvr>
                                        <p:cTn id="292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5.55556E-006 C -0.0059 -0.0051 -0.00972 -0.00996 -0.01667 -0.01205 C -0.02483 -0.02362 -0.03837 -0.03566 -0.04844 -0.04445 C -0.05434 -0.05649 -0.06719 -0.06945 -0.0757 -0.07871 C -0.07969 -0.08288 -0.08785 -0.09098 -0.08785 -0.09098 C -0.09184 -0.09885 -0.09618 -0.10302 -0.10139 -0.10904 C -0.11372 -0.12339 -0.10382 -0.11598 -0.11511 -0.12316 C -0.12552 -0.11899 -0.11354 -0.12455 -0.12413 -0.11714 C -0.12552 -0.11621 -0.12865 -0.11506 -0.12865 -0.11506 E">
                                      <p:cBhvr>
                                        <p:cTn id="296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56 0.01713 C -0.08611 -0.00926 -0.08577 -0.03565 -0.08715 -0.06181 C -0.08733 -0.06551 -0.08975 -0.06829 -0.09027 -0.07176 C -0.09132 -0.07778 -0.09097 -0.08403 -0.09167 -0.09005 C -0.09288 -0.10024 -0.09635 -0.12037 -0.09635 -0.12014 C -0.09739 -0.13982 -0.09947 -0.15093 -0.10382 -0.16875 C -0.10782 -0.18519 -0.10539 -0.19237 -0.11303 -0.2051 C -0.11476 -0.21737 -0.11945 -0.22454 -0.12362 -0.23542 C -0.12657 -0.24329 -0.12657 -0.24954 -0.13108 -0.25579 C -0.13299 -0.26297 -0.13455 -0.26852 -0.13872 -0.27385 C -0.13924 -0.27662 -0.13907 -0.27963 -0.14028 -0.28195 C -0.14219 -0.28588 -0.14775 -0.29213 -0.14775 -0.2919 C -0.15105 -0.30463 -0.14879 -0.30162 -0.15382 -0.30834 C -0.15643 -0.31181 -0.16146 -0.31829 -0.16146 -0.31806 C -0.16476 -0.33125 -0.17518 -0.3338 -0.18421 -0.33843 C -0.18716 -0.33774 -0.19063 -0.33843 -0.19323 -0.33658 C -0.19636 -0.33426 -0.20087 -0.32639 -0.20087 -0.32616 C -0.20244 -0.31968 -0.20226 -0.32246 -0.20226 -0.31829 E">
                                      <p:cBhvr>
                                        <p:cTn id="300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393 0.00578 C -0.14237 0.00509 -0.13941 0.00578 -0.13924 0.0037 C -0.13855 -0.00973 -0.14445 -0.03982 -0.15296 -0.0507 C -0.1566 -0.06528 -0.15157 -0.04815 -0.15903 -0.06297 C -0.1599 -0.06482 -0.15973 -0.06713 -0.1606 -0.06899 C -0.16233 -0.07269 -0.16459 -0.0757 -0.1665 -0.07917 C -0.16945 -0.09028 -0.16615 -0.08056 -0.17257 -0.09121 C -0.17865 -0.10116 -0.18455 -0.11737 -0.19393 -0.12153 C -0.19636 -0.12084 -0.19896 -0.12037 -0.20139 -0.11945 C -0.204 -0.11829 -0.20903 -0.11551 -0.20903 -0.11551 E">
                                      <p:cBhvr>
                                        <p:cTn id="304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7.03704E-006 C -0.00659 0.00278 -0.01301 0.00394 -0.01961 0.00602 C -0.03003 0.00926 -0.0394 0.01413 -0.04999 0.01621 C -0.05156 0.0176 -0.05294 0.01899 -0.05451 0.02014 C -0.0559 0.02107 -0.05763 0.02107 -0.05902 0.02223 C -0.06406 0.02616 -0.0684 0.03681 -0.07117 0.04237 C -0.07326 0.0463 -0.07881 0.05255 -0.07881 0.05255 C -0.08176 0.06806 -0.08853 0.06945 -0.09548 0.07871 E">
                                      <p:cBhvr>
                                        <p:cTn id="308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44444E-006 C -0.00156 0.00856 -0.00364 0.01504 -0.00659 0.02314 C -0.00729 0.02662 -0.00729 0.03032 -0.00833 0.03379 C -0.00902 0.03564 -0.01128 0.03588 -0.01197 0.03796 C -0.01302 0.04236 -0.01249 0.04768 -0.01354 0.05254 C -0.01666 0.06921 -0.01666 0.06782 -0.02205 0.078 C -0.02256 0.08287 -0.02274 0.08796 -0.02378 0.09282 C -0.02447 0.09629 -0.02638 0.09976 -0.02708 0.10347 C -0.03125 0.12615 -0.03333 0.15 -0.03732 0.17291 C -0.03958 0.18634 -0.03975 0.19976 -0.04237 0.21319 C -0.04479 0.22569 -0.05035 0.23611 -0.05243 0.24884 C -0.05468 0.2625 -0.05555 0.27592 -0.0592 0.28912 C -0.06059 0.31088 -0.06233 0.32407 -0.0677 0.34398 C -0.06961 0.36527 -0.07378 0.38634 -0.07777 0.4074 C -0.07829 0.42916 -0.07777 0.45092 -0.07951 0.47268 C -0.08124 0.49351 -0.09374 0.50625 -0.10313 0.52129 C -0.10573 0.52523 -0.10625 0.52893 -0.1099 0.53171 C -0.11615 0.53634 -0.12535 0.53588 -0.13178 0.53588 E">
                                      <p:cBhvr>
                                        <p:cTn id="312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rcRect l="30646" t="20162" r="16128" b="13981"/>
          <a:stretch/>
        </p:blipFill>
        <p:spPr>
          <a:xfrm>
            <a:off x="0" y="0"/>
            <a:ext cx="9144000" cy="678816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sp>
        <p:nvSpPr>
          <p:cNvPr id="110" name="TextBox 4"/>
          <p:cNvSpPr/>
          <p:nvPr/>
        </p:nvSpPr>
        <p:spPr>
          <a:xfrm>
            <a:off x="1571760" y="1571760"/>
            <a:ext cx="6286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2071800" y="642960"/>
            <a:ext cx="5715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1428840" y="928800"/>
            <a:ext cx="657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В нашей стране водится много бобров.  Бобр – крупный грызун, ведёт полуводный образ жизни. Найдите длину бобра в дециметрах. Поможет вам в этом удивительный квадрат.</a:t>
            </a: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143000" y="2786040"/>
          <a:ext cx="3214800" cy="2643120"/>
        </p:xfrm>
        <a:graphic>
          <a:graphicData uri="http://schemas.openxmlformats.org/drawingml/2006/table">
            <a:tbl>
              <a:tblPr/>
              <a:tblGrid>
                <a:gridCol w="1052640"/>
                <a:gridCol w="1081080"/>
                <a:gridCol w="1081080"/>
              </a:tblGrid>
              <a:tr h="880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5,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6,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3,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81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2,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2,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80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3,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4,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1,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14" name="TextBox 9"/>
          <p:cNvSpPr/>
          <p:nvPr/>
        </p:nvSpPr>
        <p:spPr>
          <a:xfrm>
            <a:off x="4714920" y="2500200"/>
            <a:ext cx="3857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. Из первой строки выберите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аименьше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 второй строки выберите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ибольше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Из третьей строки выберите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наименьшее и н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ибольше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 Найдите сумму трёх эт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Рамка 17"/>
          <p:cNvSpPr/>
          <p:nvPr/>
        </p:nvSpPr>
        <p:spPr>
          <a:xfrm>
            <a:off x="3357720" y="2857680"/>
            <a:ext cx="928440" cy="642600"/>
          </a:xfrm>
          <a:custGeom>
            <a:avLst/>
            <a:gdLst>
              <a:gd name="textAreaLeft" fmla="*/ 80280 w 928440"/>
              <a:gd name="textAreaRight" fmla="*/ 848160 w 928440"/>
              <a:gd name="textAreaTop" fmla="*/ 80280 h 642600"/>
              <a:gd name="textAreaBottom" fmla="*/ 562320 h 642600"/>
            </a:gdLst>
            <a:ahLst/>
            <a:rect l="textAreaLeft" t="textAreaTop" r="textAreaRight" b="textAreaBottom"/>
            <a:pathLst>
              <a:path w="928687" h="642938">
                <a:moveTo>
                  <a:pt x="0" y="0"/>
                </a:moveTo>
                <a:lnTo>
                  <a:pt x="928687" y="0"/>
                </a:lnTo>
                <a:lnTo>
                  <a:pt x="928687" y="642938"/>
                </a:lnTo>
                <a:lnTo>
                  <a:pt x="0" y="642938"/>
                </a:lnTo>
                <a:close/>
                <a:moveTo>
                  <a:pt x="80367" y="80367"/>
                </a:moveTo>
                <a:lnTo>
                  <a:pt x="80367" y="562571"/>
                </a:lnTo>
                <a:lnTo>
                  <a:pt x="848320" y="562571"/>
                </a:lnTo>
                <a:lnTo>
                  <a:pt x="848320" y="8036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Рамка 18"/>
          <p:cNvSpPr/>
          <p:nvPr/>
        </p:nvSpPr>
        <p:spPr>
          <a:xfrm>
            <a:off x="2286000" y="3714840"/>
            <a:ext cx="928800" cy="642960"/>
          </a:xfrm>
          <a:custGeom>
            <a:avLst/>
            <a:gdLst>
              <a:gd name="textAreaLeft" fmla="*/ 80280 w 928800"/>
              <a:gd name="textAreaRight" fmla="*/ 848520 w 928800"/>
              <a:gd name="textAreaTop" fmla="*/ 80280 h 642960"/>
              <a:gd name="textAreaBottom" fmla="*/ 562680 h 642960"/>
            </a:gdLst>
            <a:ahLst/>
            <a:rect l="textAreaLeft" t="textAreaTop" r="textAreaRight" b="textAreaBottom"/>
            <a:pathLst>
              <a:path w="928688" h="642938">
                <a:moveTo>
                  <a:pt x="0" y="0"/>
                </a:moveTo>
                <a:lnTo>
                  <a:pt x="928688" y="0"/>
                </a:lnTo>
                <a:lnTo>
                  <a:pt x="928688" y="642938"/>
                </a:lnTo>
                <a:lnTo>
                  <a:pt x="0" y="642938"/>
                </a:lnTo>
                <a:close/>
                <a:moveTo>
                  <a:pt x="80367" y="80367"/>
                </a:moveTo>
                <a:lnTo>
                  <a:pt x="80367" y="562571"/>
                </a:lnTo>
                <a:lnTo>
                  <a:pt x="848321" y="562571"/>
                </a:lnTo>
                <a:lnTo>
                  <a:pt x="848321" y="8036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Рамка 19"/>
          <p:cNvSpPr/>
          <p:nvPr/>
        </p:nvSpPr>
        <p:spPr>
          <a:xfrm>
            <a:off x="1214280" y="4572000"/>
            <a:ext cx="928800" cy="642960"/>
          </a:xfrm>
          <a:custGeom>
            <a:avLst/>
            <a:gdLst>
              <a:gd name="textAreaLeft" fmla="*/ 80280 w 928800"/>
              <a:gd name="textAreaRight" fmla="*/ 848520 w 928800"/>
              <a:gd name="textAreaTop" fmla="*/ 80280 h 642960"/>
              <a:gd name="textAreaBottom" fmla="*/ 562680 h 642960"/>
            </a:gdLst>
            <a:ahLst/>
            <a:rect l="textAreaLeft" t="textAreaTop" r="textAreaRight" b="textAreaBottom"/>
            <a:pathLst>
              <a:path w="928687" h="642938">
                <a:moveTo>
                  <a:pt x="0" y="0"/>
                </a:moveTo>
                <a:lnTo>
                  <a:pt x="928687" y="0"/>
                </a:lnTo>
                <a:lnTo>
                  <a:pt x="928687" y="642938"/>
                </a:lnTo>
                <a:lnTo>
                  <a:pt x="0" y="642938"/>
                </a:lnTo>
                <a:close/>
                <a:moveTo>
                  <a:pt x="80367" y="80367"/>
                </a:moveTo>
                <a:lnTo>
                  <a:pt x="80367" y="562571"/>
                </a:lnTo>
                <a:lnTo>
                  <a:pt x="848320" y="562571"/>
                </a:lnTo>
                <a:lnTo>
                  <a:pt x="848320" y="8036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ятно 2 20"/>
          <p:cNvSpPr/>
          <p:nvPr/>
        </p:nvSpPr>
        <p:spPr>
          <a:xfrm>
            <a:off x="5357880" y="5143680"/>
            <a:ext cx="3214800" cy="928440"/>
          </a:xfrm>
          <a:prstGeom prst="irregularSeal2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10 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30646" t="20162" r="16128" b="13981"/>
          <a:stretch/>
        </p:blipFill>
        <p:spPr>
          <a:xfrm>
            <a:off x="0" y="0"/>
            <a:ext cx="9144000" cy="67881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6"/>
          <p:cNvSpPr/>
          <p:nvPr/>
        </p:nvSpPr>
        <p:spPr>
          <a:xfrm>
            <a:off x="857160" y="857160"/>
            <a:ext cx="757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Вместо квадратиков запишите такие числа, чтобы равенства были верны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1214280" y="2214720"/>
            <a:ext cx="4714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ce6f2"/>
                </a:solidFill>
                <a:latin typeface="Calibri"/>
              </a:rPr>
              <a:t>4,2                = 3,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ce6f2"/>
                </a:solidFill>
                <a:latin typeface="Calibri"/>
              </a:rPr>
              <a:t>                         </a:t>
            </a:r>
            <a:r>
              <a:rPr b="1" lang="ru-RU" sz="4400" spc="-1" strike="noStrike">
                <a:solidFill>
                  <a:srgbClr val="dce6f2"/>
                </a:solidFill>
                <a:latin typeface="Calibri"/>
              </a:rPr>
              <a:t>= 3,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ce6f2"/>
                </a:solidFill>
                <a:latin typeface="Calibri"/>
              </a:rPr>
              <a:t>               </a:t>
            </a:r>
            <a:r>
              <a:rPr b="1" lang="ru-RU" sz="4400" spc="-1" strike="noStrike">
                <a:solidFill>
                  <a:srgbClr val="dce6f2"/>
                </a:solidFill>
                <a:latin typeface="Calibri"/>
              </a:rPr>
              <a:t>2,7    = 2,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8"/>
          <p:cNvSpPr/>
          <p:nvPr/>
        </p:nvSpPr>
        <p:spPr>
          <a:xfrm>
            <a:off x="3000240" y="2214720"/>
            <a:ext cx="785880" cy="7855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9"/>
          <p:cNvSpPr/>
          <p:nvPr/>
        </p:nvSpPr>
        <p:spPr>
          <a:xfrm>
            <a:off x="3000240" y="3429000"/>
            <a:ext cx="785880" cy="7858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0"/>
          <p:cNvSpPr/>
          <p:nvPr/>
        </p:nvSpPr>
        <p:spPr>
          <a:xfrm>
            <a:off x="1285920" y="3429000"/>
            <a:ext cx="785880" cy="7858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1"/>
          <p:cNvSpPr/>
          <p:nvPr/>
        </p:nvSpPr>
        <p:spPr>
          <a:xfrm>
            <a:off x="1285920" y="4857840"/>
            <a:ext cx="785880" cy="7858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инус 12"/>
          <p:cNvSpPr/>
          <p:nvPr/>
        </p:nvSpPr>
        <p:spPr>
          <a:xfrm>
            <a:off x="2357280" y="3714840"/>
            <a:ext cx="428760" cy="357120"/>
          </a:xfrm>
          <a:custGeom>
            <a:avLst/>
            <a:gdLst>
              <a:gd name="textAreaLeft" fmla="*/ 56520 w 428760"/>
              <a:gd name="textAreaRight" fmla="*/ 372240 w 428760"/>
              <a:gd name="textAreaTop" fmla="*/ 136440 h 357120"/>
              <a:gd name="textAreaBottom" fmla="*/ 220680 h 357120"/>
            </a:gdLst>
            <a:ahLst/>
            <a:rect l="textAreaLeft" t="textAreaTop" r="textAreaRight" b="textAreaBottom"/>
            <a:pathLst>
              <a:path w="428625" h="357188">
                <a:moveTo>
                  <a:pt x="56814" y="136589"/>
                </a:moveTo>
                <a:lnTo>
                  <a:pt x="371811" y="136589"/>
                </a:lnTo>
                <a:lnTo>
                  <a:pt x="371811" y="220599"/>
                </a:lnTo>
                <a:lnTo>
                  <a:pt x="56814" y="220599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инус 13"/>
          <p:cNvSpPr/>
          <p:nvPr/>
        </p:nvSpPr>
        <p:spPr>
          <a:xfrm>
            <a:off x="2500200" y="5072040"/>
            <a:ext cx="428760" cy="428760"/>
          </a:xfrm>
          <a:custGeom>
            <a:avLst/>
            <a:gdLst>
              <a:gd name="textAreaLeft" fmla="*/ 56520 w 428760"/>
              <a:gd name="textAreaRight" fmla="*/ 372240 w 428760"/>
              <a:gd name="textAreaTop" fmla="*/ 163800 h 428760"/>
              <a:gd name="textAreaBottom" fmla="*/ 264960 h 428760"/>
            </a:gdLst>
            <a:ahLst/>
            <a:rect l="textAreaLeft" t="textAreaTop" r="textAreaRight" b="textAreaBottom"/>
            <a:pathLst>
              <a:path w="428625" h="428625">
                <a:moveTo>
                  <a:pt x="56814" y="163906"/>
                </a:moveTo>
                <a:lnTo>
                  <a:pt x="371811" y="163906"/>
                </a:lnTo>
                <a:lnTo>
                  <a:pt x="371811" y="264719"/>
                </a:lnTo>
                <a:lnTo>
                  <a:pt x="56814" y="264719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инус 14"/>
          <p:cNvSpPr/>
          <p:nvPr/>
        </p:nvSpPr>
        <p:spPr>
          <a:xfrm>
            <a:off x="2214720" y="2428920"/>
            <a:ext cx="571320" cy="428760"/>
          </a:xfrm>
          <a:custGeom>
            <a:avLst/>
            <a:gdLst>
              <a:gd name="textAreaLeft" fmla="*/ 75600 w 571320"/>
              <a:gd name="textAreaRight" fmla="*/ 495720 w 571320"/>
              <a:gd name="textAreaTop" fmla="*/ 163800 h 428760"/>
              <a:gd name="textAreaBottom" fmla="*/ 264960 h 428760"/>
            </a:gdLst>
            <a:ahLst/>
            <a:rect l="textAreaLeft" t="textAreaTop" r="textAreaRight" b="textAreaBottom"/>
            <a:pathLst>
              <a:path w="571500" h="428625">
                <a:moveTo>
                  <a:pt x="75752" y="163906"/>
                </a:moveTo>
                <a:lnTo>
                  <a:pt x="495748" y="163906"/>
                </a:lnTo>
                <a:lnTo>
                  <a:pt x="495748" y="264719"/>
                </a:lnTo>
                <a:lnTo>
                  <a:pt x="75752" y="264719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5"/>
          <p:cNvSpPr/>
          <p:nvPr/>
        </p:nvSpPr>
        <p:spPr>
          <a:xfrm>
            <a:off x="6929280" y="2286000"/>
            <a:ext cx="785880" cy="7858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6,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6"/>
          <p:cNvSpPr/>
          <p:nvPr/>
        </p:nvSpPr>
        <p:spPr>
          <a:xfrm>
            <a:off x="6929280" y="5286240"/>
            <a:ext cx="785880" cy="7858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0,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7"/>
          <p:cNvSpPr/>
          <p:nvPr/>
        </p:nvSpPr>
        <p:spPr>
          <a:xfrm>
            <a:off x="6929280" y="4286160"/>
            <a:ext cx="785880" cy="7858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3,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8"/>
          <p:cNvSpPr/>
          <p:nvPr/>
        </p:nvSpPr>
        <p:spPr>
          <a:xfrm>
            <a:off x="6929280" y="3286080"/>
            <a:ext cx="785880" cy="7858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6 -0.05486 L -0.42673 -0.45394 E">
                                      <p:cBhvr>
                                        <p:cTn id="360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878 0.0044 L -0.62361 0.17245 E">
                                      <p:cBhvr>
                                        <p:cTn id="369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659 0.00671 L -0.43454 -0.12963 E">
                                      <p:cBhvr>
                                        <p:cTn id="378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22 -0.00486 L -0.61562 0.22616 E">
                                      <p:cBhvr>
                                        <p:cTn id="387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09:01:19Z</dcterms:created>
  <dc:creator>Admin</dc:creator>
  <dc:description/>
  <dc:language>en-US</dc:language>
  <cp:lastModifiedBy>Настя</cp:lastModifiedBy>
  <dcterms:modified xsi:type="dcterms:W3CDTF">2011-04-12T04:09:07Z</dcterms:modified>
  <cp:revision>37</cp:revision>
  <dc:subject/>
  <dc:title>Слайд 1</dc:title>
</cp:coreProperties>
</file>