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5.gif" ContentType="image/gif"/>
  <Override PartName="/ppt/media/image24.gif" ContentType="image/gif"/>
  <Override PartName="/ppt/media/image17.png" ContentType="image/png"/>
  <Override PartName="/ppt/media/image20.gif" ContentType="image/gif"/>
  <Override PartName="/ppt/media/image18.gif" ContentType="image/gif"/>
  <Override PartName="/ppt/media/image14.wmf" ContentType="image/x-wmf"/>
  <Override PartName="/ppt/media/image16.gif" ContentType="image/gif"/>
  <Override PartName="/ppt/media/image15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3.gif" ContentType="image/gif"/>
  <Override PartName="/ppt/media/image10.png" ContentType="image/png"/>
  <Override PartName="/ppt/media/image12.gif" ContentType="image/gif"/>
  <Override PartName="/ppt/media/image31.gif" ContentType="image/gif"/>
  <Override PartName="/ppt/media/image33.gif" ContentType="image/gif"/>
  <Override PartName="/ppt/media/image8.gif" ContentType="image/gif"/>
  <Override PartName="/ppt/media/image37.gif" ContentType="image/gif"/>
  <Override PartName="/ppt/media/image42.png" ContentType="image/png"/>
  <Override PartName="/ppt/media/image34.gif" ContentType="image/gif"/>
  <Override PartName="/ppt/media/image38.png" ContentType="image/png"/>
  <Override PartName="/ppt/media/image41.gif" ContentType="image/gif"/>
  <Override PartName="/ppt/media/image9.gif" ContentType="image/gif"/>
  <Override PartName="/ppt/media/image39.gif" ContentType="image/gif"/>
  <Override PartName="/ppt/media/image44.png" ContentType="image/png"/>
  <Override PartName="/ppt/media/image30.png" ContentType="image/png"/>
  <Override PartName="/ppt/media/image43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29.png" ContentType="image/png"/>
  <Override PartName="/ppt/media/image36.gif" ContentType="image/gif"/>
  <Override PartName="/ppt/media/image13.gif" ContentType="image/gif"/>
  <Override PartName="/ppt/media/image4.jpeg" ContentType="image/jpeg"/>
  <Override PartName="/ppt/media/image32.png" ContentType="image/png"/>
  <Override PartName="/ppt/media/image2.png" ContentType="image/png"/>
  <Override PartName="/ppt/media/image22.gif" ContentType="image/gif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485-531E-42B8-B953-D5AA4F26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BB2-45E4-4F8B-B645-4B7259A5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E69ED-2B7A-4924-9F60-C617688C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F83F4-4F70-4045-9E12-C3050CF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C388-E4C1-41D1-AA1C-60786329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AFBD8-FD68-4CE0-859D-3454C2E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CB398-1DE9-4319-8EDA-2C53DF1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CBC65-7AA3-4F22-8860-4B3F458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C996F-3031-4C3E-AC67-6DD30CB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9E060-D8F7-4EFB-9BC6-54009E2F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E4A44-D067-4BC4-B78C-B1EAC17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8BD6A-0846-4208-A3D5-94C26E12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78B-8B44-4087-ADAB-14BF5F32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1202A-CA0B-492E-9D8D-A401C2F7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9CDF-D40A-48A5-8F13-B25CF41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10026-CA92-4853-B997-74384D3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8784F-4CE0-45A1-8E8D-6B30F08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04371-B24B-4249-87C0-EBF57CE6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63316-3259-4B4E-84E9-CC267B6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8E23F-F1E9-4857-90A1-51B69700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0D86F-1AFB-4E3D-AE1D-034AF4ED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8E621-5AB6-48D4-80A2-CA52B36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3C8AB-F464-48C5-A2C2-D3AF1C7B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AED-3E96-4D30-A8EE-04B3CC4B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8B2D3-EC30-4766-B4C0-BC3BD0AD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A741F-2BB0-4127-9BD3-E9D08FE8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E65DA-65A3-415E-896C-D47617D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606DA-A6B4-4658-88D5-1BBEF33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CE9F-72C5-4A1A-872C-8AB2319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F0EFE-E9CB-4DAE-844D-2888BE6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4C819-BA13-43AF-AFEC-3A0C7E94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6194A-E0A6-40D3-BD13-B06069F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0D404-73F4-448C-8D78-950152E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80475-599D-404C-B2E7-1CC80AB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602-F16B-4037-B688-C3871DDF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66E2C-7060-499C-8C82-617A947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2F3B-6199-45BE-ACE7-B070A51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7482-D2AC-4488-A1CA-9D419EFF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44D5B-614A-4770-9634-A64336F1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22BB5-762D-410A-811C-9E07309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F3DCE-2BA8-41BC-85E6-8F5A296C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293CC-EA3B-4875-9203-DFE900F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0853A-F6ED-4DCD-93FF-3B1E479B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3E471-FB97-47A7-A74C-A885131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CD300-7F04-456C-B52A-AC0074A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E268-FA77-4009-A36B-765C942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1A522-1E77-4147-B387-2216E1F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FE544-23DB-4593-8FBA-CD11A8A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AAC63-DA41-4AF0-A2B2-41117692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ADF76-1D50-4E21-9FBC-684040A7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D7471-A3D5-4ADE-BD2F-AD50E8CD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7CF9B-A467-4F95-A440-3618F751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E76B2-2492-493B-AAAE-C3B39CC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69ECA-5DA6-4F2A-A9F6-BBB7C162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C588E-4410-4C5C-87DB-0A0C9F2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3C6E5-2AA2-4B60-A1FE-B8F91F54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4F9-1957-4F7D-942B-468F0A1A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05EE6-358B-475A-B671-F652EC6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F236D-56DD-4B84-B127-2535BE9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30EE7-81F4-44FE-AF3F-DFCCC05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F1980-9649-43B0-95E3-2441B6D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A4B5E-6ABD-4E62-B6DD-C24042A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F2A76-A470-44FE-9148-B6B0F8FB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AD432-87F2-46BF-B244-D967D392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23972-7680-42E8-BCF2-489E8860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B52B0-34A9-49CA-AE74-E051765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B0C6B-411F-4313-A66B-FE13E575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798F-B6AC-4886-BE86-09F5426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70433-F74D-43AC-8ADE-F111A0DB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0B379-03BD-4045-8F17-E8846E4A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E01F2-D96C-4C50-80A7-AF3F968A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BF98D-F66B-4B09-915D-73B93EF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14BB3-E2A5-4C57-A53B-B3BF360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36BF9-920A-4E91-BCCE-E9DBE0B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66219-D7B5-4AAB-B87E-ABD10E4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71B9E-3AF5-483D-88B7-96BDAA45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77550-2492-4928-8B05-EB56A3E8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5F778-C060-4088-9E0F-E802CC4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A1B8-5DD6-45F1-BE6A-EFFE8FD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C3BA0-DDEF-486D-815A-F796998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14EBF-6A35-470A-A153-EAA051A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C547B-C01D-4103-A2D2-40877A20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FBB21-61D5-4251-8663-34C7C8D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3BA3D-1E2A-4347-B233-39D954D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5E937-3796-4333-8CD8-AF6EAA1F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CA0F1-200B-4BD2-9419-2BA36F1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C8D82-DBA8-45FF-9944-562F3BC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CDA5A-BB27-48E3-BCC0-F8170EA7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7BC81-58D8-4471-AA3B-A51CE41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B15B-BA38-48FF-9D16-D958AB94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88CE8-0B59-4067-8210-3EA5C34C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F0DA0-4EA2-421B-BFFC-E46E312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7DAEC-E6C1-4601-AE0D-836DEB29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86810-33BD-4D26-8BEA-8D23004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07DF7-7D15-489D-8309-4BA3074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B0715-2557-44E2-9F62-21764A7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391EF-A68D-471C-BB82-626F556F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52558-EE66-45DB-9A89-A893F14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F47DE-09F7-4EE2-915F-8F080F1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46116-9562-40FC-BD9E-38734B5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5E7B-F2D7-4E76-8D18-8D2110B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60E62-BE1E-4F3B-8BA6-F55FF26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19597-6BEB-4B9D-984C-3358405C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1E4C6-7415-4645-BB9D-EEED10F2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F1D2F-117D-4432-A9AC-CFC35167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0517C-91B0-4978-A252-4767A39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1AD59-CC66-40BD-B7A0-10E4E00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7C8B8-36D9-4E47-A05B-D5240FC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E4354-45E6-474E-9072-C8EBA41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36F88-C6DC-4D85-8976-229AFCCF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DF984-903E-4D77-BADA-8D3CC87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D60-4D32-42EE-A9B5-14733AD2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30EB-05C8-4D92-9128-AA492D8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AE3C0-0E21-48E1-A4C0-DF67C0E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E18A3-C0CA-41BA-A653-73B7948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2CACC-9E05-4306-B10E-9D8FD466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8ADE3-6F6C-41B3-9CE4-ADD1BE9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703E7-5B91-46D0-8F59-C5BBD03C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ED11A-7BDF-4533-8559-DDC74034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1DE0B-F1E9-407E-9984-55074581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41CF6-B916-4B17-A5DF-7DF209A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EF2F0-4952-4B4D-855A-231DFE62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6D3F7-8EBC-4483-95D7-B33E2B6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C031-7E20-453B-B75B-0A5600D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682F4-2192-4AFF-82D8-AB6D410B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7AF38-6573-43C0-94F5-887F36B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8F0E9-BBEC-4E71-8B21-F62C1CC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26228-F069-44EB-AB36-69A42AC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5F77F-D4C6-4DDB-9E98-6FADF4B8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47E8B-2B34-4826-A249-CC28A1BE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9C532-783C-4AC6-87C9-5F9BC8EE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DFC9C-E5FA-4AA7-883B-D7B10C63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1C2FF-7AF3-4425-8240-CFFC7A4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76924-B0E7-4BE4-AAA6-0E60F78E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5F7-47E2-41F5-A659-591BAE6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72089-2CA8-430A-BAFA-4025E0F9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930C5-798C-4037-84BB-FD35456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21549-2DDC-4B8D-AE14-4072169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8AEBB-2332-458D-9C4C-8357435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895F6-027C-474C-AAFD-AC5DA177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2FAFC-5017-45C3-A17F-CB4314B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DC1A4-17F3-4268-9B24-5061B4F6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9A542-75F6-45D9-AAC2-17A644ED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F499D-D1D0-49C9-84E6-E8A02341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1AD5-F04B-4824-89DB-5EBED79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165-80AE-44DD-AD2A-0C990975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61BC-7EDA-4152-9509-67EDAE70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CF53-0F16-41CA-9BB4-22AE36A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871C-60EE-4F76-ADCD-BF03355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A12E-9036-461F-A288-260D325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105F-DF42-44A6-A5FD-7576F5F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512-7484-4C27-8BAA-3E892244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F5B4-F9AD-4124-BF0B-39E86C0F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0B56-C2AB-4B25-B318-FA590AAC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4106-3941-4205-9FF3-FA43D8E3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E3DC-DEFA-4976-BAAA-906F5B1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9A6B-4F19-4E4F-A94D-AC686E8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1C07-FFAB-4977-8F37-73058393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583D-C8CD-4D7A-92AC-58C6654A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CFBF-12E6-4D1B-9E27-74C9EB64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E94B-2224-471A-BDAB-18F4FE4F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BA61-7624-4F85-8A8D-BD8AC12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774-B34A-47EB-BA64-3C17F512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DC7A-874A-4C17-B0A9-E0D046F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F920-0817-4FE0-B36B-D51D051A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6C04-9E42-4479-933C-600A076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C549-B6CD-46E7-8EB7-10A9389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FB06-E2B9-40B5-BCF8-F147A27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C4D7-BF2E-4F4E-B9F2-64EEE47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A9B1-3091-492A-8F8A-1321EB1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B36C-9731-45C9-845E-BEC5FB40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9962-3719-4685-B855-5F29A773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650F-A8AA-4FF6-A043-DDBD5E13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DCE-CCEA-4A4F-97DB-E24C510C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C04E-B520-417E-B5B8-5F8E226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9A34-1087-4224-9D94-FD443C75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79D7-22F2-4FEE-9F9A-5F2EC21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E7DA-D8A8-4555-96FA-A4E0581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2C54-F5B8-4A44-B5B2-8F3E3564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326A-B3C8-40E6-9E31-368BC8B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0191-4C7F-44F3-9272-B3377EE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E4DE-7F1D-41D1-8117-5031EB2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1E758-A875-4396-9FF4-F951E13E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40E0-6179-45F2-BCEC-002320CF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903-42BE-4672-B0A9-1FAA037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1BF3-FF0F-4ACC-8D1D-90BAF46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B6200-2209-4BF7-8D46-CD934966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F14E-8ECD-4093-82DC-EEE687F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B852-8BB9-4295-942E-E13920D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16EA-C70A-4ADF-90C6-98090641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F3AA-BF67-4E18-91DE-19DBD110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A3EE-DDC1-4A4C-B6D6-D59D1F00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1C84-4490-4A08-A019-5A0393B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BC7C-4769-4DCB-B219-35104C1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8060-342E-4A97-A372-4FDE738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2BC-8DD4-4DD3-9E8A-928B33B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1E12-F99D-4FED-AB79-266D3A9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D9D8-8C0F-4B72-8D5E-43C838DD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6AB4-03D6-4C7F-95D5-A10E7B94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8BD2-D3CD-4406-AF10-8D4AF9F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BAEC2-B0E1-4CCC-9772-8ACCE0D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0B47-5A02-4C58-BC2D-F527ED7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27D6-CA4A-4100-A62A-3B2943B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5C45-026C-46DB-BDA9-EDA3E44D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C682-2208-4A0F-A592-A4E9B99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C989E-7791-42CD-AB19-38B9B75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EA0-847E-4689-8578-EBB0172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4378C-0A48-45DA-8C1F-6B63263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745A-5E0D-4CD2-8B74-FDEB14B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36B3-C59B-4971-8471-6769DA8E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FF1A-7737-42F8-9D3E-B76DAE77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4130-0077-4098-A02A-C5CB7C87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26E5-6EC3-4913-B453-8E3027E8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3AE1-FCBD-4355-8B1D-9B6C548A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D257-DE32-4D87-9799-68E18F3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EEF62-6985-4B44-AEE2-1B85386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85B30-45FF-47E8-B408-17767F04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BDD-5111-47C3-87AB-7E1DC6FD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D9DD8-DF98-4819-B24D-73AE850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1780-5727-4522-870B-308644D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522F-6A97-41B9-A675-C38B6BD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A0B8-941D-402C-BA98-4A8E1C3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843C8-8975-445F-BBDE-80A412E0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71B0-F571-4E84-8AAE-D96D388B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7B39-D4A4-414F-AF8F-45CC1D0F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562CE-20D2-407A-9834-631FC1B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509A3-2B78-4596-A653-749C5426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B5CDA-227A-4354-8B2E-AD99E82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13F-F535-48B3-9BE1-6F74C0D527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899-52A8-4823-9085-57814AC46C3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274E-D784-4910-8DCC-0A5293371D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868-E1F3-4B47-91A2-910654356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61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62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6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964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6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968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6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970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7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972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7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8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9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0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1009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010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1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2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3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4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5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6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7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8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19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20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021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102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2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3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4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5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5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5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6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6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6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071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7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6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078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79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0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1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2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3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AF5-9A1B-408F-B840-46E54627E1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087-EA8C-4774-A0DE-9558CE9EBF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7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8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9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1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11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2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3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4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5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6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7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8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9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0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1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2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3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24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5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6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7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8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9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0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1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23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4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4FDA-A181-481B-A34F-1D1A4CC26A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8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8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8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1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31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1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E5E-C832-4AFA-8664-945E096112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63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64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5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6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6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6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6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7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37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7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7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7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7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7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7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7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7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8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8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8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8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8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8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8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8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8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8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9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9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9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9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9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9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9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9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39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39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0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0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0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0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0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0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0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0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0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0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1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1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1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1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1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1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1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1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1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1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2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2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2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2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2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2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2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2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2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2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3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3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3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3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3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43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3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43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3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3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4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4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4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4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4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4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4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4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4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4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5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5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5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5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5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5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5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5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5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5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6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6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6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6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6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6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6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46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6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46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47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7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7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7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7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80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81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2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3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4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5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6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7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8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9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0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1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2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3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4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1944-9B1B-4DDD-9B44-ADE60E1C312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3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3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3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56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6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6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6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6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7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8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8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8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8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8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9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9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9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5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5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C5F-A144-4089-BF6D-E06ACEADF1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BC9-9188-4794-8FE3-6CDED4C4C35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35AB-56AD-4574-AC0B-07E0DC173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5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6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97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98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9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02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3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4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5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06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07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8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09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0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1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2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3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4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5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6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7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8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19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0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1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2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3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4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5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6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7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8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9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0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1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2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3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4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5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6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7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8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39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0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1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2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143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4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45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46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47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48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49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0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1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2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3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4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155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156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7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8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9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0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1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2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3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4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5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6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7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8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9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0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1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2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3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4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5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6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7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8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2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3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4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95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6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7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8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9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0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1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2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3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4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05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6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12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3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5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6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18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7EC1-360E-4ABD-B0BE-5C7AFF2ABA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7DE-7D9D-481D-9D5D-2A2C48953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96F-A626-4562-8959-E22474605D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2E3-DDD7-43B2-B542-4A3AA63C1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8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E8FE-B4D3-438E-AA13-7EAE4A710B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5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4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5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5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5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5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5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5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5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6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6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6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6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6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6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7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7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7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7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7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7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7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8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8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8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8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8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8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9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9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9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0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0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0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1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1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1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61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1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2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2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2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2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3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3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3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3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4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4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4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4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5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4266-984C-4764-9B21-5D3F94E1649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1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4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6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092-E58A-45DA-8BE0-45F10F9049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22.gif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0.xml"/><Relationship Id="rId3" Type="http://schemas.openxmlformats.org/officeDocument/2006/relationships/slide" Target="slide15.xml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wmf"/><Relationship Id="rId8" Type="http://schemas.openxmlformats.org/officeDocument/2006/relationships/image" Target="../media/image15.gif"/><Relationship Id="rId9" Type="http://schemas.openxmlformats.org/officeDocument/2006/relationships/slide" Target="slide5.xml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Picture 9" descr="j03097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1066680" y="5714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МКОУ «Седельниковская СОШ № 1»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Андреев А.В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4" name="WordArt 4"/>
          <p:cNvSpPr txBox="1"/>
          <p:nvPr/>
        </p:nvSpPr>
        <p:spPr>
          <a:xfrm>
            <a:off x="1219320" y="251460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ая систе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5" name="AutoShape 6">
            <a:hlinkClick r:id="" action="ppaction://hlinkshowjump?jump=nextslide"/>
          </p:cNvPr>
          <p:cNvSpPr/>
          <p:nvPr/>
        </p:nvSpPr>
        <p:spPr>
          <a:xfrm>
            <a:off x="80010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6" name="(Зодиак)- Мистическая галактика.wav" descr=""/>
          <p:cNvPicPr/>
          <p:nvPr/>
        </p:nvPicPr>
        <p:blipFill>
          <a:blip r:embed="rId4"/>
          <a:stretch/>
        </p:blipFill>
        <p:spPr>
          <a:xfrm>
            <a:off x="8491680" y="6095880"/>
            <a:ext cx="6523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питер- пятая план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нее расстояние от Солнца:778,3 млн. 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близительный диаметр: 142 984 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пература атмосферы: -150˚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олжительность года: 11,86 земных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олжительность суток: 9 часов 50 мину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исло спутников: 1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клон оси: 3˚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ит гигант из водорода и гелия, то есть из звёздного вещества, а кроме того, в нём   есть, атмосфера, в которой есть небольшое количество кислоро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WordArt 7"/>
          <p:cNvSpPr txBox="1"/>
          <p:nvPr/>
        </p:nvSpPr>
        <p:spPr>
          <a:xfrm>
            <a:off x="2133720" y="380880"/>
            <a:ext cx="48765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Юпи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5" name="AutoShape 8">
            <a:hlinkClick r:id="rId10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6" name="Picture 9" descr="j0219073"/>
          <p:cNvPicPr/>
          <p:nvPr/>
        </p:nvPicPr>
        <p:blipFill>
          <a:blip r:embed="rId11"/>
          <a:stretch/>
        </p:blipFill>
        <p:spPr>
          <a:xfrm>
            <a:off x="4392720" y="1752480"/>
            <a:ext cx="43592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турн- шестая план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нее расстояние от Солнца:1427 млн.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близительный диаметр:120 536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пература атмосферы: - 180˚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олжительность года: 29,49 земных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олжительность суток: 10часов 39 мину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спутников: 1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клон оси: 26˚7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и Юпитер, Сатурн представляет собой полужидкое – полугазообразное тело с небольшим твердым ядром внутри. Имеет планета атмосферу, состоящую из водорода и гел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турн имеет кольца, ширина которых достигает 275 000 км, но толщина не более километ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WordArt 7"/>
          <p:cNvSpPr txBox="1"/>
          <p:nvPr/>
        </p:nvSpPr>
        <p:spPr>
          <a:xfrm>
            <a:off x="2209680" y="304920"/>
            <a:ext cx="487692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тур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0" name="AutoShape 8">
            <a:hlinkClick r:id="rId1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1" name="Picture 15" descr="j0219072"/>
          <p:cNvPicPr/>
          <p:nvPr/>
        </p:nvPicPr>
        <p:blipFill>
          <a:blip r:embed="rId2"/>
          <a:stretch/>
        </p:blipFill>
        <p:spPr>
          <a:xfrm>
            <a:off x="4635360" y="1828800"/>
            <a:ext cx="450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ран- 7 планета от Солнца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реднее расстояние от Солнца: 2870 млн. к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близительный диаметр: 51 118 к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мпература атмосферы:-216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должительность года: 84,01 земных ле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должительность суток: 17 часов 14 мину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исло спутников: 1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клон оси:97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‘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ран отличается от остальных планет Солнечной системы тем, что вращается как бы лежа на боку. Учёные  предполагают, что при образовании Солнечной системы одна из планет столкнулась с Ураном, из-за чего изменилось направление вращения планеты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4" name="WordArt 7"/>
          <p:cNvSpPr txBox="1"/>
          <p:nvPr/>
        </p:nvSpPr>
        <p:spPr>
          <a:xfrm>
            <a:off x="2286000" y="304920"/>
            <a:ext cx="45720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5" name="AutoShape 8">
            <a:hlinkClick r:id="rId1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6" name="Picture 11" descr="j0219081"/>
          <p:cNvPicPr/>
          <p:nvPr/>
        </p:nvPicPr>
        <p:blipFill>
          <a:blip r:embed="rId2"/>
          <a:stretch/>
        </p:blipFill>
        <p:spPr>
          <a:xfrm>
            <a:off x="4784760" y="1676520"/>
            <a:ext cx="43592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птун – 8 плане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реднее расстояние от Солнца: 4497 млн. к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близительный диаметр: 49 528 к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мпература атмосферы: -214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должительность года: 164,8 земных ле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должительность суток: 16 часов 7 мину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исло спутников: 8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клон оси: 28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‘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птун знаменит среди других планет тем, что здесь бушуют самые сильные Солнечной системе ураганы. Скорость ветров, мчащихся над планетой с востока на запад, превышает 2200 км. В час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9" name="WordArt 7"/>
          <p:cNvSpPr txBox="1"/>
          <p:nvPr/>
        </p:nvSpPr>
        <p:spPr>
          <a:xfrm>
            <a:off x="2133720" y="304920"/>
            <a:ext cx="48006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епту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70" name="AutoShape 8">
            <a:hlinkClick r:id="rId1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1" name="Picture 9" descr="j0219077"/>
          <p:cNvPicPr/>
          <p:nvPr/>
        </p:nvPicPr>
        <p:blipFill>
          <a:blip r:embed="rId2"/>
          <a:stretch/>
        </p:blipFill>
        <p:spPr>
          <a:xfrm>
            <a:off x="4572000" y="1828800"/>
            <a:ext cx="42847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3" name="WordArt 7"/>
          <p:cNvSpPr txBox="1"/>
          <p:nvPr/>
        </p:nvSpPr>
        <p:spPr>
          <a:xfrm>
            <a:off x="2133720" y="228600"/>
            <a:ext cx="472428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у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74" name="AutoShape 8">
            <a:hlinkClick r:id="rId1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609480" y="15998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лутон 9 планет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реднее расстояние от Солнца:2310 млн. к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иблизительный диаметр:2284 к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Температура атмосферы: -230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°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Продолжительность года: 248,5 земных лет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Продолжительность суток: 6 земных суток 9часов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Число спутников: 1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Наклон оси: 62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°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24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Плутон- самая удалённая от Солнца планета Солнечной систем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У планеты один спутник- Харон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Плутон в пять раз меньше нашей планет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6" name="Picture 21" descr="j0303441"/>
          <p:cNvPicPr/>
          <p:nvPr/>
        </p:nvPicPr>
        <p:blipFill>
          <a:blip r:embed="rId2"/>
          <a:stretch/>
        </p:blipFill>
        <p:spPr>
          <a:xfrm>
            <a:off x="4641840" y="1925640"/>
            <a:ext cx="40370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Picture 8" descr="j0219060"/>
          <p:cNvPicPr/>
          <p:nvPr/>
        </p:nvPicPr>
        <p:blipFill>
          <a:blip r:embed="rId1"/>
          <a:stretch/>
        </p:blipFill>
        <p:spPr>
          <a:xfrm>
            <a:off x="0" y="690480"/>
            <a:ext cx="8650440" cy="6167520"/>
          </a:xfrm>
          <a:prstGeom prst="rect">
            <a:avLst/>
          </a:prstGeom>
          <a:ln w="0">
            <a:noFill/>
          </a:ln>
        </p:spPr>
      </p:pic>
      <p:sp>
        <p:nvSpPr>
          <p:cNvPr id="1778" name="WordArt 4"/>
          <p:cNvSpPr txBox="1"/>
          <p:nvPr/>
        </p:nvSpPr>
        <p:spPr>
          <a:xfrm>
            <a:off x="457200" y="304920"/>
            <a:ext cx="391464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вёз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79" name="WordArt 5"/>
          <p:cNvSpPr txBox="1"/>
          <p:nvPr/>
        </p:nvSpPr>
        <p:spPr>
          <a:xfrm>
            <a:off x="457200" y="4724280"/>
            <a:ext cx="1890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0" name="WordArt 6"/>
          <p:cNvSpPr txBox="1"/>
          <p:nvPr/>
        </p:nvSpPr>
        <p:spPr>
          <a:xfrm>
            <a:off x="4876920" y="4724280"/>
            <a:ext cx="40194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WordArt 7"/>
          <p:cNvSpPr txBox="1"/>
          <p:nvPr/>
        </p:nvSpPr>
        <p:spPr>
          <a:xfrm>
            <a:off x="3352680" y="464832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AutoShape 14">
            <a:hlinkClick r:id="rId8" action="ppaction://hlinksldjump"/>
          </p:cNvPr>
          <p:cNvSpPr/>
          <p:nvPr/>
        </p:nvSpPr>
        <p:spPr>
          <a:xfrm>
            <a:off x="8686800" y="642456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4385" y="10800"/>
                </a:moveTo>
                <a:lnTo>
                  <a:pt x="18398" y="3794"/>
                </a:lnTo>
                <a:lnTo>
                  <a:pt x="18398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AutoShape 15">
            <a:hlinkClick r:id="rId9" action="ppaction://hlinksldjump"/>
          </p:cNvPr>
          <p:cNvSpPr/>
          <p:nvPr/>
        </p:nvSpPr>
        <p:spPr>
          <a:xfrm>
            <a:off x="3886200" y="12193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AutoShape 16">
            <a:hlinkClick r:id="rId10" action="ppaction://hlinksldjump"/>
          </p:cNvPr>
          <p:cNvSpPr/>
          <p:nvPr/>
        </p:nvSpPr>
        <p:spPr>
          <a:xfrm>
            <a:off x="1143000" y="5562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5" name="AutoShape 17">
            <a:hlinkClick r:id="rId11" action="ppaction://hlinksldjump"/>
          </p:cNvPr>
          <p:cNvSpPr/>
          <p:nvPr/>
        </p:nvSpPr>
        <p:spPr>
          <a:xfrm>
            <a:off x="678168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AutoShape 18">
            <a:hlinkClick r:id="rId12" action="ppaction://hlinksldjump"/>
          </p:cNvPr>
          <p:cNvSpPr/>
          <p:nvPr/>
        </p:nvSpPr>
        <p:spPr>
          <a:xfrm>
            <a:off x="335268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вёзды и галакт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8" name="AutoShape 4">
            <a:hlinkClick r:id="rId1" action="ppaction://hlinksldjump"/>
          </p:cNvPr>
          <p:cNvSpPr/>
          <p:nvPr/>
        </p:nvSpPr>
        <p:spPr>
          <a:xfrm>
            <a:off x="8534520" y="6272280"/>
            <a:ext cx="609480" cy="58572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2476" h="21600">
                <a:moveTo>
                  <a:pt x="0" y="0"/>
                </a:moveTo>
                <a:lnTo>
                  <a:pt x="22476" y="0"/>
                </a:lnTo>
                <a:lnTo>
                  <a:pt x="22476" y="21600"/>
                </a:lnTo>
                <a:lnTo>
                  <a:pt x="0" y="21600"/>
                </a:lnTo>
                <a:close/>
              </a:path>
              <a:path fill="lightenLess" w="22476" h="21600">
                <a:moveTo>
                  <a:pt x="0" y="0"/>
                </a:moveTo>
                <a:lnTo>
                  <a:pt x="22476" y="0"/>
                </a:lnTo>
                <a:lnTo>
                  <a:pt x="21076" y="1400"/>
                </a:lnTo>
                <a:lnTo>
                  <a:pt x="1400" y="1400"/>
                </a:lnTo>
                <a:close/>
              </a:path>
              <a:path fill="darken" w="22476" h="21600">
                <a:moveTo>
                  <a:pt x="22476" y="0"/>
                </a:moveTo>
                <a:lnTo>
                  <a:pt x="22476" y="21600"/>
                </a:lnTo>
                <a:lnTo>
                  <a:pt x="21076" y="20200"/>
                </a:lnTo>
                <a:lnTo>
                  <a:pt x="21076" y="1400"/>
                </a:lnTo>
                <a:close/>
              </a:path>
              <a:path fill="darkenLess" w="22476" h="21600">
                <a:moveTo>
                  <a:pt x="22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6" y="20200"/>
                </a:lnTo>
                <a:close/>
              </a:path>
              <a:path fill="lighten" w="22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6" h="21600">
                <a:moveTo>
                  <a:pt x="4231" y="10800"/>
                </a:moveTo>
                <a:lnTo>
                  <a:pt x="18244" y="3794"/>
                </a:lnTo>
                <a:lnTo>
                  <a:pt x="18244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9" name="Picture 11" descr="j0219071"/>
          <p:cNvPicPr/>
          <p:nvPr/>
        </p:nvPicPr>
        <p:blipFill>
          <a:blip r:embed="rId2"/>
          <a:stretch/>
        </p:blipFill>
        <p:spPr>
          <a:xfrm>
            <a:off x="914400" y="1752480"/>
            <a:ext cx="7086600" cy="5105520"/>
          </a:xfrm>
          <a:prstGeom prst="rect">
            <a:avLst/>
          </a:prstGeom>
          <a:ln w="0">
            <a:noFill/>
          </a:ln>
        </p:spPr>
      </p:pic>
      <p:sp>
        <p:nvSpPr>
          <p:cNvPr id="1790" name="Text Box 9"/>
          <p:cNvSpPr/>
          <p:nvPr/>
        </p:nvSpPr>
        <p:spPr>
          <a:xfrm>
            <a:off x="762120" y="2286000"/>
            <a:ext cx="70866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ёзды образуют между собой большие скопления, которые называют галактиками. Наше Солнце расположено в галактике, называющейся Млечный Путь. Ночью в ясную безлунную погоду Млечный Путь можно видеть на небе в виде полосы неяркого света. Млечный Путь похож на плоский диск диаметром в 100 000 световых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2" name="WordArt 7"/>
          <p:cNvSpPr txBox="1"/>
          <p:nvPr/>
        </p:nvSpPr>
        <p:spPr>
          <a:xfrm>
            <a:off x="2209680" y="457200"/>
            <a:ext cx="4800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3" name="Picture 19" descr="j0219082"/>
          <p:cNvPicPr/>
          <p:nvPr/>
        </p:nvPicPr>
        <p:blipFill>
          <a:blip r:embed="rId3"/>
          <a:stretch/>
        </p:blipFill>
        <p:spPr>
          <a:xfrm>
            <a:off x="2971800" y="1219320"/>
            <a:ext cx="6172200" cy="5638680"/>
          </a:xfrm>
          <a:prstGeom prst="rect">
            <a:avLst/>
          </a:prstGeom>
          <a:ln w="0">
            <a:noFill/>
          </a:ln>
        </p:spPr>
      </p:pic>
      <p:sp>
        <p:nvSpPr>
          <p:cNvPr id="1794" name="AutoShape 20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Text Box 21"/>
          <p:cNvSpPr/>
          <p:nvPr/>
        </p:nvSpPr>
        <p:spPr>
          <a:xfrm>
            <a:off x="457200" y="1676520"/>
            <a:ext cx="60199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це- огромное небесное тело, внутри которого могло бы поместится более миллиона планет, равных по размерам нашей Зем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раст Солнца: около 4 600 000 000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нее расстояние до Земли: 150 млн. 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иаметр: 1 392 000 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пература на поверхности: 580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пература в центре: 15 000 00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иод обращения: 24 земных сут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иод обращения в Млечный Пути: 225млн.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исло планет солнечной системы: 9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AutoShape 4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7" name="Picture 6" descr="j0219069"/>
          <p:cNvPicPr/>
          <p:nvPr/>
        </p:nvPicPr>
        <p:blipFill>
          <a:blip r:embed="rId1"/>
          <a:stretch/>
        </p:blipFill>
        <p:spPr>
          <a:xfrm>
            <a:off x="30492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1798" name="WordArt 5"/>
          <p:cNvSpPr txBox="1"/>
          <p:nvPr/>
        </p:nvSpPr>
        <p:spPr>
          <a:xfrm>
            <a:off x="990720" y="304920"/>
            <a:ext cx="518148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интерес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9" name="Text Box 8"/>
          <p:cNvSpPr/>
          <p:nvPr/>
        </p:nvSpPr>
        <p:spPr>
          <a:xfrm>
            <a:off x="380880" y="2209680"/>
            <a:ext cx="838224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ая ближайшая к нам звезда – АЛЬФА ЦЕНТАВРА. Свет от неё идет до Земли 4,3 года. (Солнечный свет достигает земли за 8 минут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нашей Галактике известно 500 000 миллионов звёз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ёные предполагают, что наша Вселенная насчитывает примерно 100 000 миллионов галактик, и в каждой из них – миллиарды звёзд. Из планет, известных за пределами Солнечной системы, по крайней мере, три могли бы оказаться пригодными для жиз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6" descr="j0219064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981760"/>
          </a:xfrm>
          <a:prstGeom prst="rect">
            <a:avLst/>
          </a:prstGeom>
          <a:ln w="0">
            <a:noFill/>
          </a:ln>
        </p:spPr>
      </p:pic>
      <p:sp>
        <p:nvSpPr>
          <p:cNvPr id="18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1. Рассыпался горох                 2. Полна печь маленьких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 сто дорог,                                                      хлебцев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икто его не соберёт –              А в середине больш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и царь, ни царица,                                          карава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и красная девиц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3. Из какого ковша не пьют, не едят, а только глядят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4. У кого днём один глаз, а ночью – много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5. Ковёр имею – не вытрясешь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олото имею – не сосчитаешь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2" name="AutoShape 4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WordArt 5"/>
          <p:cNvSpPr txBox="1"/>
          <p:nvPr/>
        </p:nvSpPr>
        <p:spPr>
          <a:xfrm>
            <a:off x="1066680" y="0"/>
            <a:ext cx="698184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г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04" name="AutoShape 9"/>
          <p:cNvSpPr/>
          <p:nvPr/>
        </p:nvSpPr>
        <p:spPr>
          <a:xfrm>
            <a:off x="7162920" y="6400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8" name="Picture 4" descr="j0219084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769080"/>
          </a:xfrm>
          <a:prstGeom prst="rect">
            <a:avLst/>
          </a:prstGeom>
          <a:ln w="0">
            <a:noFill/>
          </a:ln>
        </p:spPr>
      </p:pic>
      <p:sp>
        <p:nvSpPr>
          <p:cNvPr id="1699" name="WordArt 7"/>
          <p:cNvSpPr txBox="1"/>
          <p:nvPr/>
        </p:nvSpPr>
        <p:spPr>
          <a:xfrm>
            <a:off x="990720" y="838080"/>
            <a:ext cx="7315200" cy="701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дей всегда манили дали,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х вечно звали океаны...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космос жил не торопясь,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был загадочен и страшен.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 </a:t>
            </a: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 Алдан-Семёнов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0" name="AutoShape 8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0976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591" h="21600">
                <a:moveTo>
                  <a:pt x="0" y="0"/>
                </a:moveTo>
                <a:lnTo>
                  <a:pt x="22591" y="0"/>
                </a:lnTo>
                <a:lnTo>
                  <a:pt x="22591" y="21600"/>
                </a:lnTo>
                <a:lnTo>
                  <a:pt x="0" y="21600"/>
                </a:lnTo>
                <a:close/>
              </a:path>
              <a:path fill="lightenLess" w="22591" h="21600">
                <a:moveTo>
                  <a:pt x="0" y="0"/>
                </a:moveTo>
                <a:lnTo>
                  <a:pt x="22591" y="0"/>
                </a:lnTo>
                <a:lnTo>
                  <a:pt x="21191" y="1400"/>
                </a:lnTo>
                <a:lnTo>
                  <a:pt x="1400" y="1400"/>
                </a:lnTo>
                <a:close/>
              </a:path>
              <a:path fill="darken" w="22591" h="21600">
                <a:moveTo>
                  <a:pt x="22591" y="0"/>
                </a:moveTo>
                <a:lnTo>
                  <a:pt x="22591" y="21600"/>
                </a:lnTo>
                <a:lnTo>
                  <a:pt x="21191" y="20200"/>
                </a:lnTo>
                <a:lnTo>
                  <a:pt x="21191" y="1400"/>
                </a:lnTo>
                <a:close/>
              </a:path>
              <a:path fill="darkenLess" w="22591" h="21600">
                <a:moveTo>
                  <a:pt x="22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1" y="20200"/>
                </a:lnTo>
                <a:close/>
              </a:path>
              <a:path fill="lighten" w="22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1" h="21600">
                <a:moveTo>
                  <a:pt x="4289" y="3794"/>
                </a:moveTo>
                <a:lnTo>
                  <a:pt x="18302" y="10800"/>
                </a:lnTo>
                <a:lnTo>
                  <a:pt x="4289" y="17806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5" name="Picture 4" descr="j0189248"/>
          <p:cNvPicPr/>
          <p:nvPr/>
        </p:nvPicPr>
        <p:blipFill>
          <a:blip r:embed="rId1"/>
          <a:stretch/>
        </p:blipFill>
        <p:spPr>
          <a:xfrm>
            <a:off x="380880" y="276120"/>
            <a:ext cx="8153640" cy="6276960"/>
          </a:xfrm>
          <a:prstGeom prst="rect">
            <a:avLst/>
          </a:prstGeom>
          <a:ln w="0">
            <a:noFill/>
          </a:ln>
        </p:spPr>
      </p:pic>
      <p:sp>
        <p:nvSpPr>
          <p:cNvPr id="1806" name="WordArt 15"/>
          <p:cNvSpPr txBox="1"/>
          <p:nvPr/>
        </p:nvSpPr>
        <p:spPr>
          <a:xfrm>
            <a:off x="1219320" y="60948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Малые т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7" name="WordArt 16"/>
          <p:cNvSpPr txBox="1"/>
          <p:nvPr/>
        </p:nvSpPr>
        <p:spPr>
          <a:xfrm>
            <a:off x="457200" y="4952880"/>
            <a:ext cx="213372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Ком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8" name="WordArt 18"/>
          <p:cNvSpPr txBox="1"/>
          <p:nvPr/>
        </p:nvSpPr>
        <p:spPr>
          <a:xfrm>
            <a:off x="5943600" y="4952880"/>
            <a:ext cx="259092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стеро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9" name="WordArt 19"/>
          <p:cNvSpPr txBox="1"/>
          <p:nvPr/>
        </p:nvSpPr>
        <p:spPr>
          <a:xfrm>
            <a:off x="3886200" y="502920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0" name="AutoShape 21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1" name="AutoShape 23">
            <a:hlinkClick r:id="" action="ppaction://hlinkshowjump?jump=nextslide"/>
          </p:cNvPr>
          <p:cNvSpPr/>
          <p:nvPr/>
        </p:nvSpPr>
        <p:spPr>
          <a:xfrm>
            <a:off x="22860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2" name="AutoShape 24"/>
          <p:cNvSpPr/>
          <p:nvPr/>
        </p:nvSpPr>
        <p:spPr>
          <a:xfrm>
            <a:off x="8305920" y="5638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3" name="AutoShape 25"/>
          <p:cNvSpPr/>
          <p:nvPr/>
        </p:nvSpPr>
        <p:spPr>
          <a:xfrm>
            <a:off x="45720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5" name="Picture 9" descr="j0336918"/>
          <p:cNvPicPr/>
          <p:nvPr/>
        </p:nvPicPr>
        <p:blipFill>
          <a:blip r:embed="rId1"/>
          <a:stretch/>
        </p:blipFill>
        <p:spPr>
          <a:xfrm>
            <a:off x="5181480" y="175248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1816" name="AutoShape 4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7" name="WordArt 10"/>
          <p:cNvSpPr txBox="1"/>
          <p:nvPr/>
        </p:nvSpPr>
        <p:spPr>
          <a:xfrm>
            <a:off x="1600200" y="0"/>
            <a:ext cx="6324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ет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80880" y="25909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80880" y="175248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еты – твёрдые тела из камня и льда, затянутые на околосолнечную орбиту с окраин Солнечной системы. Вокруг Солнца они движутся по сильно вытянутым орбитам. Находясь на большом расстоянии от Солнца, кометы выглядят как слабо светящиеся пятнышки овальной формы, но с приближением к Солнцу у них появляются «голова» и «хвост». Хвост кометы состоит из улетучивающихся под действием солнечных лучей газов, частиц пыли и водяных паров. Длина хвоста может достигать десятков миллионов километ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Picture 5" descr="j0219070"/>
          <p:cNvPicPr/>
          <p:nvPr/>
        </p:nvPicPr>
        <p:blipFill>
          <a:blip r:embed="rId1"/>
          <a:stretch/>
        </p:blipFill>
        <p:spPr>
          <a:xfrm>
            <a:off x="0" y="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821" name="WordArt 7"/>
          <p:cNvSpPr txBox="1"/>
          <p:nvPr/>
        </p:nvSpPr>
        <p:spPr>
          <a:xfrm>
            <a:off x="1066680" y="0"/>
            <a:ext cx="698184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г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22" name="Text Box 8"/>
          <p:cNvSpPr/>
          <p:nvPr/>
        </p:nvSpPr>
        <p:spPr>
          <a:xfrm>
            <a:off x="0" y="1600200"/>
            <a:ext cx="914400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Сам тысячеглазый, движется торжественно, словно на база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ШАРАД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анета Солнечной системы моё начало составля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т для фантастов лучшей темы – она их тайной привлек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слог второй под Новый год любовно люди украшаю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в целом, отгадает тот, кто город Франции узн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По небу лебедь чёрный рассыпал чудо-зёр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ёрный белого позвал, белый зёрна поклева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3" name="AutoShape 9"/>
          <p:cNvSpPr/>
          <p:nvPr/>
        </p:nvSpPr>
        <p:spPr>
          <a:xfrm>
            <a:off x="6858000" y="6400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4" name="AutoShape 10"/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WordArt 5"/>
          <p:cNvSpPr txBox="1"/>
          <p:nvPr/>
        </p:nvSpPr>
        <p:spPr>
          <a:xfrm>
            <a:off x="838080" y="-228600"/>
            <a:ext cx="77724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яс астероид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27" name="Picture 10" descr="j0219068"/>
          <p:cNvPicPr/>
          <p:nvPr/>
        </p:nvPicPr>
        <p:blipFill>
          <a:blip r:embed="rId3"/>
          <a:stretch/>
        </p:blipFill>
        <p:spPr>
          <a:xfrm>
            <a:off x="762120" y="1806480"/>
            <a:ext cx="7543800" cy="5051520"/>
          </a:xfrm>
          <a:prstGeom prst="rect">
            <a:avLst/>
          </a:prstGeom>
          <a:ln w="0">
            <a:noFill/>
          </a:ln>
        </p:spPr>
      </p:pic>
      <p:sp>
        <p:nvSpPr>
          <p:cNvPr id="1828" name="Text Box 11"/>
          <p:cNvSpPr/>
          <p:nvPr/>
        </p:nvSpPr>
        <p:spPr>
          <a:xfrm>
            <a:off x="0" y="1981080"/>
            <a:ext cx="91440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яс астероидов расположен между орбитами Марса и Юпитера. Это кольцо шириной в 150 000 км. Известно 15 типов астероидов, например тёмные каменные, светлые каменные, металлическ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сстояние от основного пояса до  Солнц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350-500  млн.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амые известные астероиды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Церера, Паллада, Веста, Юнона, Эрот,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мур, Гидальго, Икар, Герме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лижайший к Земле астероид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ермес (до него 777 000 км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звестно астероидов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более 10 000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иаметр астероидов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1 до 1000 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амый крупный астероид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Церера – 913 км в длин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лижайший к Солнцу астероид: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ка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AutoShape 4"/>
          <p:cNvSpPr/>
          <p:nvPr/>
        </p:nvSpPr>
        <p:spPr>
          <a:xfrm>
            <a:off x="8534520" y="6324480"/>
            <a:ext cx="585720" cy="5860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0" name="WordArt 5"/>
          <p:cNvSpPr txBox="1"/>
          <p:nvPr/>
        </p:nvSpPr>
        <p:spPr>
          <a:xfrm>
            <a:off x="685800" y="-228600"/>
            <a:ext cx="8001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яс астероид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1" name="Picture 6" descr="j0219065"/>
          <p:cNvPicPr/>
          <p:nvPr/>
        </p:nvPicPr>
        <p:blipFill>
          <a:blip r:embed="rId3"/>
          <a:stretch/>
        </p:blipFill>
        <p:spPr>
          <a:xfrm>
            <a:off x="304920" y="1447920"/>
            <a:ext cx="8381880" cy="5029200"/>
          </a:xfrm>
          <a:prstGeom prst="rect">
            <a:avLst/>
          </a:prstGeom>
          <a:ln w="0">
            <a:noFill/>
          </a:ln>
        </p:spPr>
      </p:pic>
      <p:sp>
        <p:nvSpPr>
          <p:cNvPr id="1832" name="Text Box 8"/>
          <p:cNvSpPr/>
          <p:nvPr/>
        </p:nvSpPr>
        <p:spPr>
          <a:xfrm>
            <a:off x="685800" y="2133720"/>
            <a:ext cx="784872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яс астероидов представляет собой множество вращающихся глыб, чаще всего неправильной форм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ие учёные полагают, что астероиды – обломки ещё одной планеты Солнечной системы, погибшей в результате космической катастрофы. Мощное притяжение Юпитера не позволяет обломкам соединиться и снова образовать планету. Если бы астероиды всё же соединились, то получилась бы небольшая планета размером в треть Лу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Picture 12" descr="j0219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4" name="WordArt 16"/>
          <p:cNvSpPr txBox="1"/>
          <p:nvPr/>
        </p:nvSpPr>
        <p:spPr>
          <a:xfrm>
            <a:off x="2743200" y="1371600"/>
            <a:ext cx="3700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ут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5" name="AutoShape 21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AutoShape 22">
            <a:hlinkClick r:id="" action="ppaction://hlinkshowjump?jump=nextslide"/>
          </p:cNvPr>
          <p:cNvSpPr/>
          <p:nvPr/>
        </p:nvSpPr>
        <p:spPr>
          <a:xfrm>
            <a:off x="1752480" y="5867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7" name="WordArt 19"/>
          <p:cNvSpPr txBox="1"/>
          <p:nvPr/>
        </p:nvSpPr>
        <p:spPr>
          <a:xfrm>
            <a:off x="914400" y="5105520"/>
            <a:ext cx="131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8" name="AutoShape 23"/>
          <p:cNvSpPr/>
          <p:nvPr/>
        </p:nvSpPr>
        <p:spPr>
          <a:xfrm>
            <a:off x="3505320" y="5105520"/>
            <a:ext cx="2438280" cy="76176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9116" h="21600">
                <a:moveTo>
                  <a:pt x="0" y="0"/>
                </a:moveTo>
                <a:lnTo>
                  <a:pt x="69116" y="0"/>
                </a:lnTo>
                <a:lnTo>
                  <a:pt x="69116" y="21600"/>
                </a:lnTo>
                <a:lnTo>
                  <a:pt x="0" y="21600"/>
                </a:lnTo>
                <a:close/>
              </a:path>
              <a:path fill="lightenLess" w="69116" h="21600">
                <a:moveTo>
                  <a:pt x="0" y="0"/>
                </a:moveTo>
                <a:lnTo>
                  <a:pt x="69116" y="0"/>
                </a:lnTo>
                <a:lnTo>
                  <a:pt x="67716" y="1400"/>
                </a:lnTo>
                <a:lnTo>
                  <a:pt x="1400" y="1400"/>
                </a:lnTo>
                <a:close/>
              </a:path>
              <a:path fill="darken" w="69116" h="21600">
                <a:moveTo>
                  <a:pt x="69116" y="0"/>
                </a:moveTo>
                <a:lnTo>
                  <a:pt x="69116" y="21600"/>
                </a:lnTo>
                <a:lnTo>
                  <a:pt x="67716" y="20200"/>
                </a:lnTo>
                <a:lnTo>
                  <a:pt x="67716" y="1400"/>
                </a:lnTo>
                <a:close/>
              </a:path>
              <a:path fill="darkenLess" w="69116" h="21600">
                <a:moveTo>
                  <a:pt x="69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16" y="20200"/>
                </a:lnTo>
                <a:close/>
              </a:path>
              <a:path fill="lighten" w="69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9" name="AutoShape 24"/>
          <p:cNvSpPr/>
          <p:nvPr/>
        </p:nvSpPr>
        <p:spPr>
          <a:xfrm>
            <a:off x="5943600" y="58672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WordArt 25"/>
          <p:cNvSpPr txBox="1"/>
          <p:nvPr/>
        </p:nvSpPr>
        <p:spPr>
          <a:xfrm>
            <a:off x="3505320" y="518148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утники Юпите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1" name="AutoShape 26"/>
          <p:cNvSpPr/>
          <p:nvPr/>
        </p:nvSpPr>
        <p:spPr>
          <a:xfrm>
            <a:off x="8077320" y="5715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2" name="WordArt 20"/>
          <p:cNvSpPr txBox="1"/>
          <p:nvPr/>
        </p:nvSpPr>
        <p:spPr>
          <a:xfrm>
            <a:off x="7696080" y="5181480"/>
            <a:ext cx="72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Земли Луна удалена на расстояние около 384 400 к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иус: 1738 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на движется по орбите и вращается вокруг своей оси с одинаковой скоростью – 28,5 суток. Поэтому мы всегда видим только одну  её сторону. Давней мечтой человека было увидеть обратную сторону Луны. В 1959 году советские учёные запустили к Луне автоматическую станцию, которая облетела вокруг неё и сфотографировала обратн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WordArt 6"/>
          <p:cNvSpPr txBox="1"/>
          <p:nvPr/>
        </p:nvSpPr>
        <p:spPr>
          <a:xfrm>
            <a:off x="838080" y="0"/>
            <a:ext cx="7372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Луна - единственный спутник Земли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845" name="Picture 7" descr="j0219080"/>
          <p:cNvPicPr/>
          <p:nvPr/>
        </p:nvPicPr>
        <p:blipFill>
          <a:blip r:embed="rId5"/>
          <a:stretch/>
        </p:blipFill>
        <p:spPr>
          <a:xfrm>
            <a:off x="4800600" y="1600200"/>
            <a:ext cx="4100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WordArt 4"/>
          <p:cNvSpPr txBox="1"/>
          <p:nvPr/>
        </p:nvSpPr>
        <p:spPr>
          <a:xfrm>
            <a:off x="838080" y="0"/>
            <a:ext cx="7372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Луна - единственный спутник Земли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47" name="Text Box 7"/>
          <p:cNvSpPr/>
          <p:nvPr/>
        </p:nvSpPr>
        <p:spPr>
          <a:xfrm>
            <a:off x="609480" y="19810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8" name="Picture 9" descr="j0219084"/>
          <p:cNvPicPr/>
          <p:nvPr/>
        </p:nvPicPr>
        <p:blipFill>
          <a:blip r:embed="rId3"/>
          <a:stretch/>
        </p:blipFill>
        <p:spPr>
          <a:xfrm>
            <a:off x="457200" y="1905120"/>
            <a:ext cx="3873600" cy="3927240"/>
          </a:xfrm>
          <a:prstGeom prst="rect">
            <a:avLst/>
          </a:prstGeom>
          <a:ln w="0">
            <a:noFill/>
          </a:ln>
        </p:spPr>
      </p:pic>
      <p:sp>
        <p:nvSpPr>
          <p:cNvPr id="1849" name="Text Box 10"/>
          <p:cNvSpPr/>
          <p:nvPr/>
        </p:nvSpPr>
        <p:spPr>
          <a:xfrm>
            <a:off x="4800600" y="2362320"/>
            <a:ext cx="39625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уна удерживается на орбите силой тяготения Земли, но каждый год удаляется от нас на 4 сантиметра. Хотя Луна и мала, но сила её тяготения вызывает на Земле океанские приливы и отливы и замедляет скорость вращения Земли на сотую долю секунды за столет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1" name="MOWO4P1V.AVI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852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2533" fill="hold"/>
                                        <p:tgtEl>
                                          <p:spTgt spid="1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851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851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WordArt 4"/>
          <p:cNvSpPr txBox="1"/>
          <p:nvPr/>
        </p:nvSpPr>
        <p:spPr>
          <a:xfrm>
            <a:off x="1828800" y="304920"/>
            <a:ext cx="531504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утники Юпите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4" name="Picture 10" descr="j0219073"/>
          <p:cNvPicPr/>
          <p:nvPr/>
        </p:nvPicPr>
        <p:blipFill>
          <a:blip r:embed="rId1"/>
          <a:stretch/>
        </p:blipFill>
        <p:spPr>
          <a:xfrm>
            <a:off x="0" y="2895480"/>
            <a:ext cx="3679920" cy="3733920"/>
          </a:xfrm>
          <a:prstGeom prst="rect">
            <a:avLst/>
          </a:prstGeom>
          <a:ln w="0">
            <a:noFill/>
          </a:ln>
        </p:spPr>
      </p:pic>
      <p:sp>
        <p:nvSpPr>
          <p:cNvPr id="1855" name="Text Box 12"/>
          <p:cNvSpPr/>
          <p:nvPr/>
        </p:nvSpPr>
        <p:spPr>
          <a:xfrm>
            <a:off x="228600" y="1676520"/>
            <a:ext cx="830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2 спутников Юпитера вращаются вокруг гиганта против часовой стрелки, а те, орбиты которых наиболее удалены от Юпитера, вращаются в противоположном направле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6" name="Text Box 13"/>
          <p:cNvSpPr/>
          <p:nvPr/>
        </p:nvSpPr>
        <p:spPr>
          <a:xfrm>
            <a:off x="3581280" y="2590920"/>
            <a:ext cx="51818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рупнейшие спутники Юпите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АНИМЕД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крупнейший спутник в Солнечной системе, он больше планеты Меркури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диаметр – 5262 км, расстояние от Юпитера – 1070 000 к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ЛЛИСТО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мый тёмный и самый льдистый из спутников (диаметр – 4800км, расстояние от Юпитера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 883 000 к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1" name="Picture 7" descr="j0219062"/>
          <p:cNvPicPr/>
          <p:nvPr/>
        </p:nvPicPr>
        <p:blipFill>
          <a:blip r:embed="rId1"/>
          <a:stretch/>
        </p:blipFill>
        <p:spPr>
          <a:xfrm>
            <a:off x="4343400" y="3124080"/>
            <a:ext cx="4257720" cy="3733920"/>
          </a:xfrm>
          <a:prstGeom prst="rect">
            <a:avLst/>
          </a:prstGeom>
          <a:ln w="0">
            <a:noFill/>
          </a:ln>
        </p:spPr>
      </p:pic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де мы живём? Казалось бы, что может быть легче ответа на этот вопрос? В своём доме, в селе, в стране, на Земном шаре…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А дальш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-360" y="32004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ша планета Земля тоже живёт в своеобразном городе – Солнечной системе, где есть и другие жители – девять больших и малых планет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язанных воедино вращением вокруг источника тепла и света –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WordArt 4"/>
          <p:cNvSpPr txBox="1"/>
          <p:nvPr/>
        </p:nvSpPr>
        <p:spPr>
          <a:xfrm>
            <a:off x="1828800" y="228600"/>
            <a:ext cx="531504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утники Юпите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8" name="Picture 5" descr="j0219073"/>
          <p:cNvPicPr/>
          <p:nvPr/>
        </p:nvPicPr>
        <p:blipFill>
          <a:blip r:embed="rId1"/>
          <a:stretch/>
        </p:blipFill>
        <p:spPr>
          <a:xfrm>
            <a:off x="304920" y="3048120"/>
            <a:ext cx="3757320" cy="3809880"/>
          </a:xfrm>
          <a:prstGeom prst="rect">
            <a:avLst/>
          </a:prstGeom>
          <a:ln w="0">
            <a:noFill/>
          </a:ln>
        </p:spPr>
      </p:pic>
      <p:sp>
        <p:nvSpPr>
          <p:cNvPr id="1859" name="Rectangle 7"/>
          <p:cNvSpPr/>
          <p:nvPr/>
        </p:nvSpPr>
        <p:spPr>
          <a:xfrm>
            <a:off x="4267080" y="3429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О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Юпитер притягивает к себе Ио с такой силой, что вещество внутри спутника разогревается и кипит. Образуется множество вулканов, выбрасывающих во время извержения серу, которая разливается вокруг кратеров красными морями. Вулканы поменьше извергают двуокись серы, которая оседает на поверхности Ио наподобие сне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Rectangle 9"/>
          <p:cNvSpPr/>
          <p:nvPr/>
        </p:nvSpPr>
        <p:spPr>
          <a:xfrm>
            <a:off x="380880" y="129528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ВРОПА –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 всех спутников в Солнечной системе у него самая гладкая поверхность, т.к. она покрыта слоем льда в 100 км толщиной. (диаметр – 3138 км, расстояние от Юпитера – 670 900 к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давно учёные выдвинули гипотезу, что на Европе могут существовать примитивные формы жизни. Возможно, что слой льда создаёт «парниковый эффект», а под ним могут жить одноклеточные водоросли и другие микроорганизм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AutoShape 11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WordArt 4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г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63" name="Picture 5" descr="j0219070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864" name="Text Box 7"/>
          <p:cNvSpPr/>
          <p:nvPr/>
        </p:nvSpPr>
        <p:spPr>
          <a:xfrm>
            <a:off x="609480" y="22860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Text Box 9"/>
          <p:cNvSpPr/>
          <p:nvPr/>
        </p:nvSpPr>
        <p:spPr>
          <a:xfrm>
            <a:off x="838080" y="2209680"/>
            <a:ext cx="7620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. Обгоняя ночь и день, вкруг Земли бежит оле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девая звёзды рогом, в небе выбрал он дорог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ышен стук его копыт, он Вселенной следопы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0. Рогатый, а не бодае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. Кто двенадцать раз в году родится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2. Без огня гори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з крыл лети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з ног бежи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AutoShape 10"/>
          <p:cNvSpPr/>
          <p:nvPr/>
        </p:nvSpPr>
        <p:spPr>
          <a:xfrm>
            <a:off x="6934320" y="63244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AutoShape 12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Picture 5" descr="j0219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9" name="WordArt 4"/>
          <p:cNvSpPr txBox="1"/>
          <p:nvPr/>
        </p:nvSpPr>
        <p:spPr>
          <a:xfrm>
            <a:off x="1219320" y="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latin typeface="Impact"/>
              </a:rPr>
              <a:t>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870" name="Text Box 7"/>
          <p:cNvSpPr/>
          <p:nvPr/>
        </p:nvSpPr>
        <p:spPr>
          <a:xfrm>
            <a:off x="609480" y="1981080"/>
            <a:ext cx="80773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вёзды      2. Луна и звёзды    3. Большая Медведиц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Небо   5. Небо и звёз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Млечный Путь  7. Марсель – Марс + е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8. Звёздная ноч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. Искусственный спутник Земли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0. Месяц      11. Луна       12. Солнц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1" name="AutoShape 8">
            <a:hlinkClick r:id="" action="ppaction://hlinkshowjump?jump=fir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AutoShape 29">
            <a:hlinkClick r:id="rId1" action="ppaction://hlinksldjump"/>
          </p:cNvPr>
          <p:cNvSpPr/>
          <p:nvPr/>
        </p:nvSpPr>
        <p:spPr>
          <a:xfrm>
            <a:off x="81532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50000">
                <a:srgbClr val="000080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5" name="AutoShape 28">
            <a:hlinkClick r:id="rId2" action="ppaction://hlinksldjump"/>
          </p:cNvPr>
          <p:cNvSpPr/>
          <p:nvPr/>
        </p:nvSpPr>
        <p:spPr>
          <a:xfrm>
            <a:off x="2209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50000">
                <a:srgbClr val="000080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6" name="AutoShape 27"/>
          <p:cNvGrpSpPr/>
          <p:nvPr/>
        </p:nvGrpSpPr>
        <p:grpSpPr>
          <a:xfrm>
            <a:off x="2286000" y="689040"/>
            <a:ext cx="457200" cy="304200"/>
            <a:chOff x="2286000" y="689040"/>
            <a:chExt cx="457200" cy="304200"/>
          </a:xfrm>
        </p:grpSpPr>
        <p:pic>
          <p:nvPicPr>
            <p:cNvPr id="1707" name="AutoShape 2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286000" y="691920"/>
              <a:ext cx="457200" cy="30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8" name=""/>
            <p:cNvSpPr/>
            <p:nvPr/>
          </p:nvSpPr>
          <p:spPr>
            <a:xfrm>
              <a:off x="2286000" y="689040"/>
              <a:ext cx="4572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709" name="Picture 4" descr="j0189251"/>
          <p:cNvPicPr/>
          <p:nvPr/>
        </p:nvPicPr>
        <p:blipFill>
          <a:blip r:embed="rId5"/>
          <a:stretch/>
        </p:blipFill>
        <p:spPr>
          <a:xfrm>
            <a:off x="685800" y="914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7" descr="j0283809"/>
          <p:cNvPicPr/>
          <p:nvPr/>
        </p:nvPicPr>
        <p:blipFill>
          <a:blip r:embed="rId6"/>
          <a:stretch/>
        </p:blipFill>
        <p:spPr>
          <a:xfrm>
            <a:off x="6553080" y="1066680"/>
            <a:ext cx="1657440" cy="158616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10" descr="j0309948"/>
          <p:cNvPicPr/>
          <p:nvPr/>
        </p:nvPicPr>
        <p:blipFill>
          <a:blip r:embed="rId7"/>
          <a:stretch/>
        </p:blipFill>
        <p:spPr>
          <a:xfrm>
            <a:off x="304920" y="4114800"/>
            <a:ext cx="2284200" cy="164160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13" descr="j0219080"/>
          <p:cNvPicPr/>
          <p:nvPr/>
        </p:nvPicPr>
        <p:blipFill>
          <a:blip r:embed="rId8"/>
          <a:stretch/>
        </p:blipFill>
        <p:spPr>
          <a:xfrm>
            <a:off x="6705720" y="4114800"/>
            <a:ext cx="1760400" cy="1784520"/>
          </a:xfrm>
          <a:prstGeom prst="rect">
            <a:avLst/>
          </a:prstGeom>
          <a:ln w="0">
            <a:noFill/>
          </a:ln>
        </p:spPr>
      </p:pic>
      <p:sp>
        <p:nvSpPr>
          <p:cNvPr id="1713" name="WordArt 16"/>
          <p:cNvSpPr txBox="1"/>
          <p:nvPr/>
        </p:nvSpPr>
        <p:spPr>
          <a:xfrm>
            <a:off x="2743200" y="2819520"/>
            <a:ext cx="434340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смо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4" name="WordArt 17"/>
          <p:cNvSpPr txBox="1"/>
          <p:nvPr/>
        </p:nvSpPr>
        <p:spPr>
          <a:xfrm>
            <a:off x="838080" y="0"/>
            <a:ext cx="158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5" name="WordArt 19"/>
          <p:cNvSpPr txBox="1"/>
          <p:nvPr/>
        </p:nvSpPr>
        <p:spPr>
          <a:xfrm>
            <a:off x="380880" y="5867280"/>
            <a:ext cx="243864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лые те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6" name="WordArt 20"/>
          <p:cNvSpPr txBox="1"/>
          <p:nvPr/>
        </p:nvSpPr>
        <p:spPr>
          <a:xfrm>
            <a:off x="6629400" y="5867280"/>
            <a:ext cx="1886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7" name="AutoShape 30">
            <a:hlinkClick r:id="rId9" action="ppaction://hlinksldjump"/>
          </p:cNvPr>
          <p:cNvSpPr/>
          <p:nvPr/>
        </p:nvSpPr>
        <p:spPr>
          <a:xfrm>
            <a:off x="8077320" y="838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50000">
                <a:srgbClr val="000080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WordArt 18"/>
          <p:cNvSpPr txBox="1"/>
          <p:nvPr/>
        </p:nvSpPr>
        <p:spPr>
          <a:xfrm>
            <a:off x="6553080" y="304920"/>
            <a:ext cx="1781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9" name="AutoShape 31">
            <a:hlinkClick r:id="" action="ppaction://hlinkshowjump?jump=previousslide"/>
          </p:cNvPr>
          <p:cNvSpPr/>
          <p:nvPr/>
        </p:nvSpPr>
        <p:spPr>
          <a:xfrm>
            <a:off x="4495680" y="5181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Picture 20" descr="j0219085"/>
          <p:cNvPicPr/>
          <p:nvPr/>
        </p:nvPicPr>
        <p:blipFill>
          <a:blip r:embed="rId1"/>
          <a:stretch/>
        </p:blipFill>
        <p:spPr>
          <a:xfrm>
            <a:off x="1752480" y="1676520"/>
            <a:ext cx="5334120" cy="4343400"/>
          </a:xfrm>
          <a:prstGeom prst="rect">
            <a:avLst/>
          </a:prstGeom>
          <a:ln w="0">
            <a:noFill/>
          </a:ln>
        </p:spPr>
      </p:pic>
      <p:sp>
        <p:nvSpPr>
          <p:cNvPr id="1721" name="AutoShape 8">
            <a:hlinkClick r:id="" action="ppaction://hlinkshowjump?jump=nextslide"/>
          </p:cNvPr>
          <p:cNvSpPr/>
          <p:nvPr/>
        </p:nvSpPr>
        <p:spPr>
          <a:xfrm>
            <a:off x="304920" y="19810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2" name="AutoShape 9">
            <a:hlinkClick r:id="rId2" action="ppaction://hlinksldjump"/>
          </p:cNvPr>
          <p:cNvSpPr/>
          <p:nvPr/>
        </p:nvSpPr>
        <p:spPr>
          <a:xfrm>
            <a:off x="304920" y="281952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3" name="AutoShape 10">
            <a:hlinkClick r:id="rId3" action="ppaction://hlinksldjump"/>
          </p:cNvPr>
          <p:cNvSpPr/>
          <p:nvPr/>
        </p:nvSpPr>
        <p:spPr>
          <a:xfrm>
            <a:off x="3809880" y="617220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AutoShape 12">
            <a:hlinkClick r:id="rId4" action="ppaction://hlinksldjump"/>
          </p:cNvPr>
          <p:cNvSpPr/>
          <p:nvPr/>
        </p:nvSpPr>
        <p:spPr>
          <a:xfrm>
            <a:off x="304920" y="373392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AutoShape 13">
            <a:hlinkClick r:id="rId5" action="ppaction://hlinksldjump"/>
          </p:cNvPr>
          <p:cNvSpPr/>
          <p:nvPr/>
        </p:nvSpPr>
        <p:spPr>
          <a:xfrm>
            <a:off x="304920" y="472428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6" name="AutoShape 14">
            <a:hlinkClick r:id="rId6" action="ppaction://hlinksldjump"/>
          </p:cNvPr>
          <p:cNvSpPr/>
          <p:nvPr/>
        </p:nvSpPr>
        <p:spPr>
          <a:xfrm>
            <a:off x="7238880" y="19051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7" name="AutoShape 15">
            <a:hlinkClick r:id="rId7" action="ppaction://hlinksldjump"/>
          </p:cNvPr>
          <p:cNvSpPr/>
          <p:nvPr/>
        </p:nvSpPr>
        <p:spPr>
          <a:xfrm>
            <a:off x="7238880" y="2666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AutoShape 16">
            <a:hlinkClick r:id="rId8" action="ppaction://hlinksldjump"/>
          </p:cNvPr>
          <p:cNvSpPr/>
          <p:nvPr/>
        </p:nvSpPr>
        <p:spPr>
          <a:xfrm>
            <a:off x="7238880" y="3733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AutoShape 17">
            <a:hlinkClick r:id="rId9" action="ppaction://hlinksldjump"/>
          </p:cNvPr>
          <p:cNvSpPr/>
          <p:nvPr/>
        </p:nvSpPr>
        <p:spPr>
          <a:xfrm>
            <a:off x="7238880" y="4724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0" name="AutoShape 19">
            <a:hlinkClick r:id="" action="ppaction://hlinkshowjump?jump=previous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WordArt 23"/>
          <p:cNvSpPr txBox="1"/>
          <p:nvPr/>
        </p:nvSpPr>
        <p:spPr>
          <a:xfrm>
            <a:off x="1600200" y="304920"/>
            <a:ext cx="571500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Times New Roman"/>
              </a:rPr>
              <a:t>план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ркурий – ближайшая  к солнцу плане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асстояние от Солнца: 57,9 млн. к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мпература на поверхности: от - 185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С до + 430˚ С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одолжительность года: 88 земных суток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одолжительность суток: 58,6 земных суток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путников нет.  Наклон оси:0˚0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‘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тмосферы (воздушной оболочки) нет, но редкие атомы газа вблизи меркуриальной поверхности образуют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кзосфер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верхность Меркурия сильно изрыта кратерами и напоминает поверхность Луны. Кратеры- это следы метеоритов, падавших на Меркурий из космоса. Без атмосферы у планеты нет защиты от метеори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4" name="WordArt 7"/>
          <p:cNvSpPr txBox="1"/>
          <p:nvPr/>
        </p:nvSpPr>
        <p:spPr>
          <a:xfrm>
            <a:off x="2057400" y="228600"/>
            <a:ext cx="48769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кур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6" name="Picture 22" descr="j0219074"/>
          <p:cNvPicPr/>
          <p:nvPr/>
        </p:nvPicPr>
        <p:blipFill>
          <a:blip r:embed="rId1"/>
          <a:stretch/>
        </p:blipFill>
        <p:spPr>
          <a:xfrm>
            <a:off x="5235480" y="2286000"/>
            <a:ext cx="39085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7954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ера- вторая по счёту планета от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от Солнца: 108,2 млн. 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етр: 12 104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температура:48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лжительность года: 225 земных су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лжительность суток:117 земных су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утников нет. Наклон оси: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 другие планеты, Венера имеет ядро, мантию и ко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а Венеры создает на планете так называемы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никовый эффект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WordArt 7"/>
          <p:cNvSpPr txBox="1"/>
          <p:nvPr/>
        </p:nvSpPr>
        <p:spPr>
          <a:xfrm>
            <a:off x="2286000" y="228600"/>
            <a:ext cx="46483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н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40" name="AutoShape 8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1" name="Picture 16" descr="j0219075"/>
          <p:cNvPicPr/>
          <p:nvPr/>
        </p:nvPicPr>
        <p:blipFill>
          <a:blip r:embed="rId2"/>
          <a:stretch/>
        </p:blipFill>
        <p:spPr>
          <a:xfrm>
            <a:off x="4618080" y="1676520"/>
            <a:ext cx="4208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емля – единственная планеты в Солнеч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е, на которой существует жиз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нее расстояние от Солнца: 150 млн.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иаметр: 12 756 к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пература на поверхности: от -89˚С до +58˚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олжительность года: 365 суток 6 час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олжительность суток:24 ча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спутников: 1- ЛУ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клон оси: 23˚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оит планета из ядра, мантии и земной коры. Кроме того, у Земли есть атмосфера, Насыщенная кислородом пригодного для дыхания. Атмосфера состоит из 4 слоёв самый близкий слой это экзосфера, далее ионосфера, потом стратосфера и тропосфера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WordArt 7"/>
          <p:cNvSpPr txBox="1"/>
          <p:nvPr/>
        </p:nvSpPr>
        <p:spPr>
          <a:xfrm>
            <a:off x="2133720" y="304920"/>
            <a:ext cx="487656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45" name="AutoShape 10">
            <a:hlinkClick r:id="rId1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6" name="Picture 19" descr="j0219079"/>
          <p:cNvPicPr/>
          <p:nvPr/>
        </p:nvPicPr>
        <p:blipFill>
          <a:blip r:embed="rId2"/>
          <a:stretch/>
        </p:blipFill>
        <p:spPr>
          <a:xfrm>
            <a:off x="4815000" y="1905120"/>
            <a:ext cx="41338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с- четвёртая по счёту план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стояние от Солнца:227,9 млн. к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аметр:6787 к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мпература на поверхности: от -120˚С до +15˚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олжительность года: 687 земных су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олжительность суток: 24часа 37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исло спутников: 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клон оси: 25˚2˚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с имеет атмосферу, но она очень разрежена и для дыхания не пригодна, так как состоит почти из одного углекислого газ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верный и Южный полюсы Марса покрыты льдом и сухим льдом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9" name="WordArt 7"/>
          <p:cNvSpPr txBox="1"/>
          <p:nvPr/>
        </p:nvSpPr>
        <p:spPr>
          <a:xfrm>
            <a:off x="2133720" y="228600"/>
            <a:ext cx="47242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а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0" name="AutoShape 8">
            <a:hlinkClick r:id="rId1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1" name="Picture 12" descr="j0219078"/>
          <p:cNvPicPr/>
          <p:nvPr/>
        </p:nvPicPr>
        <p:blipFill>
          <a:blip r:embed="rId2"/>
          <a:stretch/>
        </p:blipFill>
        <p:spPr>
          <a:xfrm>
            <a:off x="4525920" y="1600200"/>
            <a:ext cx="43578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9T05:00:39Z</dcterms:modified>
  <cp:revision>12</cp:revision>
  <dc:subject/>
  <dc:title>PowerPoint Presentation</dc:title>
</cp:coreProperties>
</file>