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21B-C8E4-4C67-8FED-983D5443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98D-6C97-43C2-8693-145A52FB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D50-F891-4832-AD69-B33F514D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3EE-0CE5-4C39-923A-FF5BB688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62C2-9DD3-4DE4-B13C-3AF74F49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451FF-27A2-4859-8B82-C472E5BA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ABC2D-8BBF-4D89-BE69-C391C89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79B38-3178-4B0C-AA2B-4C14950A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DCDDD-F683-4390-B4EB-C529475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DF3EB-D16D-43AA-A305-B1FA9BF7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8D4B1-48B3-455D-8319-0A6AFA5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80C-B5C5-4B41-B065-16AF6718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E919-C8D5-4E4E-A738-C5963AB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F7ECA-C8AE-4992-9D9A-AA773D6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95A97-8A0D-4846-80E4-74C1D11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CA434-E256-4659-BFC1-8AE0331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76E9-9541-44FE-A263-731C5E7D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0F230-BF11-4241-8FE5-C7AD47CF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8B358-C30D-4068-B3C2-8CB9DA4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3EFE5-0DED-4884-B6BE-4884C57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722D0-0037-4F41-BD49-0DE9223A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52C35-22EA-4866-9231-7E499E1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C2E-DE8C-4A81-88C6-9EC8875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8DBDE-F198-4680-92EF-4036F76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85D71-C6A3-49E0-9915-F831377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2BB94-10E3-48FD-A139-CAFD162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83368-C7BC-4DA2-B567-9BFAB7E4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4665E-24FE-42BC-A1C4-BF7B8D7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E6260-EA70-4A0E-9D47-09C4A378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3B0F6-CB99-4F12-BABD-FFB528C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2D5-6DAC-49E5-B61C-9DDD254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306-62D4-4F94-8380-F2FC4CCE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2CE-CCA7-432A-8673-2D14E331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655-A73C-4AA7-B68A-46BD9EE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8C8-899A-4F8F-90F7-9D9FC6D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62A-571A-4477-826C-21878080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8736-D5AB-48AA-9ED5-82676015732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152-119C-4753-A4EF-8A16C1AD9B1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4539-E45D-4D0B-97B6-BCB17F0CD1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9920" y="285840"/>
            <a:ext cx="53247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Обоснование выбора</a:t>
            </a:r>
            <a:endParaRPr b="0" lang="en-US" sz="48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203640" y="1844640"/>
            <a:ext cx="568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5b6f"/>
                </a:solidFill>
                <a:latin typeface="Century Schoolboo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Чаще всего трудности на письме вызывает  выбор Н или</a:t>
            </a:r>
            <a:r>
              <a:rPr b="1" lang="en-US" sz="2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Н в словах разных частей речи – так считают наши одноклассники, так считаем и мы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d13b"/>
                </a:solidFill>
                <a:latin typeface="Century Schoolbook"/>
              </a:rPr>
              <a:t>«Всезнайки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Правил, регулирующих выбор, существует много… Запомнить их все?  Неплохо бы! Но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Кто этого еще не сделал, может воспользоваться при подготовке к ГИА и ЕГЭ составленным нами </a:t>
            </a: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алгоритм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8" name="Picture 6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142920" y="142920"/>
            <a:ext cx="314784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 rot="20731200">
            <a:off x="357120" y="2999880"/>
            <a:ext cx="1571760" cy="141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 rot="1077600">
            <a:off x="1643040" y="4642920"/>
            <a:ext cx="134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56000" y="189000"/>
            <a:ext cx="4391280" cy="70776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</a:rPr>
              <a:t>Н 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ИЛИ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</a:rPr>
              <a:t> НН</a:t>
            </a:r>
            <a:endParaRPr b="0" lang="en-US" sz="4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214200" y="857160"/>
            <a:ext cx="17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епроизводно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285840" y="1571760"/>
            <a:ext cx="664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2.Оканчивается ли слово на - ованный, - еванный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44" name="Прямая со стрелкой 26"/>
          <p:cNvCxnSpPr/>
          <p:nvPr/>
        </p:nvCxnSpPr>
        <p:spPr>
          <a:xfrm flipH="1">
            <a:off x="1042200" y="1844640"/>
            <a:ext cx="2520" cy="28656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45" name="TextBox 30"/>
          <p:cNvSpPr/>
          <p:nvPr/>
        </p:nvSpPr>
        <p:spPr>
          <a:xfrm>
            <a:off x="785880" y="20718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TextBox 34"/>
          <p:cNvSpPr/>
          <p:nvPr/>
        </p:nvSpPr>
        <p:spPr>
          <a:xfrm>
            <a:off x="3708360" y="213372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TextBox 35"/>
          <p:cNvSpPr/>
          <p:nvPr/>
        </p:nvSpPr>
        <p:spPr>
          <a:xfrm>
            <a:off x="755640" y="57340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TextBox 36"/>
          <p:cNvSpPr/>
          <p:nvPr/>
        </p:nvSpPr>
        <p:spPr>
          <a:xfrm>
            <a:off x="3851280" y="26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179280" y="285264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3.Входит ли в слова -  исключения (стеклянный, оловянный, деревянный; ветреный)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50" name="Прямая со стрелкой 68"/>
          <p:cNvCxnSpPr/>
          <p:nvPr/>
        </p:nvCxnSpPr>
        <p:spPr>
          <a:xfrm>
            <a:off x="2857680" y="4143240"/>
            <a:ext cx="2219760" cy="72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51" name="TextBox 83"/>
          <p:cNvSpPr/>
          <p:nvPr/>
        </p:nvSpPr>
        <p:spPr>
          <a:xfrm>
            <a:off x="5214960" y="392904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Century Schoolbook"/>
              </a:rPr>
              <a:t>причасти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52" name="Прямая со стрелкой 88"/>
          <p:cNvCxnSpPr/>
          <p:nvPr/>
        </p:nvCxnSpPr>
        <p:spPr>
          <a:xfrm flipH="1">
            <a:off x="5292360" y="4581360"/>
            <a:ext cx="216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53" name="Прямая со стрелкой 89"/>
          <p:cNvCxnSpPr/>
          <p:nvPr/>
        </p:nvCxnSpPr>
        <p:spPr>
          <a:xfrm flipH="1">
            <a:off x="356760" y="4292640"/>
            <a:ext cx="472320" cy="3513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54" name="TextBox 93"/>
          <p:cNvSpPr/>
          <p:nvPr/>
        </p:nvSpPr>
        <p:spPr>
          <a:xfrm>
            <a:off x="250920" y="4797360"/>
            <a:ext cx="417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5.Образовано ли от существительног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с   основой на - н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extBox 94"/>
          <p:cNvSpPr/>
          <p:nvPr/>
        </p:nvSpPr>
        <p:spPr>
          <a:xfrm>
            <a:off x="4857840" y="4143240"/>
            <a:ext cx="39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5. Есть ли приставка кроме не или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зависимое слово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extBox 119"/>
          <p:cNvSpPr/>
          <p:nvPr/>
        </p:nvSpPr>
        <p:spPr>
          <a:xfrm>
            <a:off x="324000" y="6021360"/>
            <a:ext cx="38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6.Найти суффикс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extBox 120"/>
          <p:cNvSpPr/>
          <p:nvPr/>
        </p:nvSpPr>
        <p:spPr>
          <a:xfrm>
            <a:off x="4500720" y="5357880"/>
            <a:ext cx="43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6.Определить вид глагола, от которого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образовано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58" name="Прямая со стрелкой 125"/>
          <p:cNvCxnSpPr>
            <a:stCxn id="156" idx="2"/>
          </p:cNvCxnSpPr>
          <p:nvPr/>
        </p:nvCxnSpPr>
        <p:spPr>
          <a:xfrm>
            <a:off x="2252520" y="6325920"/>
            <a:ext cx="519840" cy="19764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159" name="Прямая со стрелкой 126"/>
          <p:cNvCxnSpPr/>
          <p:nvPr/>
        </p:nvCxnSpPr>
        <p:spPr>
          <a:xfrm flipH="1">
            <a:off x="1042200" y="6308640"/>
            <a:ext cx="252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60" name="TextBox 129"/>
          <p:cNvSpPr/>
          <p:nvPr/>
        </p:nvSpPr>
        <p:spPr>
          <a:xfrm>
            <a:off x="214200" y="6491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а</a:t>
            </a: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, -я</a:t>
            </a: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, -и</a:t>
            </a: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TextBox 130"/>
          <p:cNvSpPr/>
          <p:nvPr/>
        </p:nvSpPr>
        <p:spPr>
          <a:xfrm>
            <a:off x="2195640" y="64911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е</a:t>
            </a: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(-о</a:t>
            </a: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TextBox 135"/>
          <p:cNvSpPr/>
          <p:nvPr/>
        </p:nvSpPr>
        <p:spPr>
          <a:xfrm>
            <a:off x="7093080" y="5877000"/>
            <a:ext cx="15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совершенны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TextBox 136"/>
          <p:cNvSpPr/>
          <p:nvPr/>
        </p:nvSpPr>
        <p:spPr>
          <a:xfrm>
            <a:off x="4857840" y="600084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есовершенны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TextBox 138"/>
          <p:cNvSpPr/>
          <p:nvPr/>
        </p:nvSpPr>
        <p:spPr>
          <a:xfrm>
            <a:off x="6443640" y="6278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н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c3300"/>
                </a:solidFill>
                <a:latin typeface="Century Schoolbook"/>
              </a:rPr>
              <a:t>(кроме: раненый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TextBox 140"/>
          <p:cNvSpPr/>
          <p:nvPr/>
        </p:nvSpPr>
        <p:spPr>
          <a:xfrm>
            <a:off x="788508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6" name="Picture 34" descr=""/>
          <p:cNvPicPr/>
          <p:nvPr/>
        </p:nvPicPr>
        <p:blipFill>
          <a:blip r:embed="rId1"/>
          <a:stretch/>
        </p:blipFill>
        <p:spPr>
          <a:xfrm>
            <a:off x="7164360" y="214200"/>
            <a:ext cx="1511280" cy="666720"/>
          </a:xfrm>
          <a:prstGeom prst="rect">
            <a:avLst/>
          </a:prstGeom>
          <a:ln w="0">
            <a:noFill/>
          </a:ln>
        </p:spPr>
      </p:pic>
      <p:cxnSp>
        <p:nvCxnSpPr>
          <p:cNvPr id="167" name="Прямая со стрелкой 5"/>
          <p:cNvCxnSpPr/>
          <p:nvPr/>
        </p:nvCxnSpPr>
        <p:spPr>
          <a:xfrm flipH="1">
            <a:off x="3995280" y="571680"/>
            <a:ext cx="5760" cy="26424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68" name="Прямая со стрелкой 5"/>
          <p:cNvCxnSpPr>
            <a:stCxn id="169" idx="2"/>
          </p:cNvCxnSpPr>
          <p:nvPr/>
        </p:nvCxnSpPr>
        <p:spPr>
          <a:xfrm flipH="1">
            <a:off x="1042200" y="1125360"/>
            <a:ext cx="252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70" name="Прямая со стрелкой 5"/>
          <p:cNvCxnSpPr>
            <a:stCxn id="169" idx="2"/>
          </p:cNvCxnSpPr>
          <p:nvPr/>
        </p:nvCxnSpPr>
        <p:spPr>
          <a:xfrm flipH="1">
            <a:off x="3994920" y="1125360"/>
            <a:ext cx="252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71" name="TextBox 133"/>
          <p:cNvSpPr/>
          <p:nvPr/>
        </p:nvSpPr>
        <p:spPr>
          <a:xfrm>
            <a:off x="900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TextBox 22"/>
          <p:cNvSpPr/>
          <p:nvPr/>
        </p:nvSpPr>
        <p:spPr>
          <a:xfrm>
            <a:off x="3851280" y="1268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73" name="Прямая со стрелкой 5"/>
          <p:cNvCxnSpPr>
            <a:stCxn id="169" idx="2"/>
          </p:cNvCxnSpPr>
          <p:nvPr/>
        </p:nvCxnSpPr>
        <p:spPr>
          <a:xfrm flipH="1">
            <a:off x="3994920" y="191592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74" name="Прямая со стрелкой 5"/>
          <p:cNvCxnSpPr>
            <a:stCxn id="169" idx="2"/>
          </p:cNvCxnSpPr>
          <p:nvPr/>
        </p:nvCxnSpPr>
        <p:spPr>
          <a:xfrm flipH="1">
            <a:off x="1042200" y="314136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75" name="Прямая со стрелкой 5"/>
          <p:cNvCxnSpPr>
            <a:stCxn id="169" idx="2"/>
          </p:cNvCxnSpPr>
          <p:nvPr/>
        </p:nvCxnSpPr>
        <p:spPr>
          <a:xfrm flipH="1">
            <a:off x="3994920" y="242064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76" name="Прямая со стрелкой 5"/>
          <p:cNvCxnSpPr>
            <a:stCxn id="169" idx="2"/>
          </p:cNvCxnSpPr>
          <p:nvPr/>
        </p:nvCxnSpPr>
        <p:spPr>
          <a:xfrm flipH="1">
            <a:off x="1042200" y="242064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77" name="TextBox 70"/>
          <p:cNvSpPr/>
          <p:nvPr/>
        </p:nvSpPr>
        <p:spPr>
          <a:xfrm>
            <a:off x="755640" y="5373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TextBox 71"/>
          <p:cNvSpPr/>
          <p:nvPr/>
        </p:nvSpPr>
        <p:spPr>
          <a:xfrm>
            <a:off x="2857680" y="52862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TextBox 70"/>
          <p:cNvSpPr/>
          <p:nvPr/>
        </p:nvSpPr>
        <p:spPr>
          <a:xfrm>
            <a:off x="755640" y="3213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TextBox 71"/>
          <p:cNvSpPr/>
          <p:nvPr/>
        </p:nvSpPr>
        <p:spPr>
          <a:xfrm>
            <a:off x="3780000" y="32846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81" name="Прямая со стрелкой 5"/>
          <p:cNvCxnSpPr/>
          <p:nvPr/>
        </p:nvCxnSpPr>
        <p:spPr>
          <a:xfrm flipH="1">
            <a:off x="7214400" y="450036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82" name="Прямая со стрелкой 5"/>
          <p:cNvCxnSpPr>
            <a:stCxn id="169" idx="2"/>
          </p:cNvCxnSpPr>
          <p:nvPr/>
        </p:nvCxnSpPr>
        <p:spPr>
          <a:xfrm flipH="1">
            <a:off x="5292360" y="4941720"/>
            <a:ext cx="216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83" name="Прямая со стрелкой 5"/>
          <p:cNvCxnSpPr>
            <a:stCxn id="169" idx="2"/>
          </p:cNvCxnSpPr>
          <p:nvPr/>
        </p:nvCxnSpPr>
        <p:spPr>
          <a:xfrm flipH="1">
            <a:off x="3994920" y="314136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84" name="Прямая со стрелкой 5"/>
          <p:cNvCxnSpPr>
            <a:stCxn id="169" idx="2"/>
          </p:cNvCxnSpPr>
          <p:nvPr/>
        </p:nvCxnSpPr>
        <p:spPr>
          <a:xfrm flipH="1">
            <a:off x="3994920" y="3573360"/>
            <a:ext cx="252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85" name="Прямая со стрелкой 5"/>
          <p:cNvCxnSpPr>
            <a:stCxn id="169" idx="2"/>
          </p:cNvCxnSpPr>
          <p:nvPr/>
        </p:nvCxnSpPr>
        <p:spPr>
          <a:xfrm flipH="1">
            <a:off x="1042200" y="3573360"/>
            <a:ext cx="252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86" name="Text Box 96"/>
          <p:cNvSpPr/>
          <p:nvPr/>
        </p:nvSpPr>
        <p:spPr>
          <a:xfrm>
            <a:off x="385560" y="371304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entury Schoolbook"/>
              </a:rPr>
              <a:t>по словарю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TextBox 36"/>
          <p:cNvSpPr/>
          <p:nvPr/>
        </p:nvSpPr>
        <p:spPr>
          <a:xfrm>
            <a:off x="385128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Text Box 99"/>
          <p:cNvSpPr/>
          <p:nvPr/>
        </p:nvSpPr>
        <p:spPr>
          <a:xfrm>
            <a:off x="358560" y="4000680"/>
            <a:ext cx="26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4. Определить часть реч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TextBox 82"/>
          <p:cNvSpPr/>
          <p:nvPr/>
        </p:nvSpPr>
        <p:spPr>
          <a:xfrm>
            <a:off x="142920" y="45720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Century Schoolbook"/>
              </a:rPr>
              <a:t>прилагательно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TextBox 70"/>
          <p:cNvSpPr/>
          <p:nvPr/>
        </p:nvSpPr>
        <p:spPr>
          <a:xfrm>
            <a:off x="5072040" y="4643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TextBox 35"/>
          <p:cNvSpPr/>
          <p:nvPr/>
        </p:nvSpPr>
        <p:spPr>
          <a:xfrm>
            <a:off x="5076720" y="5084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6929280" y="46432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93" name="Прямая со стрелкой 5"/>
          <p:cNvCxnSpPr>
            <a:stCxn id="169" idx="2"/>
          </p:cNvCxnSpPr>
          <p:nvPr/>
        </p:nvCxnSpPr>
        <p:spPr>
          <a:xfrm flipH="1">
            <a:off x="7596000" y="6165720"/>
            <a:ext cx="216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94" name="Прямая со стрелкой 5"/>
          <p:cNvCxnSpPr/>
          <p:nvPr/>
        </p:nvCxnSpPr>
        <p:spPr>
          <a:xfrm flipH="1">
            <a:off x="5643360" y="6286680"/>
            <a:ext cx="2160" cy="28800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195" name="Прямая со стрелкой 5"/>
          <p:cNvCxnSpPr>
            <a:stCxn id="169" idx="2"/>
          </p:cNvCxnSpPr>
          <p:nvPr/>
        </p:nvCxnSpPr>
        <p:spPr>
          <a:xfrm flipH="1">
            <a:off x="7596000" y="5660640"/>
            <a:ext cx="216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96" name="Прямая со стрелкой 5"/>
          <p:cNvCxnSpPr/>
          <p:nvPr/>
        </p:nvCxnSpPr>
        <p:spPr>
          <a:xfrm flipH="1">
            <a:off x="5643360" y="5857560"/>
            <a:ext cx="216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97" name="Прямая со стрелкой 5"/>
          <p:cNvCxnSpPr>
            <a:stCxn id="169" idx="2"/>
          </p:cNvCxnSpPr>
          <p:nvPr/>
        </p:nvCxnSpPr>
        <p:spPr>
          <a:xfrm flipH="1">
            <a:off x="7164000" y="4941720"/>
            <a:ext cx="2160" cy="2152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98" name="TextBox 36"/>
          <p:cNvSpPr/>
          <p:nvPr/>
        </p:nvSpPr>
        <p:spPr>
          <a:xfrm>
            <a:off x="7020000" y="5084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99" name="Прямая со стрелкой 5"/>
          <p:cNvCxnSpPr/>
          <p:nvPr/>
        </p:nvCxnSpPr>
        <p:spPr>
          <a:xfrm flipH="1">
            <a:off x="3071520" y="5571720"/>
            <a:ext cx="216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200" name="Прямая со стрелкой 5"/>
          <p:cNvCxnSpPr>
            <a:stCxn id="169" idx="2"/>
          </p:cNvCxnSpPr>
          <p:nvPr/>
        </p:nvCxnSpPr>
        <p:spPr>
          <a:xfrm flipH="1">
            <a:off x="1042200" y="566064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201" name="Прямая со стрелкой 5"/>
          <p:cNvCxnSpPr/>
          <p:nvPr/>
        </p:nvCxnSpPr>
        <p:spPr>
          <a:xfrm flipH="1">
            <a:off x="3071520" y="5143320"/>
            <a:ext cx="216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202" name="Прямая со стрелкой 5"/>
          <p:cNvCxnSpPr>
            <a:stCxn id="169" idx="2"/>
          </p:cNvCxnSpPr>
          <p:nvPr/>
        </p:nvCxnSpPr>
        <p:spPr>
          <a:xfrm flipH="1">
            <a:off x="1042200" y="5300280"/>
            <a:ext cx="2520" cy="21492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203" name="TextBox 36"/>
          <p:cNvSpPr/>
          <p:nvPr/>
        </p:nvSpPr>
        <p:spPr>
          <a:xfrm>
            <a:off x="2928960" y="571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826920" y="2492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TextBox 22"/>
          <p:cNvSpPr/>
          <p:nvPr/>
        </p:nvSpPr>
        <p:spPr>
          <a:xfrm>
            <a:off x="4067280" y="1484280"/>
            <a:ext cx="3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06" name="Прямая со стрелкой 5"/>
          <p:cNvCxnSpPr>
            <a:stCxn id="151" idx="3"/>
          </p:cNvCxnSpPr>
          <p:nvPr/>
        </p:nvCxnSpPr>
        <p:spPr>
          <a:xfrm flipV="1">
            <a:off x="6643800" y="4004640"/>
            <a:ext cx="450000" cy="9252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07" name="Прямая со стрелкой 5"/>
          <p:cNvCxnSpPr>
            <a:stCxn id="151" idx="3"/>
          </p:cNvCxnSpPr>
          <p:nvPr/>
        </p:nvCxnSpPr>
        <p:spPr>
          <a:xfrm flipV="1">
            <a:off x="6643800" y="3715920"/>
            <a:ext cx="521280" cy="38160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08" name="Прямая со стрелкой 5"/>
          <p:cNvCxnSpPr>
            <a:stCxn id="169" idx="2"/>
          </p:cNvCxnSpPr>
          <p:nvPr/>
        </p:nvCxnSpPr>
        <p:spPr>
          <a:xfrm>
            <a:off x="7958160" y="3644640"/>
            <a:ext cx="286560" cy="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09" name="Text Box 123"/>
          <p:cNvSpPr/>
          <p:nvPr/>
        </p:nvSpPr>
        <p:spPr>
          <a:xfrm>
            <a:off x="7100640" y="34974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кратко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ext Box 124"/>
          <p:cNvSpPr/>
          <p:nvPr/>
        </p:nvSpPr>
        <p:spPr>
          <a:xfrm>
            <a:off x="7099920" y="3786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полно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11" name="Прямая со стрелкой 5"/>
          <p:cNvCxnSpPr>
            <a:stCxn id="169" idx="2"/>
          </p:cNvCxnSpPr>
          <p:nvPr/>
        </p:nvCxnSpPr>
        <p:spPr>
          <a:xfrm>
            <a:off x="7956360" y="3933360"/>
            <a:ext cx="286200" cy="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169" name="TextBox 36"/>
          <p:cNvSpPr/>
          <p:nvPr/>
        </p:nvSpPr>
        <p:spPr>
          <a:xfrm>
            <a:off x="8317080" y="37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12" name="Прямая со стрелкой 5"/>
          <p:cNvCxnSpPr>
            <a:stCxn id="169" idx="2"/>
          </p:cNvCxnSpPr>
          <p:nvPr/>
        </p:nvCxnSpPr>
        <p:spPr>
          <a:xfrm flipH="1">
            <a:off x="7286040" y="4080960"/>
            <a:ext cx="1175400" cy="1342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13" name="TextBox 140"/>
          <p:cNvSpPr/>
          <p:nvPr/>
        </p:nvSpPr>
        <p:spPr>
          <a:xfrm>
            <a:off x="5076720" y="64911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TextBox 78"/>
          <p:cNvSpPr/>
          <p:nvPr/>
        </p:nvSpPr>
        <p:spPr>
          <a:xfrm>
            <a:off x="3214800" y="85716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произвольно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5" name="Picture 79" descr=""/>
          <p:cNvPicPr/>
          <p:nvPr/>
        </p:nvPicPr>
        <p:blipFill>
          <a:blip r:embed="rId2"/>
          <a:stretch/>
        </p:blipFill>
        <p:spPr>
          <a:xfrm>
            <a:off x="5572080" y="1143000"/>
            <a:ext cx="3057480" cy="1362240"/>
          </a:xfrm>
          <a:prstGeom prst="rect">
            <a:avLst/>
          </a:prstGeom>
          <a:ln w="0">
            <a:noFill/>
          </a:ln>
        </p:spPr>
      </p:pic>
      <p:cxnSp>
        <p:nvCxnSpPr>
          <p:cNvPr id="216" name="Прямая со стрелкой 5"/>
          <p:cNvCxnSpPr/>
          <p:nvPr/>
        </p:nvCxnSpPr>
        <p:spPr>
          <a:xfrm flipH="1">
            <a:off x="1069200" y="571320"/>
            <a:ext cx="2520" cy="28620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217" name="TextBox 99"/>
          <p:cNvSpPr/>
          <p:nvPr/>
        </p:nvSpPr>
        <p:spPr>
          <a:xfrm>
            <a:off x="-285840" y="214200"/>
            <a:ext cx="47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1.Производное слово или непроизводное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468360" y="208080"/>
            <a:ext cx="806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entury Schoolbook"/>
              </a:rPr>
              <a:t>Проверь себя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(Рассуждай по алгоритму в заданной последовательности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62080" y="1128600"/>
            <a:ext cx="8504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туши…ый, тума…ый, гости…ая, румя…ый, подветре…ый, лебеди…ый.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ребря…ый, торжестве…ый, революцио…ый, мороже…ый, корчева…ый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ежаре…ый,  стреля…ый, ране…ый, изране…ый, ряже…ые, утомле…ы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ли..ик, поле..ица, совреме…ик, родстве…ик, дружи..ик, таможе..и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2708280"/>
            <a:ext cx="533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Century Schoolbook"/>
              </a:rPr>
              <a:t>Вы, конечно, догадались, что, если перед нами существительное или наречие, необходимо найти прилагательное / причастие, от которого он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Century Schoolbook"/>
              </a:rPr>
              <a:t>образовались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159640" y="4508640"/>
            <a:ext cx="48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А теперь задание потрудне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680" y="4869000"/>
            <a:ext cx="87332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саже…ый, науче…ый, цивилизова…ый, свяще…ый, штопа…ый, язве..ы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аре…ик, прожже…ый, хвале…ый, злоумышле…ик, груже…ый, смышле…ы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вусмысле..ый, бракова…ый, недоуче…ый, пудре…ица, бесприда…иц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1"/>
          <a:stretch/>
        </p:blipFill>
        <p:spPr>
          <a:xfrm>
            <a:off x="357120" y="2571840"/>
            <a:ext cx="30718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179280" y="404640"/>
            <a:ext cx="8496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етуши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тума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гости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ая, румя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подветр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лебеди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серебря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торжеств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революцио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морож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корчева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пережар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 стреля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ран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изран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ряж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е, утомл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мали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, пол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ца, соврем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, родств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, дружи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, тамож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68360" y="3645000"/>
            <a:ext cx="82072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ысаж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науч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цивилизова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свящ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штопа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язв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вар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, прожж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хвал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злоумышл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к, груж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смышл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двусмысл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бракова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недоуч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ый, пудре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ца,                 бесприда</a:t>
            </a:r>
            <a:r>
              <a:rPr b="0" lang="en-US" sz="18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иц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7812000" y="5734080"/>
            <a:ext cx="898560" cy="682560"/>
          </a:xfrm>
          <a:custGeom>
            <a:avLst/>
            <a:gdLst>
              <a:gd name="textAreaLeft" fmla="*/ 43920 w 898560"/>
              <a:gd name="textAreaRight" fmla="*/ 854640 w 898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8432" h="21600">
                <a:moveTo>
                  <a:pt x="0" y="0"/>
                </a:moveTo>
                <a:lnTo>
                  <a:pt x="28432" y="0"/>
                </a:lnTo>
                <a:lnTo>
                  <a:pt x="28432" y="21600"/>
                </a:lnTo>
                <a:lnTo>
                  <a:pt x="0" y="21600"/>
                </a:lnTo>
                <a:close/>
              </a:path>
              <a:path fill="lightenLess" w="28432" h="21600">
                <a:moveTo>
                  <a:pt x="0" y="0"/>
                </a:moveTo>
                <a:lnTo>
                  <a:pt x="28432" y="0"/>
                </a:lnTo>
                <a:lnTo>
                  <a:pt x="27032" y="1400"/>
                </a:lnTo>
                <a:lnTo>
                  <a:pt x="1400" y="1400"/>
                </a:lnTo>
                <a:close/>
              </a:path>
              <a:path fill="darken" w="28432" h="21600">
                <a:moveTo>
                  <a:pt x="28432" y="0"/>
                </a:moveTo>
                <a:lnTo>
                  <a:pt x="28432" y="21600"/>
                </a:lnTo>
                <a:lnTo>
                  <a:pt x="27032" y="20200"/>
                </a:lnTo>
                <a:lnTo>
                  <a:pt x="27032" y="1400"/>
                </a:lnTo>
                <a:close/>
              </a:path>
              <a:path fill="darkenLess" w="28432" h="21600">
                <a:moveTo>
                  <a:pt x="28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32" y="20200"/>
                </a:lnTo>
                <a:close/>
              </a:path>
              <a:path fill="lighten" w="28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32" h="21600">
                <a:moveTo>
                  <a:pt x="7209" y="10800"/>
                </a:moveTo>
                <a:lnTo>
                  <a:pt x="21222" y="3794"/>
                </a:lnTo>
                <a:lnTo>
                  <a:pt x="21222" y="178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6620040" y="5205240"/>
            <a:ext cx="1055520" cy="2500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"/>
          <p:cNvPicPr/>
          <p:nvPr/>
        </p:nvPicPr>
        <p:blipFill>
          <a:blip r:embed="rId2"/>
          <a:stretch/>
        </p:blipFill>
        <p:spPr>
          <a:xfrm rot="19929000">
            <a:off x="1758960" y="5565240"/>
            <a:ext cx="1409760" cy="84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C:\Documents and Settings\Admin\Рабочий стол\картинка.jpg"/>
          <p:cNvPicPr/>
          <p:nvPr/>
        </p:nvPicPr>
        <p:blipFill>
          <a:blip r:embed="rId3"/>
          <a:stretch/>
        </p:blipFill>
        <p:spPr>
          <a:xfrm>
            <a:off x="642960" y="2214720"/>
            <a:ext cx="289872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C:\Documents and Settings\Admin\Рабочий стол\Colorful notebooks and pen.jpg"/>
          <p:cNvPicPr/>
          <p:nvPr/>
        </p:nvPicPr>
        <p:blipFill>
          <a:blip r:embed="rId4"/>
          <a:stretch/>
        </p:blipFill>
        <p:spPr>
          <a:xfrm>
            <a:off x="6000840" y="2143080"/>
            <a:ext cx="235728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08360" cy="1915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395280" y="2133720"/>
            <a:ext cx="26272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Century Schoolbook"/>
              </a:rPr>
              <a:t>Необходимо запомнить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Дел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Жел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Жем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Нечая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Нежд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Негад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Невид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Неслыханны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Названый (брат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Посаженый (отец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>
            <a:off x="1116000" y="5734080"/>
            <a:ext cx="1009800" cy="1001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3059280" y="189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Усвоили? А теперь важное дополнени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857680" y="357120"/>
            <a:ext cx="5830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н 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и 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нн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entury Schoolbook"/>
              </a:rPr>
              <a:t>в кратких прилагательных,  причастиях  и наречиях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286080" y="128592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Определить часть реч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37" name="Прямая со стрелкой 5"/>
          <p:cNvCxnSpPr/>
          <p:nvPr/>
        </p:nvCxnSpPr>
        <p:spPr>
          <a:xfrm>
            <a:off x="3780000" y="1557000"/>
            <a:ext cx="216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38" name="Прямая со стрелкой 5"/>
          <p:cNvCxnSpPr/>
          <p:nvPr/>
        </p:nvCxnSpPr>
        <p:spPr>
          <a:xfrm>
            <a:off x="5148360" y="1557000"/>
            <a:ext cx="216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39" name="Прямая со стрелкой 5"/>
          <p:cNvCxnSpPr/>
          <p:nvPr/>
        </p:nvCxnSpPr>
        <p:spPr>
          <a:xfrm>
            <a:off x="6587640" y="1557000"/>
            <a:ext cx="252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40" name="Text Box 17"/>
          <p:cNvSpPr/>
          <p:nvPr/>
        </p:nvSpPr>
        <p:spPr>
          <a:xfrm>
            <a:off x="3162960" y="1844640"/>
            <a:ext cx="118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кратко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причасти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41" name="Прямая со стрелкой 5"/>
          <p:cNvCxnSpPr/>
          <p:nvPr/>
        </p:nvCxnSpPr>
        <p:spPr>
          <a:xfrm>
            <a:off x="3780000" y="2349000"/>
            <a:ext cx="216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42" name="Прямая со стрелкой 5"/>
          <p:cNvCxnSpPr/>
          <p:nvPr/>
        </p:nvCxnSpPr>
        <p:spPr>
          <a:xfrm>
            <a:off x="6587640" y="2133360"/>
            <a:ext cx="252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43" name="Прямая со стрелкой 5"/>
          <p:cNvCxnSpPr/>
          <p:nvPr/>
        </p:nvCxnSpPr>
        <p:spPr>
          <a:xfrm>
            <a:off x="5219280" y="2133360"/>
            <a:ext cx="252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44" name="Прямая со стрелкой 5"/>
          <p:cNvCxnSpPr/>
          <p:nvPr/>
        </p:nvCxnSpPr>
        <p:spPr>
          <a:xfrm>
            <a:off x="3924360" y="3499920"/>
            <a:ext cx="216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45" name="Text Box 22"/>
          <p:cNvSpPr/>
          <p:nvPr/>
        </p:nvSpPr>
        <p:spPr>
          <a:xfrm>
            <a:off x="3629520" y="261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4683240" y="18446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наречи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5640120" y="184464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краткое прилагательно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Arc 25"/>
          <p:cNvSpPr/>
          <p:nvPr/>
        </p:nvSpPr>
        <p:spPr>
          <a:xfrm rot="7837200">
            <a:off x="5440680" y="1954800"/>
            <a:ext cx="914400" cy="1017720"/>
          </a:xfrm>
          <a:prstGeom prst="pie">
            <a:avLst/>
          </a:pr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5728680" y="26370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3121560" y="292428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 Сколько букв н в слове, от которого образован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данное слово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51" name="Прямая со стрелкой 5"/>
          <p:cNvCxnSpPr/>
          <p:nvPr/>
        </p:nvCxnSpPr>
        <p:spPr>
          <a:xfrm>
            <a:off x="6948000" y="3284280"/>
            <a:ext cx="252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52" name="Text Box 29"/>
          <p:cNvSpPr/>
          <p:nvPr/>
        </p:nvSpPr>
        <p:spPr>
          <a:xfrm>
            <a:off x="3775320" y="37908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entury Schoolbook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6719400" y="3549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54" name="Прямая со стрелкой 5"/>
          <p:cNvCxnSpPr/>
          <p:nvPr/>
        </p:nvCxnSpPr>
        <p:spPr>
          <a:xfrm>
            <a:off x="3924360" y="4076280"/>
            <a:ext cx="216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55" name="Прямая со стрелкой 5"/>
          <p:cNvCxnSpPr/>
          <p:nvPr/>
        </p:nvCxnSpPr>
        <p:spPr>
          <a:xfrm>
            <a:off x="6948000" y="3933360"/>
            <a:ext cx="252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56" name="Text Box 33"/>
          <p:cNvSpPr/>
          <p:nvPr/>
        </p:nvSpPr>
        <p:spPr>
          <a:xfrm>
            <a:off x="3780000" y="4365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6719400" y="4197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entury Schoolbook"/>
              </a:rPr>
              <a:t>н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3082680" y="4869000"/>
            <a:ext cx="60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Century Schoolbook"/>
              </a:rPr>
              <a:t>И еще: не путай наречия и краткие формы!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259" name="Прямая со стрелкой 5"/>
          <p:cNvCxnSpPr/>
          <p:nvPr/>
        </p:nvCxnSpPr>
        <p:spPr>
          <a:xfrm>
            <a:off x="7308360" y="5229000"/>
            <a:ext cx="252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cxnSp>
        <p:nvCxnSpPr>
          <p:cNvPr id="260" name="Прямая со стрелкой 5"/>
          <p:cNvCxnSpPr/>
          <p:nvPr/>
        </p:nvCxnSpPr>
        <p:spPr>
          <a:xfrm>
            <a:off x="4284720" y="5229000"/>
            <a:ext cx="2160" cy="361080"/>
          </a:xfrm>
          <a:prstGeom prst="straightConnector1">
            <a:avLst/>
          </a:prstGeom>
          <a:ln w="28440">
            <a:solidFill>
              <a:srgbClr val="1ab39f"/>
            </a:solidFill>
            <a:miter/>
            <a:tailEnd len="med" type="arrow" w="med"/>
          </a:ln>
        </p:spPr>
      </p:cxnSp>
      <p:sp>
        <p:nvSpPr>
          <p:cNvPr id="261" name="Text Box 38"/>
          <p:cNvSpPr/>
          <p:nvPr/>
        </p:nvSpPr>
        <p:spPr>
          <a:xfrm>
            <a:off x="3461400" y="5445000"/>
            <a:ext cx="1845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Где? Куда? Когда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Откуда? Почему?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Зачем? И как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entury Schoolbook"/>
              </a:rPr>
              <a:t>(Обстоятельств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6516720" y="5567400"/>
            <a:ext cx="1623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Каково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entury Schoolbook"/>
              </a:rPr>
              <a:t>(Сказуемое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395280" y="2205000"/>
            <a:ext cx="3600360" cy="20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А12.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 В каком варианте ответа правильно указаны все цифры, на месте которых пишется НН?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В силу своего неопределе(1)ого положения Арсений не мог заниматься только музыкой: ему приходилось выполнять еще и хозяйстве(2)ые обяза(3)ости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1) 1, 2         2) 1, 3       </a:t>
            </a: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3) 1, 2, 3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 4) 2, 3</a:t>
            </a:r>
            <a:r>
              <a:rPr b="1" lang="ru-RU" sz="1200" spc="-1" strike="noStrike">
                <a:solidFill>
                  <a:srgbClr val="6699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356000" y="2565360"/>
            <a:ext cx="432144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А12.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 В каком варианте ответа правильно указаны все цифры, на месте которых пишется НН?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Парадный портрет  должен был вызывать у совреме(1)иков и потомков восторже(2)ые  чувства, поэтому  изображе(3)ый на нем человек освобождался от всего будничного.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          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1) 1, 2           2) 1, 3       </a:t>
            </a: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3) 1, 2, 3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 4) 2, 3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214880" y="500040"/>
            <a:ext cx="446544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А12.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В каком варианте ответа правильно указаны все цифры, на месте которых пишется Н?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На переднем плане картины на фоне фигур ряже(1)ых с маза(2)ыми сажей лицами ярко выделяется девушка в белоснежном платье с плете(3)ой корзиной в руках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             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1) 1           2) 2, 3         </a:t>
            </a: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3) 1, 3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          4) 1, 2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179280" y="64008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Желаем успешно сдать экзамены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324000" y="4292640"/>
            <a:ext cx="4248000" cy="20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А12.</a:t>
            </a: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В каком варианте ответа правильно указаны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все цифры, на месте которых пишется одна буква Н?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Хрупкий точе(1)ый силуэт изображенной на картине девушки особе(2)о выделяется на фоне беле(3)ой стены, по которой бегут перламутровые тени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ru-RU" sz="1200" spc="-1" strike="noStrike">
                <a:solidFill>
                  <a:srgbClr val="669900"/>
                </a:solidFill>
                <a:latin typeface="Century Schoolbook"/>
              </a:rPr>
              <a:t>1) 1         2) 2, 3       3) 3        </a:t>
            </a:r>
            <a:r>
              <a:rPr b="1" lang="ru-RU" sz="1200" spc="-1" strike="noStrike">
                <a:solidFill>
                  <a:srgbClr val="cc3300"/>
                </a:solidFill>
                <a:latin typeface="Century Schoolbook"/>
              </a:rPr>
              <a:t>4) 1, 3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Picture 10" descr=""/>
          <p:cNvPicPr/>
          <p:nvPr/>
        </p:nvPicPr>
        <p:blipFill>
          <a:blip r:embed="rId1"/>
          <a:stretch/>
        </p:blipFill>
        <p:spPr>
          <a:xfrm>
            <a:off x="5364000" y="4581360"/>
            <a:ext cx="1511640" cy="1705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7164360" y="4581360"/>
            <a:ext cx="1511280" cy="1710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3"/>
          <a:stretch/>
        </p:blipFill>
        <p:spPr>
          <a:xfrm>
            <a:off x="1571760" y="928800"/>
            <a:ext cx="1296720" cy="765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4"/>
          <a:stretch/>
        </p:blipFill>
        <p:spPr>
          <a:xfrm>
            <a:off x="357120" y="214200"/>
            <a:ext cx="3286080" cy="182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5"/>
          <a:stretch/>
        </p:blipFill>
        <p:spPr>
          <a:xfrm>
            <a:off x="4929120" y="4357800"/>
            <a:ext cx="37861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2484360" y="476280"/>
            <a:ext cx="61182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d13b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7fd13b"/>
                </a:solidFill>
                <a:latin typeface="Century Schoolbook"/>
              </a:rPr>
              <a:t>Большой толковый словар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ГОРИТМ,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а;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Мат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довательность проведения вычислительных операций дл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ения искомого результата, искомой величины.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А. извлечения корня из числа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//</a:t>
            </a:r>
            <a:br>
              <a:rPr sz="1800"/>
            </a:br>
            <a:r>
              <a:rPr b="0" lang="ru-RU" sz="1800" spc="-1" strike="noStrike">
                <a:solidFill>
                  <a:srgbClr val="ea157a"/>
                </a:solidFill>
                <a:latin typeface="Century Schoolbook"/>
              </a:rPr>
              <a:t>Последовательность действий для выполнения какой-л. задачи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А. лечения сердечных заболевани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рядок действий, правила, используемые в процессе какой-л. деятельности.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Мой жизненный а. весьма прост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&lt; Алгоритмический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ая, -ое.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А-ое описание процессов. А. язык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&gt;энц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 имени узбекского математика 9 в. аль-Хорезм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[в лат. транслитерации - Algorithmi]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217656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214200" y="2786040"/>
            <a:ext cx="2143080" cy="184788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8">
            <a:hlinkClick r:id="" action="ppaction://hlinkshowjump?jump=firstslide"/>
          </p:cNvPr>
          <p:cNvSpPr/>
          <p:nvPr/>
        </p:nvSpPr>
        <p:spPr>
          <a:xfrm>
            <a:off x="8101080" y="5661000"/>
            <a:ext cx="825480" cy="86364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63640"/>
              <a:gd name="textAreaBottom" fmla="*/ 810360 h 863640"/>
            </a:gdLst>
            <a:ahLst/>
            <a:rect l="textAreaLeft" t="textAreaTop" r="textAreaRight" b="textAreaBottom"/>
            <a:pathLst>
              <a:path w="21600" h="22598">
                <a:moveTo>
                  <a:pt x="0" y="0"/>
                </a:moveTo>
                <a:lnTo>
                  <a:pt x="21600" y="0"/>
                </a:lnTo>
                <a:lnTo>
                  <a:pt x="21600" y="22598"/>
                </a:lnTo>
                <a:lnTo>
                  <a:pt x="0" y="22598"/>
                </a:lnTo>
                <a:close/>
              </a:path>
              <a:path fill="lightenLess" w="21600" h="225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98">
                <a:moveTo>
                  <a:pt x="21600" y="0"/>
                </a:moveTo>
                <a:lnTo>
                  <a:pt x="21600" y="22598"/>
                </a:lnTo>
                <a:lnTo>
                  <a:pt x="20200" y="21198"/>
                </a:lnTo>
                <a:lnTo>
                  <a:pt x="20200" y="1400"/>
                </a:lnTo>
                <a:close/>
              </a:path>
              <a:path fill="darkenLess" w="21600" h="22598">
                <a:moveTo>
                  <a:pt x="21600" y="22598"/>
                </a:moveTo>
                <a:lnTo>
                  <a:pt x="0" y="22598"/>
                </a:lnTo>
                <a:lnTo>
                  <a:pt x="1400" y="21198"/>
                </a:lnTo>
                <a:lnTo>
                  <a:pt x="20200" y="21198"/>
                </a:lnTo>
                <a:close/>
              </a:path>
              <a:path fill="lighten" w="21600" h="22598">
                <a:moveTo>
                  <a:pt x="0" y="225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98"/>
                </a:lnTo>
                <a:close/>
              </a:path>
              <a:path fill="darken" w="21600" h="22598">
                <a:moveTo>
                  <a:pt x="3794" y="11299"/>
                </a:moveTo>
                <a:lnTo>
                  <a:pt x="17806" y="4293"/>
                </a:lnTo>
                <a:lnTo>
                  <a:pt x="17806" y="18306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0:22:01Z</dcterms:created>
  <dc:creator>юля</dc:creator>
  <dc:description/>
  <dc:language>en-US</dc:language>
  <cp:lastModifiedBy>User</cp:lastModifiedBy>
  <dcterms:modified xsi:type="dcterms:W3CDTF">2011-03-22T20:55:47Z</dcterms:modified>
  <cp:revision>47</cp:revision>
  <dc:subject/>
  <dc:title>Н или НН?</dc:title>
</cp:coreProperties>
</file>