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0504-260E-4C45-ACA3-437C8E64BC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8E9D-5CC6-4CF4-B1CC-8AF2EA827E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EEFE16-BACB-4BEA-8680-DF5814732F5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44A-E76C-4CCF-B381-6CBF1869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777-2908-48FE-B434-D1983D86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016-5429-4D55-B11F-20688554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AEF-2779-46C1-99F6-2473E92B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96B-7A48-4997-AC65-800F8935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FD2-F794-48B4-94C7-FA06C815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4AD-9E98-4E23-938D-85AD2683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D7A-39AB-44B4-AA43-97B5D605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D01-15E6-441F-9AFF-906AB7B3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BFC-62CB-47F7-AA12-E6B4BDF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0A8-B193-4882-997A-D82A9F49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FCD-31AB-4191-971C-A11BD42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1BD1-D990-4B1F-AF22-FBF10157B8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standart.edu.ru/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2143080"/>
            <a:ext cx="8577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РФ от 5 марта 2004 г. N 1089 «Об утверждении федерального компонента государственных образовательных стандартов начального общего, основного общего и среднего (полного) общего образования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осударственные образовательные стандарты общего образования (стандарты I поколения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6215040" y="142920"/>
            <a:ext cx="27147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107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Требования к результатам </a:t>
            </a:r>
            <a:br>
              <a:rPr sz="40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освоения основных образовательных про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6000" y="278100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чност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ценностные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тапредмет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компетентностные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ны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CCF-F3DD-4F73-AF66-D7CFC9883C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44" descr="j0301254"/>
          <p:cNvPicPr/>
          <p:nvPr/>
        </p:nvPicPr>
        <p:blipFill>
          <a:blip r:embed="rId2"/>
          <a:stretch/>
        </p:blipFill>
        <p:spPr>
          <a:xfrm>
            <a:off x="428760" y="3571920"/>
            <a:ext cx="18428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еализация компетентностного подхода средствами предмета биолог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формировать предметную компетентнос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вязанную с открытием учащимися значений биологических терминов: ткань, орган, система органов, организм, многоклеточный организ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создать условия для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звития  общепредметных компетенци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владение логическими операциями посредством анализа взаимосвязей между особенностями строения клеток, тканей, органов, систем органов и их функция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8800" y="620280"/>
            <a:ext cx="80359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Универсальные учебные действия (УУ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57120" y="2205000"/>
            <a:ext cx="8391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лавная составляющая любого ум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вокупность способов, приемов, используемых обучаемы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езависимость от предметного содерж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УУД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ичностные, регулятивные, познавательные, 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14ED-02B5-46C9-BC90-FE5A405E40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Характеристика примерной программы по би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71360" y="1916280"/>
            <a:ext cx="7893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Программа включает 4 раздела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яснительная записка( цели и задачи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новное содержание курс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вариан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6CAD-9D3B-4B9C-A4AD-F3397203BA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42560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Характеристика примерной программы по биологии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13920" y="2143080"/>
            <a:ext cx="75344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Включает следующие содержательные линии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ногообразие и эволюция органического ми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ологическая природа и социальная сущность челове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ровневая организация живой прир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6ED9-7E36-45B1-967B-A1D1B8A5AF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859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Характеристика примерной программы по биологии</a:t>
            </a: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42640" y="1916280"/>
            <a:ext cx="7605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одержание примерной программы структурировано в виде трех разделов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ивые организ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ловек и его здоровь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щие биологические закономер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B03F-766E-42F1-A080-2320CEDDD3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446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Особенности примерной программы по биолог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916280"/>
            <a:ext cx="83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хран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радиция изложения учебного материала на уровне учебных програм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вед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характеристика основных видов деятельности учащихся, нацеливающая на формирование умений использовать знания в практической деятельности, в новых нестандартных 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863E-B793-4700-B06A-52EAA9E23A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520" y="475920"/>
            <a:ext cx="81788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Характеристика основных видов деятельности уча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915920"/>
            <a:ext cx="7750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ме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ъяснять, сравнивать, анализир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делять существенные призна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блюдать, описывать, классифицир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водить эксперимент, выдвигать гипоте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лать выводы и умозаклю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водить доказательства, оценивать и аргументировать свою точку зр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5832-938E-450B-992E-319A28C895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равнение  курса биологии первого и второго поко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28760" y="1857240"/>
          <a:ext cx="8229600" cy="4399200"/>
        </p:xfrm>
        <a:graphic>
          <a:graphicData uri="http://schemas.openxmlformats.org/drawingml/2006/table">
            <a:tbl>
              <a:tblPr/>
              <a:tblGrid>
                <a:gridCol w="785520"/>
                <a:gridCol w="2506680"/>
                <a:gridCol w="1644840"/>
                <a:gridCol w="1646280"/>
                <a:gridCol w="16462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 по первому покол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 для второго поко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ветств.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ые 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(70)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овек и его здоров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е биологические закономер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Заголовок 3"/>
          <p:cNvGrpSpPr/>
          <p:nvPr/>
        </p:nvGrpSpPr>
        <p:grpSpPr>
          <a:xfrm>
            <a:off x="219240" y="36360"/>
            <a:ext cx="8705520" cy="1621080"/>
            <a:chOff x="219240" y="36360"/>
            <a:chExt cx="8705520" cy="1621080"/>
          </a:xfrm>
        </p:grpSpPr>
        <p:pic>
          <p:nvPicPr>
            <p:cNvPr id="170" name="Заголовок 3" descr=""/>
            <p:cNvPicPr/>
            <p:nvPr/>
          </p:nvPicPr>
          <p:blipFill>
            <a:blip r:embed="rId2"/>
            <a:stretch/>
          </p:blipFill>
          <p:spPr>
            <a:xfrm>
              <a:off x="219240" y="36360"/>
              <a:ext cx="87055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libri"/>
                </a:rPr>
                <a:t>Сравнение тем  программы по биологии стандарта первого поколения  и </a:t>
              </a:r>
              <a:r>
                <a:rPr b="1" lang="de-DE" sz="2900" spc="-1" strike="noStrike">
                  <a:solidFill>
                    <a:srgbClr val="000000"/>
                  </a:solidFill>
                  <a:latin typeface="Calibri"/>
                </a:rPr>
                <a:t>II </a:t>
              </a:r>
              <a:r>
                <a:rPr b="1" lang="ru-RU" sz="2900" spc="-1" strike="noStrike">
                  <a:solidFill>
                    <a:srgbClr val="000000"/>
                  </a:solidFill>
                  <a:latin typeface="Calibri"/>
                </a:rPr>
                <a:t>варианта стандарта второго поколен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642960" y="1571760"/>
          <a:ext cx="8143920" cy="5052960"/>
        </p:xfrm>
        <a:graphic>
          <a:graphicData uri="http://schemas.openxmlformats.org/drawingml/2006/table">
            <a:tbl>
              <a:tblPr/>
              <a:tblGrid>
                <a:gridCol w="677880"/>
                <a:gridCol w="2828880"/>
                <a:gridCol w="1554120"/>
                <a:gridCol w="1697040"/>
                <a:gridCol w="1386000"/>
              </a:tblGrid>
              <a:tr h="153036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 для 1-го поко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 для 2-го поко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какого класса соотв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7468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точное строение организм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7324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терии. Гриб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шайники. Вир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74680"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(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83160" rIns="831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520" y="274680"/>
            <a:ext cx="8148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Государственный стандарт общего образования включает три компонента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34960" y="2071800"/>
            <a:ext cx="7499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едеральный компонен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гиональный (национально-региональный) компонен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мпонент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072200" y="4000680"/>
            <a:ext cx="1744920" cy="269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214960" y="4071960"/>
            <a:ext cx="1762200" cy="2643120"/>
          </a:xfrm>
          <a:prstGeom prst="rect">
            <a:avLst/>
          </a:prstGeom>
          <a:ln w="0">
            <a:noFill/>
          </a:ln>
        </p:spPr>
      </p:pic>
      <p:sp>
        <p:nvSpPr>
          <p:cNvPr id="54" name="Облако 5"/>
          <p:cNvSpPr/>
          <p:nvPr/>
        </p:nvSpPr>
        <p:spPr>
          <a:xfrm>
            <a:off x="2571840" y="4357800"/>
            <a:ext cx="2428920" cy="1000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1" descr="j0343313"/>
          <p:cNvPicPr/>
          <p:nvPr/>
        </p:nvPicPr>
        <p:blipFill>
          <a:blip r:embed="rId4"/>
          <a:stretch/>
        </p:blipFill>
        <p:spPr>
          <a:xfrm>
            <a:off x="500040" y="4714920"/>
            <a:ext cx="1827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2" descr=""/>
          <p:cNvPicPr/>
          <p:nvPr/>
        </p:nvPicPr>
        <p:blipFill>
          <a:blip r:embed="rId2"/>
          <a:stretch/>
        </p:blipFill>
        <p:spPr>
          <a:xfrm>
            <a:off x="212760" y="500040"/>
            <a:ext cx="8791560" cy="62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397160"/>
          <a:ext cx="6096240" cy="1482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76" name="Таблица 4" descr=""/>
          <p:cNvPicPr/>
          <p:nvPr/>
        </p:nvPicPr>
        <p:blipFill>
          <a:blip r:embed="rId2"/>
          <a:stretch/>
        </p:blipFill>
        <p:spPr>
          <a:xfrm>
            <a:off x="353880" y="139680"/>
            <a:ext cx="8650440" cy="64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одержимое 3" descr=""/>
          <p:cNvPicPr/>
          <p:nvPr/>
        </p:nvPicPr>
        <p:blipFill>
          <a:blip r:embed="rId2"/>
          <a:stretch/>
        </p:blipFill>
        <p:spPr>
          <a:xfrm>
            <a:off x="212760" y="66600"/>
            <a:ext cx="900432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Заголовок 1"/>
          <p:cNvGrpSpPr/>
          <p:nvPr/>
        </p:nvGrpSpPr>
        <p:grpSpPr>
          <a:xfrm>
            <a:off x="835200" y="36360"/>
            <a:ext cx="8089560" cy="1341720"/>
            <a:chOff x="835200" y="36360"/>
            <a:chExt cx="8089560" cy="1341720"/>
          </a:xfrm>
        </p:grpSpPr>
        <p:pic>
          <p:nvPicPr>
            <p:cNvPr id="17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835200" y="36360"/>
              <a:ext cx="808956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071720" y="274680"/>
              <a:ext cx="761508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alibri"/>
                </a:rPr>
                <a:t>Общие биологические закономерност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Содержимое 3" descr=""/>
          <p:cNvPicPr/>
          <p:nvPr/>
        </p:nvPicPr>
        <p:blipFill>
          <a:blip r:embed="rId3"/>
          <a:stretch/>
        </p:blipFill>
        <p:spPr>
          <a:xfrm>
            <a:off x="212760" y="1285920"/>
            <a:ext cx="84312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1371600" y="16002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0240" bIns="30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AutoShape 4"/>
          <p:cNvGrpSpPr/>
          <p:nvPr/>
        </p:nvGrpSpPr>
        <p:grpSpPr>
          <a:xfrm>
            <a:off x="1463760" y="2120760"/>
            <a:ext cx="7442280" cy="1324080"/>
            <a:chOff x="1463760" y="2120760"/>
            <a:chExt cx="7442280" cy="1324080"/>
          </a:xfrm>
        </p:grpSpPr>
        <p:pic>
          <p:nvPicPr>
            <p:cNvPr id="184" name="AutoShape 4" descr=""/>
            <p:cNvPicPr/>
            <p:nvPr/>
          </p:nvPicPr>
          <p:blipFill>
            <a:blip r:embed="rId2"/>
            <a:stretch/>
          </p:blipFill>
          <p:spPr>
            <a:xfrm>
              <a:off x="1463760" y="2120760"/>
              <a:ext cx="74422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476360" y="2133720"/>
              <a:ext cx="741672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  <a:ea typeface="Arial"/>
                </a:rPr>
                <a:t>Примерная основная образователь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  <a:ea typeface="Arial"/>
                </a:rPr>
                <a:t>программа образовательного учреждения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Arial"/>
                  <a:ea typeface="Arial"/>
                </a:rPr>
                <a:t>Основная шко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AutoShape 6" descr=""/>
          <p:cNvPicPr/>
          <p:nvPr/>
        </p:nvPicPr>
        <p:blipFill>
          <a:blip r:embed="rId3"/>
          <a:stretch/>
        </p:blipFill>
        <p:spPr>
          <a:xfrm>
            <a:off x="1316160" y="42840"/>
            <a:ext cx="7589880" cy="1670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3"/>
          <p:cNvSpPr/>
          <p:nvPr/>
        </p:nvSpPr>
        <p:spPr>
          <a:xfrm>
            <a:off x="1619280" y="4005360"/>
            <a:ext cx="7273800" cy="863640"/>
          </a:xfrm>
          <a:prstGeom prst="foldedCorner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Примерная программа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о биологии. 5-9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108000" y="6021360"/>
            <a:ext cx="8785080" cy="503280"/>
          </a:xfrm>
          <a:prstGeom prst="foldedCorner">
            <a:avLst>
              <a:gd name="adj" fmla="val 12500"/>
            </a:avLst>
          </a:prstGeom>
          <a:solidFill>
            <a:srgbClr val="d5d5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003e"/>
                </a:solidFill>
                <a:latin typeface="Arial"/>
              </a:rPr>
              <a:t>Учебно-методический комплекс по биологии. 5-9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179280" y="5300640"/>
            <a:ext cx="8713800" cy="432000"/>
          </a:xfrm>
          <a:prstGeom prst="foldedCorner">
            <a:avLst>
              <a:gd name="adj" fmla="val 12500"/>
            </a:avLst>
          </a:prstGeom>
          <a:solidFill>
            <a:srgbClr val="fbcb85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Рабочая программа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о биологии. 5-9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низ 16"/>
          <p:cNvSpPr/>
          <p:nvPr/>
        </p:nvSpPr>
        <p:spPr>
          <a:xfrm>
            <a:off x="5076720" y="1700280"/>
            <a:ext cx="432000" cy="4334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4"/>
          <a:stretch/>
        </p:blipFill>
        <p:spPr>
          <a:xfrm>
            <a:off x="108000" y="115920"/>
            <a:ext cx="1023840" cy="1584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92" name="Picture 2" descr=""/>
          <p:cNvPicPr/>
          <p:nvPr/>
        </p:nvPicPr>
        <p:blipFill>
          <a:blip r:embed="rId5"/>
          <a:stretch/>
        </p:blipFill>
        <p:spPr>
          <a:xfrm>
            <a:off x="324000" y="1876320"/>
            <a:ext cx="1008000" cy="15526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93" name="Picture 2" descr=""/>
          <p:cNvPicPr/>
          <p:nvPr/>
        </p:nvPicPr>
        <p:blipFill>
          <a:blip r:embed="rId6"/>
          <a:stretch/>
        </p:blipFill>
        <p:spPr>
          <a:xfrm>
            <a:off x="539640" y="3657600"/>
            <a:ext cx="936720" cy="14270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94" name="Стрелка вниз 26"/>
          <p:cNvSpPr/>
          <p:nvPr/>
        </p:nvSpPr>
        <p:spPr>
          <a:xfrm>
            <a:off x="5076720" y="3429000"/>
            <a:ext cx="432000" cy="576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низ 28"/>
          <p:cNvSpPr/>
          <p:nvPr/>
        </p:nvSpPr>
        <p:spPr>
          <a:xfrm>
            <a:off x="5076720" y="4869000"/>
            <a:ext cx="43200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29"/>
          <p:cNvSpPr/>
          <p:nvPr/>
        </p:nvSpPr>
        <p:spPr>
          <a:xfrm>
            <a:off x="5076720" y="5732640"/>
            <a:ext cx="43200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5F6C-12A9-4173-9C94-A7CE3145FD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434960" y="2071800"/>
            <a:ext cx="749952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ЗА ВНИМАНИЕ!!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55640" y="2214360"/>
            <a:ext cx="8180280" cy="32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твержден и введен в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1 января 2010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каз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инобрнауки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6 октября 2009 года № 37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9760" y="456840"/>
            <a:ext cx="7186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Федеральный государственный образовательный стандарт начального общего образования(ФГО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C:\Users\Ваня\Desktop\Risunok11.jpg"/>
          <p:cNvPicPr/>
          <p:nvPr/>
        </p:nvPicPr>
        <p:blipFill>
          <a:blip r:embed="rId2"/>
          <a:stretch/>
        </p:blipFill>
        <p:spPr>
          <a:xfrm>
            <a:off x="0" y="0"/>
            <a:ext cx="192888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282320"/>
            <a:ext cx="8072640" cy="40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оритетная цель современного российского образования  -  полноценное формирование и развитие способностей ученика самостоятельно очерчивать учебную проблему, формулировать алгоритм ее решения, контролировать процесс и оценивать полученный результат </a:t>
            </a:r>
            <a:r>
              <a:rPr b="0" lang="en-US" sz="2800" spc="-1" strike="noStrike">
                <a:solidFill>
                  <a:srgbClr val="11488b"/>
                </a:solidFill>
                <a:latin typeface="Calibri"/>
              </a:rPr>
              <a:t>–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научить учитьс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Graphic1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stand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68960" y="0"/>
            <a:ext cx="297504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«Школьное образование сегодня представляет собой самый длительный этап обучения каждого человека и является одним из решающих факторов, как индивидуального успеха, так и долгосрочного развития всей стра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5929200" y="142920"/>
            <a:ext cx="3024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99760" y="219240"/>
            <a:ext cx="764388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88b"/>
                </a:solidFill>
                <a:latin typeface="Calibri"/>
              </a:rPr>
              <a:t>Ключевые особенности  ФГ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284120" y="1955880"/>
            <a:ext cx="3410280" cy="44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ндарты перв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коления 200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были ориентир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на решение  осно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задачи - сохра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единого образов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пространства стра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обеспечение доступ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образования в преде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миним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достаточ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0dff"/>
                </a:solidFill>
                <a:latin typeface="Arial"/>
              </a:rPr>
              <a:t>уровня его содержания</a:t>
            </a: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5364000" y="1916280"/>
            <a:ext cx="3168720" cy="44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ГОС –</a:t>
            </a:r>
            <a:r>
              <a:rPr b="1" lang="en-US" sz="2000" spc="-1" strike="noStrike">
                <a:solidFill>
                  <a:srgbClr val="0d0d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звивающ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прогнос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нстру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одер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истемы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Знач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расшир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фер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и на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бразова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андарта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124000" y="69228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443640" y="7650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Блок-схема: процесс 21"/>
          <p:cNvSpPr/>
          <p:nvPr/>
        </p:nvSpPr>
        <p:spPr>
          <a:xfrm>
            <a:off x="5457960" y="1293840"/>
            <a:ext cx="3671640" cy="5545080"/>
          </a:xfrm>
          <a:prstGeom prst="flowChartProcess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роцесс 19"/>
          <p:cNvSpPr/>
          <p:nvPr/>
        </p:nvSpPr>
        <p:spPr>
          <a:xfrm>
            <a:off x="108000" y="1197000"/>
            <a:ext cx="3672000" cy="5545080"/>
          </a:xfrm>
          <a:prstGeom prst="flowChartProcess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TextBox 10"/>
          <p:cNvGrpSpPr/>
          <p:nvPr/>
        </p:nvGrpSpPr>
        <p:grpSpPr>
          <a:xfrm>
            <a:off x="2567160" y="1249200"/>
            <a:ext cx="1193760" cy="487440"/>
            <a:chOff x="2567160" y="1249200"/>
            <a:chExt cx="1193760" cy="487440"/>
          </a:xfrm>
        </p:grpSpPr>
        <p:pic>
          <p:nvPicPr>
            <p:cNvPr id="73" name="TextBox 10" descr=""/>
            <p:cNvPicPr/>
            <p:nvPr/>
          </p:nvPicPr>
          <p:blipFill>
            <a:blip r:embed="rId2"/>
            <a:stretch/>
          </p:blipFill>
          <p:spPr>
            <a:xfrm>
              <a:off x="2567160" y="1249200"/>
              <a:ext cx="1193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2646360" y="13050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TextBox 11"/>
          <p:cNvGrpSpPr/>
          <p:nvPr/>
        </p:nvGrpSpPr>
        <p:grpSpPr>
          <a:xfrm>
            <a:off x="3852720" y="1255680"/>
            <a:ext cx="1378080" cy="523800"/>
            <a:chOff x="3852720" y="1255680"/>
            <a:chExt cx="1378080" cy="523800"/>
          </a:xfrm>
        </p:grpSpPr>
        <p:pic>
          <p:nvPicPr>
            <p:cNvPr id="76" name="TextBox 11" descr=""/>
            <p:cNvPicPr/>
            <p:nvPr/>
          </p:nvPicPr>
          <p:blipFill>
            <a:blip r:embed="rId3"/>
            <a:stretch/>
          </p:blipFill>
          <p:spPr>
            <a:xfrm>
              <a:off x="3852720" y="125568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3720" y="1316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TextBox 13"/>
          <p:cNvGrpSpPr/>
          <p:nvPr/>
        </p:nvGrpSpPr>
        <p:grpSpPr>
          <a:xfrm>
            <a:off x="3852720" y="1731960"/>
            <a:ext cx="1378080" cy="523800"/>
            <a:chOff x="3852720" y="1731960"/>
            <a:chExt cx="1378080" cy="523800"/>
          </a:xfrm>
        </p:grpSpPr>
        <p:pic>
          <p:nvPicPr>
            <p:cNvPr id="79" name="TextBox 13" descr=""/>
            <p:cNvPicPr/>
            <p:nvPr/>
          </p:nvPicPr>
          <p:blipFill>
            <a:blip r:embed="rId4"/>
            <a:stretch/>
          </p:blipFill>
          <p:spPr>
            <a:xfrm>
              <a:off x="3852720" y="173196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3720" y="1792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TextBox 14"/>
          <p:cNvGrpSpPr/>
          <p:nvPr/>
        </p:nvGrpSpPr>
        <p:grpSpPr>
          <a:xfrm>
            <a:off x="3852720" y="2230560"/>
            <a:ext cx="1378080" cy="531720"/>
            <a:chOff x="3852720" y="2230560"/>
            <a:chExt cx="1378080" cy="531720"/>
          </a:xfrm>
        </p:grpSpPr>
        <p:pic>
          <p:nvPicPr>
            <p:cNvPr id="82" name="TextBox 14" descr=""/>
            <p:cNvPicPr/>
            <p:nvPr/>
          </p:nvPicPr>
          <p:blipFill>
            <a:blip r:embed="rId5"/>
            <a:stretch/>
          </p:blipFill>
          <p:spPr>
            <a:xfrm>
              <a:off x="3852720" y="2230560"/>
              <a:ext cx="13780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933720" y="2297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TextBox 15"/>
          <p:cNvGrpSpPr/>
          <p:nvPr/>
        </p:nvGrpSpPr>
        <p:grpSpPr>
          <a:xfrm>
            <a:off x="3852720" y="2736720"/>
            <a:ext cx="1378080" cy="524160"/>
            <a:chOff x="3852720" y="2736720"/>
            <a:chExt cx="1378080" cy="524160"/>
          </a:xfrm>
        </p:grpSpPr>
        <p:pic>
          <p:nvPicPr>
            <p:cNvPr id="85" name="TextBox 15" descr=""/>
            <p:cNvPicPr/>
            <p:nvPr/>
          </p:nvPicPr>
          <p:blipFill>
            <a:blip r:embed="rId6"/>
            <a:stretch/>
          </p:blipFill>
          <p:spPr>
            <a:xfrm>
              <a:off x="3852720" y="2736720"/>
              <a:ext cx="137808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933720" y="2800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TextBox 16"/>
          <p:cNvGrpSpPr/>
          <p:nvPr/>
        </p:nvGrpSpPr>
        <p:grpSpPr>
          <a:xfrm>
            <a:off x="3852720" y="3219480"/>
            <a:ext cx="1371600" cy="523800"/>
            <a:chOff x="3852720" y="3219480"/>
            <a:chExt cx="1371600" cy="523800"/>
          </a:xfrm>
        </p:grpSpPr>
        <p:pic>
          <p:nvPicPr>
            <p:cNvPr id="88" name="TextBox 16" descr=""/>
            <p:cNvPicPr/>
            <p:nvPr/>
          </p:nvPicPr>
          <p:blipFill>
            <a:blip r:embed="rId7"/>
            <a:stretch/>
          </p:blipFill>
          <p:spPr>
            <a:xfrm>
              <a:off x="3852720" y="3219480"/>
              <a:ext cx="13716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32280" y="3281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TextBox 18"/>
          <p:cNvGrpSpPr/>
          <p:nvPr/>
        </p:nvGrpSpPr>
        <p:grpSpPr>
          <a:xfrm>
            <a:off x="3852720" y="3749760"/>
            <a:ext cx="1378080" cy="523800"/>
            <a:chOff x="3852720" y="3749760"/>
            <a:chExt cx="1378080" cy="523800"/>
          </a:xfrm>
        </p:grpSpPr>
        <p:pic>
          <p:nvPicPr>
            <p:cNvPr id="91" name="TextBox 18" descr=""/>
            <p:cNvPicPr/>
            <p:nvPr/>
          </p:nvPicPr>
          <p:blipFill>
            <a:blip r:embed="rId8"/>
            <a:stretch/>
          </p:blipFill>
          <p:spPr>
            <a:xfrm>
              <a:off x="3852720" y="374976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933720" y="3808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TextBox 20"/>
          <p:cNvGrpSpPr/>
          <p:nvPr/>
        </p:nvGrpSpPr>
        <p:grpSpPr>
          <a:xfrm>
            <a:off x="5508720" y="1736640"/>
            <a:ext cx="1079280" cy="482760"/>
            <a:chOff x="5508720" y="1736640"/>
            <a:chExt cx="1079280" cy="482760"/>
          </a:xfrm>
        </p:grpSpPr>
        <p:pic>
          <p:nvPicPr>
            <p:cNvPr id="94" name="TextBox 20" descr=""/>
            <p:cNvPicPr/>
            <p:nvPr/>
          </p:nvPicPr>
          <p:blipFill>
            <a:blip r:embed="rId9"/>
            <a:stretch/>
          </p:blipFill>
          <p:spPr>
            <a:xfrm>
              <a:off x="5508720" y="1736640"/>
              <a:ext cx="1079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2"/>
            <p:cNvSpPr/>
            <p:nvPr/>
          </p:nvSpPr>
          <p:spPr>
            <a:xfrm>
              <a:off x="5578920" y="1789200"/>
              <a:ext cx="9442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TextBox 22"/>
          <p:cNvGrpSpPr/>
          <p:nvPr/>
        </p:nvGrpSpPr>
        <p:grpSpPr>
          <a:xfrm>
            <a:off x="334800" y="2730600"/>
            <a:ext cx="1195560" cy="482400"/>
            <a:chOff x="334800" y="2730600"/>
            <a:chExt cx="1195560" cy="482400"/>
          </a:xfrm>
        </p:grpSpPr>
        <p:pic>
          <p:nvPicPr>
            <p:cNvPr id="97" name="TextBox 22" descr=""/>
            <p:cNvPicPr/>
            <p:nvPr/>
          </p:nvPicPr>
          <p:blipFill>
            <a:blip r:embed="rId10"/>
            <a:stretch/>
          </p:blipFill>
          <p:spPr>
            <a:xfrm>
              <a:off x="334800" y="2730600"/>
              <a:ext cx="11955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35"/>
            <p:cNvSpPr/>
            <p:nvPr/>
          </p:nvSpPr>
          <p:spPr>
            <a:xfrm>
              <a:off x="414360" y="278460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TextBox 23"/>
          <p:cNvGrpSpPr/>
          <p:nvPr/>
        </p:nvGrpSpPr>
        <p:grpSpPr>
          <a:xfrm>
            <a:off x="7753320" y="6199200"/>
            <a:ext cx="1195560" cy="487440"/>
            <a:chOff x="7753320" y="6199200"/>
            <a:chExt cx="1195560" cy="487440"/>
          </a:xfrm>
        </p:grpSpPr>
        <p:pic>
          <p:nvPicPr>
            <p:cNvPr id="100" name="TextBox 23" descr=""/>
            <p:cNvPicPr/>
            <p:nvPr/>
          </p:nvPicPr>
          <p:blipFill>
            <a:blip r:embed="rId11"/>
            <a:stretch/>
          </p:blipFill>
          <p:spPr>
            <a:xfrm>
              <a:off x="7753320" y="6199200"/>
              <a:ext cx="11955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8"/>
            <p:cNvSpPr/>
            <p:nvPr/>
          </p:nvSpPr>
          <p:spPr>
            <a:xfrm>
              <a:off x="7831080" y="625644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0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TextBox 25"/>
          <p:cNvGrpSpPr/>
          <p:nvPr/>
        </p:nvGrpSpPr>
        <p:grpSpPr>
          <a:xfrm>
            <a:off x="6529320" y="3773520"/>
            <a:ext cx="1193760" cy="480960"/>
            <a:chOff x="6529320" y="3773520"/>
            <a:chExt cx="1193760" cy="480960"/>
          </a:xfrm>
        </p:grpSpPr>
        <p:pic>
          <p:nvPicPr>
            <p:cNvPr id="103" name="TextBox 25" descr=""/>
            <p:cNvPicPr/>
            <p:nvPr/>
          </p:nvPicPr>
          <p:blipFill>
            <a:blip r:embed="rId12"/>
            <a:stretch/>
          </p:blipFill>
          <p:spPr>
            <a:xfrm>
              <a:off x="6529320" y="3773520"/>
              <a:ext cx="1193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1"/>
            <p:cNvSpPr/>
            <p:nvPr/>
          </p:nvSpPr>
          <p:spPr>
            <a:xfrm>
              <a:off x="6607080" y="3825720"/>
              <a:ext cx="10429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TextBox 27"/>
          <p:cNvGrpSpPr/>
          <p:nvPr/>
        </p:nvGrpSpPr>
        <p:grpSpPr>
          <a:xfrm>
            <a:off x="1487520" y="2236680"/>
            <a:ext cx="1195200" cy="487440"/>
            <a:chOff x="1487520" y="2236680"/>
            <a:chExt cx="1195200" cy="487440"/>
          </a:xfrm>
        </p:grpSpPr>
        <p:pic>
          <p:nvPicPr>
            <p:cNvPr id="106" name="TextBox 27" descr=""/>
            <p:cNvPicPr/>
            <p:nvPr/>
          </p:nvPicPr>
          <p:blipFill>
            <a:blip r:embed="rId13"/>
            <a:stretch/>
          </p:blipFill>
          <p:spPr>
            <a:xfrm>
              <a:off x="1487520" y="2236680"/>
              <a:ext cx="11952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44"/>
            <p:cNvSpPr/>
            <p:nvPr/>
          </p:nvSpPr>
          <p:spPr>
            <a:xfrm>
              <a:off x="1565280" y="2293920"/>
              <a:ext cx="10447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 клас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TextBox 28"/>
          <p:cNvGrpSpPr/>
          <p:nvPr/>
        </p:nvGrpSpPr>
        <p:grpSpPr>
          <a:xfrm>
            <a:off x="3852720" y="4248000"/>
            <a:ext cx="1378080" cy="525600"/>
            <a:chOff x="3852720" y="4248000"/>
            <a:chExt cx="1378080" cy="525600"/>
          </a:xfrm>
        </p:grpSpPr>
        <p:pic>
          <p:nvPicPr>
            <p:cNvPr id="109" name="TextBox 28" descr=""/>
            <p:cNvPicPr/>
            <p:nvPr/>
          </p:nvPicPr>
          <p:blipFill>
            <a:blip r:embed="rId14"/>
            <a:stretch/>
          </p:blipFill>
          <p:spPr>
            <a:xfrm>
              <a:off x="3852720" y="4248000"/>
              <a:ext cx="13780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933720" y="4313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TextBox 29"/>
          <p:cNvGrpSpPr/>
          <p:nvPr/>
        </p:nvGrpSpPr>
        <p:grpSpPr>
          <a:xfrm>
            <a:off x="3852720" y="4754520"/>
            <a:ext cx="1378080" cy="523800"/>
            <a:chOff x="3852720" y="4754520"/>
            <a:chExt cx="1378080" cy="523800"/>
          </a:xfrm>
        </p:grpSpPr>
        <p:pic>
          <p:nvPicPr>
            <p:cNvPr id="112" name="TextBox 29" descr=""/>
            <p:cNvPicPr/>
            <p:nvPr/>
          </p:nvPicPr>
          <p:blipFill>
            <a:blip r:embed="rId15"/>
            <a:stretch/>
          </p:blipFill>
          <p:spPr>
            <a:xfrm>
              <a:off x="3852720" y="475452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933720" y="4816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TextBox 30"/>
          <p:cNvGrpSpPr/>
          <p:nvPr/>
        </p:nvGrpSpPr>
        <p:grpSpPr>
          <a:xfrm>
            <a:off x="3852720" y="5261040"/>
            <a:ext cx="1378080" cy="523800"/>
            <a:chOff x="3852720" y="5261040"/>
            <a:chExt cx="1378080" cy="523800"/>
          </a:xfrm>
        </p:grpSpPr>
        <p:pic>
          <p:nvPicPr>
            <p:cNvPr id="115" name="TextBox 30" descr=""/>
            <p:cNvPicPr/>
            <p:nvPr/>
          </p:nvPicPr>
          <p:blipFill>
            <a:blip r:embed="rId16"/>
            <a:stretch/>
          </p:blipFill>
          <p:spPr>
            <a:xfrm>
              <a:off x="3852720" y="526104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933720" y="5321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TextBox 31"/>
          <p:cNvGrpSpPr/>
          <p:nvPr/>
        </p:nvGrpSpPr>
        <p:grpSpPr>
          <a:xfrm>
            <a:off x="3852720" y="5761080"/>
            <a:ext cx="1378080" cy="523800"/>
            <a:chOff x="3852720" y="5761080"/>
            <a:chExt cx="1378080" cy="523800"/>
          </a:xfrm>
        </p:grpSpPr>
        <p:pic>
          <p:nvPicPr>
            <p:cNvPr id="118" name="TextBox 31" descr=""/>
            <p:cNvPicPr/>
            <p:nvPr/>
          </p:nvPicPr>
          <p:blipFill>
            <a:blip r:embed="rId17"/>
            <a:stretch/>
          </p:blipFill>
          <p:spPr>
            <a:xfrm>
              <a:off x="3852720" y="576108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33720" y="5824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TextBox 32"/>
          <p:cNvGrpSpPr/>
          <p:nvPr/>
        </p:nvGrpSpPr>
        <p:grpSpPr>
          <a:xfrm>
            <a:off x="3852720" y="6267600"/>
            <a:ext cx="1378080" cy="523800"/>
            <a:chOff x="3852720" y="6267600"/>
            <a:chExt cx="1378080" cy="523800"/>
          </a:xfrm>
        </p:grpSpPr>
        <p:pic>
          <p:nvPicPr>
            <p:cNvPr id="121" name="TextBox 32" descr=""/>
            <p:cNvPicPr/>
            <p:nvPr/>
          </p:nvPicPr>
          <p:blipFill>
            <a:blip r:embed="rId18"/>
            <a:stretch/>
          </p:blipFill>
          <p:spPr>
            <a:xfrm>
              <a:off x="3852720" y="6267600"/>
              <a:ext cx="1378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933720" y="632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.09.20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3"/>
          <p:cNvSpPr/>
          <p:nvPr/>
        </p:nvSpPr>
        <p:spPr>
          <a:xfrm>
            <a:off x="2700360" y="1773360"/>
            <a:ext cx="934920" cy="4535280"/>
          </a:xfrm>
          <a:prstGeom prst="downArrow">
            <a:avLst>
              <a:gd name="adj1" fmla="val 50000"/>
              <a:gd name="adj2" fmla="val 55876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низ 34"/>
          <p:cNvSpPr/>
          <p:nvPr/>
        </p:nvSpPr>
        <p:spPr>
          <a:xfrm>
            <a:off x="1619280" y="2781360"/>
            <a:ext cx="936720" cy="3537000"/>
          </a:xfrm>
          <a:prstGeom prst="downArrow">
            <a:avLst>
              <a:gd name="adj1" fmla="val 50000"/>
              <a:gd name="adj2" fmla="val 55852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низ 35"/>
          <p:cNvSpPr/>
          <p:nvPr/>
        </p:nvSpPr>
        <p:spPr>
          <a:xfrm>
            <a:off x="468360" y="3284640"/>
            <a:ext cx="936720" cy="3041640"/>
          </a:xfrm>
          <a:prstGeom prst="downArrow">
            <a:avLst>
              <a:gd name="adj1" fmla="val 50000"/>
              <a:gd name="adj2" fmla="val 55862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низ 36"/>
          <p:cNvSpPr/>
          <p:nvPr/>
        </p:nvSpPr>
        <p:spPr>
          <a:xfrm>
            <a:off x="5435640" y="2276640"/>
            <a:ext cx="936720" cy="4105080"/>
          </a:xfrm>
          <a:prstGeom prst="downArrow">
            <a:avLst>
              <a:gd name="adj1" fmla="val 50000"/>
              <a:gd name="adj2" fmla="val 55855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низ 37"/>
          <p:cNvSpPr/>
          <p:nvPr/>
        </p:nvSpPr>
        <p:spPr>
          <a:xfrm>
            <a:off x="6659640" y="4292640"/>
            <a:ext cx="936720" cy="2089080"/>
          </a:xfrm>
          <a:prstGeom prst="downArrow">
            <a:avLst>
              <a:gd name="adj1" fmla="val 50000"/>
              <a:gd name="adj2" fmla="val 55858"/>
            </a:avLst>
          </a:prstGeom>
          <a:solidFill>
            <a:srgbClr val="ff0000"/>
          </a:solidFill>
          <a:ln w="255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лок-схема: альтернативный процесс 38"/>
          <p:cNvSpPr/>
          <p:nvPr/>
        </p:nvSpPr>
        <p:spPr>
          <a:xfrm>
            <a:off x="252360" y="1341360"/>
            <a:ext cx="2087640" cy="86364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Введение ФГОС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мере гото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лок-схема: альтернативный процесс 39"/>
          <p:cNvSpPr/>
          <p:nvPr/>
        </p:nvSpPr>
        <p:spPr>
          <a:xfrm>
            <a:off x="6732720" y="1341360"/>
            <a:ext cx="2087280" cy="86364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Обязательное введени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_Alterna"/>
              </a:rPr>
              <a:t>ПОСЛЕДОВАТЕЛЬНОСТЬ ВВЕДЕНИЯ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8300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ченики 5-х классов вместо природоведения будут изучать естествознание – это более интегрированный курс, полностью соответствующий задачам нового стандар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ФГОС 10-11 классов, в 2020-2021 учебном году, предусматривает естествознание как базовый курс гуманитарного профил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ФГОС 5-9 классов, который мы сегодня обсуждаем, предусматривает обязательное изучение биологии, физики, химии – здесь никаких изменений нет в сравнении с действующим стандарто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8150400" cy="80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500040" y="500040"/>
            <a:ext cx="8072640" cy="797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slide0093_image192"/>
          <p:cNvPicPr/>
          <p:nvPr/>
        </p:nvPicPr>
        <p:blipFill>
          <a:blip r:embed="rId4"/>
          <a:stretch/>
        </p:blipFill>
        <p:spPr>
          <a:xfrm>
            <a:off x="714240" y="4357800"/>
            <a:ext cx="142884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6:00:27Z</dcterms:created>
  <dc:creator>user</dc:creator>
  <dc:description/>
  <dc:language>en-US</dc:language>
  <cp:lastModifiedBy>ученик</cp:lastModifiedBy>
  <dcterms:modified xsi:type="dcterms:W3CDTF">2012-11-09T05:30:43Z</dcterms:modified>
  <cp:revision>158</cp:revision>
  <dc:subject/>
  <dc:title>Основное содержание курса</dc:title>
</cp:coreProperties>
</file>