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8.png" ContentType="image/png"/>
  <Override PartName="/ppt/media/image12.png" ContentType="image/png"/>
  <Override PartName="/ppt/media/image19.gif" ContentType="image/gif"/>
  <Override PartName="/ppt/media/image5.png" ContentType="image/png"/>
  <Override PartName="/ppt/media/image17.wmf" ContentType="image/x-wmf"/>
  <Override PartName="/ppt/media/image18.png" ContentType="image/png"/>
  <Override PartName="/ppt/media/image15.gif" ContentType="image/gif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800-1AA9-4547-A531-253BD52B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512-8E06-4C46-A4A0-AB1F0FB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779-DDCF-46EC-B0A6-27293C33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A37-CAA6-4594-95CD-8903AB55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ABC2-3982-400F-B0F9-12ED72FD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5D7-95DE-471D-8ADC-3F32ECAB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E4E0-C641-4429-9F78-69B412A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508F-74E1-4969-A9E1-5190708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2EB-5BDE-4BCD-9DFC-E2163DC9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A5F-45F2-4FFE-A550-5C4F5706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37C-6C65-4459-947E-F8F8396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7F4-65E0-4612-A66E-3CC7F357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3AE8-7D9D-4B22-99D6-BD6022D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1FE-5853-4392-92DF-D1077D9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1BD0-FAAF-43DC-B9FA-2A0A8E7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2137-DD4C-4260-A7FF-E908BD54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70F-E5F5-4918-9C44-E5836241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E17-24BA-48D3-8330-86AEDA4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226-24F1-4972-AB45-4751EC6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9E2-7572-4181-88C3-1BA001A4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57C-AF6D-4C72-8564-C05EC42C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20A-71A0-4538-B27F-B464ABA6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778-4236-4750-BC7C-52699BA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2FB-1BE3-45FD-9C0B-408CB4B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14D-9544-4E59-B1D0-CC13E0B4E6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4381-8AB4-48E9-B804-1848EF5B298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447920" y="304920"/>
            <a:ext cx="609264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 </a:t>
            </a:r>
            <a:endParaRPr b="1" i="1" lang="en-US" sz="40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96" name="Рисунок 4" descr="http://900igr.net/datai/frantsuzskij-jazyk/France/0018-062-Soderzhanie-proekta-Bonjour-la-France.png"/>
          <p:cNvPicPr/>
          <p:nvPr/>
        </p:nvPicPr>
        <p:blipFill>
          <a:blip r:embed="rId3"/>
          <a:stretch/>
        </p:blipFill>
        <p:spPr>
          <a:xfrm>
            <a:off x="2322360" y="2932200"/>
            <a:ext cx="4511880" cy="38764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5" descr=""/>
          <p:cNvPicPr/>
          <p:nvPr/>
        </p:nvPicPr>
        <p:blipFill>
          <a:blip r:embed="rId4"/>
          <a:stretch/>
        </p:blipFill>
        <p:spPr>
          <a:xfrm>
            <a:off x="476280" y="426960"/>
            <a:ext cx="8313840" cy="28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935640" y="609480"/>
            <a:ext cx="68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гровой или ролево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56680" y="1752480"/>
            <a:ext cx="602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  проекта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вовлечение публ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детей и взрослых) в ре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ы прое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3800" y="3429000"/>
            <a:ext cx="53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ный продук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е (игра, состяз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кторина, экскурсия и т. 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04920" y="5181480"/>
            <a:ext cx="84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мая компетентность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-main-pic" descr="Картинка 336 из 3962"/>
          <p:cNvPicPr/>
          <p:nvPr/>
        </p:nvPicPr>
        <p:blipFill>
          <a:blip r:embed="rId1"/>
          <a:srcRect l="0" t="1962" r="0" b="0"/>
          <a:stretch/>
        </p:blipFill>
        <p:spPr>
          <a:xfrm>
            <a:off x="5715000" y="2438280"/>
            <a:ext cx="3227400" cy="38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0" y="3049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Какие роли предстоит «прожить» учителю в ходе руководства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Times New Roman"/>
              </a:rPr>
              <a:t>проек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3233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33520" y="2057400"/>
            <a:ext cx="4495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нтузиа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еловек, котор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ет вопро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ордин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п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0" y="228600"/>
            <a:ext cx="9144000" cy="70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удало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учащи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работы 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ом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пределять правильно врем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нализировать собственные действи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езентовать результаты своего тру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делывать всё до конц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матривать тему с разных точек зрени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стигать поставленной ц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2" descr="http://www.school176.ru/medium-school/pictures/0093.jpg"/>
          <p:cNvPicPr/>
          <p:nvPr/>
        </p:nvPicPr>
        <p:blipFill>
          <a:blip r:embed="rId1"/>
          <a:stretch/>
        </p:blipFill>
        <p:spPr>
          <a:xfrm>
            <a:off x="5711760" y="298440"/>
            <a:ext cx="3438720" cy="268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33520" y="533520"/>
            <a:ext cx="83818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оект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на основе информационных технологий многогранен, эффективен, перспективен, неисчерпаем.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сновная школа в будущем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это школа проект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HEL41"/>
          <p:cNvPicPr/>
          <p:nvPr/>
        </p:nvPicPr>
        <p:blipFill>
          <a:blip r:embed="rId1"/>
          <a:stretch/>
        </p:blipFill>
        <p:spPr>
          <a:xfrm>
            <a:off x="685800" y="3581280"/>
            <a:ext cx="3402000" cy="301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09480" y="8380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«</a:t>
            </a: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Скажи мн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–</a:t>
            </a: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и я забуду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окажи мн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– </a:t>
            </a: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и я запомню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вовлеки ме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 –</a:t>
            </a: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и я научусь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340409_8293-800x600.jpg"/>
          <p:cNvPicPr/>
          <p:nvPr/>
        </p:nvPicPr>
        <p:blipFill>
          <a:blip r:embed="rId1"/>
          <a:srcRect l="0" t="0" r="0" b="5098"/>
          <a:stretch/>
        </p:blipFill>
        <p:spPr>
          <a:xfrm>
            <a:off x="4930920" y="2133720"/>
            <a:ext cx="4213080" cy="425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5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ребования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 современному человеку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8288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9480" indent="-2494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работать в команд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амостоятельно добывать, обрабатывать информацию, оформлять добытые сведения, в том числе с использованием компьютерной техни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ыполнять исследовательскую работ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бкость поведения, умение выступать в различных социальных роля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ые коммуникационные навык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Рисунок 3" descr="knigi-190.gif"/>
          <p:cNvPicPr/>
          <p:nvPr/>
        </p:nvPicPr>
        <p:blipFill>
          <a:blip r:embed="rId6"/>
          <a:stretch/>
        </p:blipFill>
        <p:spPr>
          <a:xfrm>
            <a:off x="6934320" y="685800"/>
            <a:ext cx="198108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523880" y="228600"/>
            <a:ext cx="739152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роект – это 6 «П»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роблема    </a:t>
            </a: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роектирование           </a:t>
            </a: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оиск информации   </a:t>
            </a: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родукт             </a:t>
            </a: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резентация        </a:t>
            </a:r>
            <a:r>
              <a:rPr b="1" i="1" lang="ru-RU" sz="5400" spc="-1" strike="noStrike" u="sng">
                <a:solidFill>
                  <a:srgbClr val="083763"/>
                </a:solidFill>
                <a:uFillTx/>
                <a:latin typeface="Arial"/>
              </a:rPr>
              <a:t>П</a:t>
            </a:r>
            <a:r>
              <a:rPr b="0" i="1" lang="ru-RU" sz="4800" spc="-1" strike="noStrike">
                <a:solidFill>
                  <a:srgbClr val="083763"/>
                </a:solidFill>
                <a:latin typeface="Arial"/>
              </a:rPr>
              <a:t>ортфоли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141.gif"/>
          <p:cNvPicPr/>
          <p:nvPr/>
        </p:nvPicPr>
        <p:blipFill>
          <a:blip r:embed="rId1"/>
          <a:stretch/>
        </p:blipFill>
        <p:spPr>
          <a:xfrm>
            <a:off x="228600" y="3305160"/>
            <a:ext cx="2286000" cy="3171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Группа 17"/>
          <p:cNvGrpSpPr/>
          <p:nvPr/>
        </p:nvGrpSpPr>
        <p:grpSpPr>
          <a:xfrm>
            <a:off x="2437560" y="1752120"/>
            <a:ext cx="4191120" cy="3048840"/>
            <a:chOff x="2437560" y="1752120"/>
            <a:chExt cx="4191120" cy="3048840"/>
          </a:xfrm>
        </p:grpSpPr>
        <p:sp>
          <p:nvSpPr>
            <p:cNvPr id="106" name="Блок-схема: узел 3"/>
            <p:cNvSpPr/>
            <p:nvPr/>
          </p:nvSpPr>
          <p:spPr>
            <a:xfrm>
              <a:off x="3276360" y="2666880"/>
              <a:ext cx="2786040" cy="1700280"/>
            </a:xfrm>
            <a:prstGeom prst="flowChartConnector">
              <a:avLst/>
            </a:prstGeom>
            <a:solidFill>
              <a:srgbClr val="ffffff"/>
            </a:solidFill>
            <a:ln w="507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b5395"/>
                  </a:solidFill>
                  <a:uFillTx/>
                  <a:latin typeface="Times New Roman"/>
                  <a:ea typeface="Times New Roman"/>
                </a:rPr>
                <a:t>Типы учебных проект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Прямая со стрелкой 12"/>
            <p:cNvCxnSpPr/>
            <p:nvPr/>
          </p:nvCxnSpPr>
          <p:spPr>
            <a:xfrm flipH="1" flipV="1">
              <a:off x="2818440" y="2742840"/>
              <a:ext cx="533880" cy="381600"/>
            </a:xfrm>
            <a:prstGeom prst="straightConnector1">
              <a:avLst/>
            </a:prstGeom>
            <a:ln w="63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08" name="Прямая со стрелкой 14"/>
            <p:cNvCxnSpPr/>
            <p:nvPr/>
          </p:nvCxnSpPr>
          <p:spPr>
            <a:xfrm flipV="1">
              <a:off x="4647240" y="1752120"/>
              <a:ext cx="76680" cy="915120"/>
            </a:xfrm>
            <a:prstGeom prst="straightConnector1">
              <a:avLst/>
            </a:prstGeom>
            <a:ln w="63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09" name="Прямая со стрелкой 16"/>
            <p:cNvCxnSpPr/>
            <p:nvPr/>
          </p:nvCxnSpPr>
          <p:spPr>
            <a:xfrm flipV="1">
              <a:off x="6019920" y="3123360"/>
              <a:ext cx="457920" cy="76680"/>
            </a:xfrm>
            <a:prstGeom prst="straightConnector1">
              <a:avLst/>
            </a:prstGeom>
            <a:ln w="63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10" name="Прямая со стрелкой 20"/>
            <p:cNvCxnSpPr>
              <a:stCxn id="106" idx="5"/>
            </p:cNvCxnSpPr>
            <p:nvPr/>
          </p:nvCxnSpPr>
          <p:spPr>
            <a:xfrm>
              <a:off x="5653800" y="4118040"/>
              <a:ext cx="975240" cy="682920"/>
            </a:xfrm>
            <a:prstGeom prst="straightConnector1">
              <a:avLst/>
            </a:prstGeom>
            <a:ln w="63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11" name="Прямая со стрелкой 22"/>
            <p:cNvCxnSpPr/>
            <p:nvPr/>
          </p:nvCxnSpPr>
          <p:spPr>
            <a:xfrm flipH="1">
              <a:off x="2437560" y="3886200"/>
              <a:ext cx="991080" cy="915120"/>
            </a:xfrm>
            <a:prstGeom prst="straightConnector1">
              <a:avLst/>
            </a:prstGeom>
            <a:ln w="63360">
              <a:solidFill>
                <a:srgbClr val="065093"/>
              </a:solidFill>
              <a:miter/>
              <a:tailEnd len="med" type="arrow" w="med"/>
            </a:ln>
          </p:spPr>
        </p:cxnSp>
      </p:grpSp>
      <p:sp>
        <p:nvSpPr>
          <p:cNvPr id="112" name="Горизонтальный свиток 75"/>
          <p:cNvSpPr/>
          <p:nvPr/>
        </p:nvSpPr>
        <p:spPr>
          <a:xfrm>
            <a:off x="228600" y="2133720"/>
            <a:ext cx="2590920" cy="190476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76"/>
          <p:cNvSpPr/>
          <p:nvPr/>
        </p:nvSpPr>
        <p:spPr>
          <a:xfrm>
            <a:off x="301680" y="4594320"/>
            <a:ext cx="3612960" cy="18874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Горизонтальный свиток 79"/>
          <p:cNvSpPr/>
          <p:nvPr/>
        </p:nvSpPr>
        <p:spPr>
          <a:xfrm>
            <a:off x="2971800" y="228600"/>
            <a:ext cx="3581280" cy="17524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Горизонтальный свиток 80"/>
          <p:cNvSpPr/>
          <p:nvPr/>
        </p:nvSpPr>
        <p:spPr>
          <a:xfrm>
            <a:off x="6477120" y="2057400"/>
            <a:ext cx="2438280" cy="17524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Горизонтальный свиток 81"/>
          <p:cNvSpPr/>
          <p:nvPr/>
        </p:nvSpPr>
        <p:spPr>
          <a:xfrm>
            <a:off x="5029200" y="4572000"/>
            <a:ext cx="3733920" cy="205740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15200" y="457200"/>
            <a:ext cx="63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формационный 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590920" y="1447920"/>
            <a:ext cx="57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а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ор информации о ка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бо объекте или я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666880" y="31240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ный продук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татистические дан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опросов общественного м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819520" y="51814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мая компетентность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6" descr="http://onega.su.optimus.mtw.ru/images/school4/21.jpg"/>
          <p:cNvPicPr/>
          <p:nvPr/>
        </p:nvPicPr>
        <p:blipFill>
          <a:blip r:embed="rId1"/>
          <a:stretch/>
        </p:blipFill>
        <p:spPr>
          <a:xfrm>
            <a:off x="228600" y="2666880"/>
            <a:ext cx="259092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8169120" cy="10494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226440" y="1676520"/>
            <a:ext cx="69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  проекта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азательство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овержение какой-либо гипоте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87560" y="2971800"/>
            <a:ext cx="89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ный продук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результат исслед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ный установленным спосо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184320" y="4191120"/>
            <a:ext cx="90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мая компетентнос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knigi-121.gif"/>
          <p:cNvPicPr/>
          <p:nvPr/>
        </p:nvPicPr>
        <p:blipFill>
          <a:blip r:embed="rId2"/>
          <a:stretch/>
        </p:blipFill>
        <p:spPr>
          <a:xfrm>
            <a:off x="2590920" y="2971800"/>
            <a:ext cx="4081320" cy="451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00520" y="609480"/>
            <a:ext cx="89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актико – ориентированны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31560" y="1752480"/>
            <a:ext cx="416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  проекта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зчи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91320" y="3581280"/>
            <a:ext cx="436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ный продукт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ые пособия, мак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одели, инстру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мятки,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28600" y="55627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мая компетентность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-main-pic" descr="Картинка 61 из 3963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757160" y="609480"/>
            <a:ext cx="466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ворчески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457440" y="1600200"/>
            <a:ext cx="482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  проекта -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а пу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роблеме прое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515400" y="3276720"/>
            <a:ext cx="523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ектный продукт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ые произ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зведения изобраз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усства, видеофиль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442680" y="5257800"/>
            <a:ext cx="549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ируемая компетентность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" descr="buch89daqgkrxz.gif"/>
          <p:cNvPicPr/>
          <p:nvPr/>
        </p:nvPicPr>
        <p:blipFill>
          <a:blip r:embed="rId1"/>
          <a:stretch/>
        </p:blipFill>
        <p:spPr>
          <a:xfrm rot="1007400">
            <a:off x="259920" y="197928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10-30T16:49:32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