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33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5.jpeg" ContentType="image/jpeg"/>
  <Override PartName="/ppt/media/image24.gif" ContentType="image/gif"/>
  <Override PartName="/ppt/media/image3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3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2.gif" ContentType="image/gif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65AC-D223-40E6-B7D0-BA51AE59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EF7B-AC49-4F5B-85A9-69E45B18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2AC9-26CF-4789-84DF-736DCBE5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499F-EAB7-4DBD-918F-7840FE60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51986-3571-4567-9779-6E96AF34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E189C-BE8C-463B-B7FD-C0D51188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8CB1C-3B4F-4EE2-848E-92F117CD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ADD41-8C52-4C3A-81C9-3265FAD8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FB9A8-CE88-45EE-AE12-19E9E812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B2160-8317-47AC-A0E1-29F74480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58D72-68E7-4D1B-83C1-20740C0C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355A-29E3-439D-93DA-1DDC20B8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50C7E-634D-45DA-8CBF-0DB89F65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8EEB2-1172-468E-BAB8-5A0F924B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E0A4E-4BF7-47AC-95CE-83C5301D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E32BB-A0DE-49F6-BC2E-C9F620F9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9E9B9-9EB5-49DF-890F-D02B75A2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0E4B-675D-45F4-9946-CE275ED7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C043-F763-4A0B-80D3-BB94D668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8070-D9AD-46E4-B99F-9BFD0734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F3EC-CC67-4DC7-A58F-144372D6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F693-EBFB-4610-9FB9-AAA051C8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DCFD-D160-4169-8C69-E3A58084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8445-159F-41B7-92C0-DFE96B79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19C2-1B00-4767-899E-4EE256E3ED1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D741-ACAB-4E19-92B5-C6F8AEC7878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student.utmn.ru/photos/24_363.jpe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objeshnik.narod.ru/vulkan.jpg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vestnik.rosneft.ru/img/cont/v63_10_1.jpg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www.travelphoto.ru/db_files/conv_39462_IMG_9913_small.jpg" TargetMode="External"/><Relationship Id="rId5" Type="http://schemas.openxmlformats.org/officeDocument/2006/relationships/image" Target="../media/image11.jpeg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geo.web.ru/pubd/2003/01/28/0001166269/BC_puuoo.jpg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403280" y="2781000"/>
            <a:ext cx="64404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рок географ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6 кла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873080"/>
          </a:xfrm>
          <a:prstGeom prst="rect">
            <a:avLst/>
          </a:prstGeom>
          <a:noFill/>
          <a:ln w="38160">
            <a:solidFill>
              <a:srgbClr val="00ffcc"/>
            </a:solidFill>
            <a:prstDash val="sysDot"/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6600"/>
                </a:solidFill>
                <a:latin typeface="Arial Black"/>
              </a:rPr>
              <a:t>ВУЛКАНЫ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уполообразный</a:t>
            </a:r>
            <a:br>
              <a:rPr sz="3200"/>
            </a:br>
            <a:r>
              <a:rPr b="1" i="1" lang="ru-RU" sz="3200" spc="-1" strike="noStrike">
                <a:solidFill>
                  <a:srgbClr val="e3e3ff"/>
                </a:solidFill>
                <a:latin typeface="Arial"/>
              </a:rPr>
              <a:t>вулкан Пай  де Дум  ( Франция )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9" name="Picture 3" descr="куполовидный  вулкан(юг  Франции)"/>
          <p:cNvPicPr/>
          <p:nvPr/>
        </p:nvPicPr>
        <p:blipFill>
          <a:blip r:embed="rId1"/>
          <a:stretch/>
        </p:blipFill>
        <p:spPr>
          <a:xfrm>
            <a:off x="611280" y="2209680"/>
            <a:ext cx="7543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3628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одводно – надводный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улкан  Килауэа  ( Гаваи )</a:t>
            </a:r>
            <a:r>
              <a:rPr b="0" i="1" lang="ru-RU" sz="3200" spc="-1" strike="noStrike">
                <a:solidFill>
                  <a:srgbClr val="e3e3ff"/>
                </a:solidFill>
                <a:latin typeface="Arial"/>
              </a:rPr>
              <a:t>  </a:t>
            </a:r>
            <a:br>
              <a:rPr sz="3200"/>
            </a:br>
            <a:r>
              <a:rPr b="0" i="1" lang="ru-RU" sz="2000" spc="-1" strike="noStrike">
                <a:solidFill>
                  <a:srgbClr val="e3e3ff"/>
                </a:solidFill>
                <a:latin typeface="Arial"/>
              </a:rPr>
              <a:t>Лишь  10-20 % от  общего  числа  действующих  вулканов  характерны  подводные  извержения  (речь  только  о  тех, которые  расположены  в  непосредственной  близи  от  материков)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1" name="Picture 3" descr="Hawai_b"/>
          <p:cNvPicPr/>
          <p:nvPr/>
        </p:nvPicPr>
        <p:blipFill>
          <a:blip r:embed="rId2"/>
          <a:stretch/>
        </p:blipFill>
        <p:spPr>
          <a:xfrm>
            <a:off x="3203640" y="2205000"/>
            <a:ext cx="5570640" cy="3481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Картинка 33 из 246"/>
          <p:cNvPicPr/>
          <p:nvPr/>
        </p:nvPicPr>
        <p:blipFill>
          <a:blip r:embed="rId3"/>
          <a:stretch/>
        </p:blipFill>
        <p:spPr>
          <a:xfrm>
            <a:off x="179280" y="3844800"/>
            <a:ext cx="378000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иды вулканов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улканы образуются не только на суше, но и на дне океанов. Такие вулканы образуют острова. Пример: 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Гавайские остро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 Тихом океане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Мауна-Лоа «длинная гора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4170м находится над океаном, а около 10000 м – над дном океан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1" descr="vulk11"/>
          <p:cNvPicPr/>
          <p:nvPr/>
        </p:nvPicPr>
        <p:blipFill>
          <a:blip r:embed="rId2"/>
          <a:stretch/>
        </p:blipFill>
        <p:spPr>
          <a:xfrm>
            <a:off x="4356000" y="3573360"/>
            <a:ext cx="3313080" cy="3117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2" descr="Картинка 1 из 143"/>
          <p:cNvPicPr/>
          <p:nvPr/>
        </p:nvPicPr>
        <p:blipFill>
          <a:blip r:embed="rId3"/>
          <a:stretch/>
        </p:blipFill>
        <p:spPr>
          <a:xfrm>
            <a:off x="4356000" y="907920"/>
            <a:ext cx="4429080" cy="27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500"/>
                            </p:stCondLst>
                            <p:childTnLst>
                              <p:par>
                                <p:cTn id="3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Виды вулкано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3322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улканы делят на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ffcc"/>
                </a:solidFill>
                <a:latin typeface="Arial"/>
              </a:rPr>
              <a:t>потухшие</a:t>
            </a:r>
            <a:r>
              <a:rPr b="0" lang="ru-RU" sz="32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нет</a:t>
            </a:r>
            <a:r>
              <a:rPr b="0" lang="ru-RU" sz="3200" spc="-1" strike="noStrike">
                <a:solidFill>
                  <a:srgbClr val="463416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дений об  их извержении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действующие-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вержения происходили на памяти человечеств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vulk04"/>
          <p:cNvPicPr/>
          <p:nvPr/>
        </p:nvPicPr>
        <p:blipFill>
          <a:blip r:embed="rId2"/>
          <a:stretch/>
        </p:blipFill>
        <p:spPr>
          <a:xfrm>
            <a:off x="4716360" y="4121280"/>
            <a:ext cx="4427640" cy="2736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Картинка 24 из 1343"/>
          <p:cNvPicPr/>
          <p:nvPr/>
        </p:nvPicPr>
        <p:blipFill>
          <a:blip r:embed="rId3"/>
          <a:stretch/>
        </p:blipFill>
        <p:spPr>
          <a:xfrm>
            <a:off x="4500720" y="1125360"/>
            <a:ext cx="3673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cc"/>
                </a:solidFill>
                <a:latin typeface="Arial"/>
              </a:rPr>
              <a:t>Вулканическая опасность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447516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вержения вулканов угрожают жизни людей и наносят материальный ущерб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авовые потоки разрушают здания, перекрывают дороги и сельскохозяйственные земли, которые на много столетий исключаются из хозяйственного использования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9" descr="Картинка 14 из 18485"/>
          <p:cNvPicPr/>
          <p:nvPr/>
        </p:nvPicPr>
        <p:blipFill>
          <a:blip r:embed="rId2"/>
          <a:stretch/>
        </p:blipFill>
        <p:spPr>
          <a:xfrm>
            <a:off x="4356000" y="1197000"/>
            <a:ext cx="4140360" cy="2585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file0699"/>
          <p:cNvPicPr/>
          <p:nvPr/>
        </p:nvPicPr>
        <p:blipFill>
          <a:blip r:embed="rId3"/>
          <a:stretch/>
        </p:blipFill>
        <p:spPr>
          <a:xfrm>
            <a:off x="4643280" y="3933720"/>
            <a:ext cx="4043520" cy="2824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15"/>
          <p:cNvPicPr/>
          <p:nvPr/>
        </p:nvPicPr>
        <p:blipFill>
          <a:blip r:embed="rId4"/>
          <a:stretch/>
        </p:blipFill>
        <p:spPr>
          <a:xfrm>
            <a:off x="7885080" y="189000"/>
            <a:ext cx="8272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улканическая опасность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250920" y="981000"/>
            <a:ext cx="4249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ледствие вулканических извержений на крышах зданий накапливаются мощные слои пепла, что грозит их обрушен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адание в легкие мельчайших частиц пепла приводит к падежу ско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звесь пепла в воздухе представляет опасность для автомобильного и воздушного транспор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9" descr="tolb1"/>
          <p:cNvPicPr/>
          <p:nvPr/>
        </p:nvPicPr>
        <p:blipFill>
          <a:blip r:embed="rId2"/>
          <a:stretch/>
        </p:blipFill>
        <p:spPr>
          <a:xfrm>
            <a:off x="6948360" y="1557360"/>
            <a:ext cx="2195640" cy="4824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Karim4c"/>
          <p:cNvPicPr/>
          <p:nvPr/>
        </p:nvPicPr>
        <p:blipFill>
          <a:blip r:embed="rId3"/>
          <a:stretch/>
        </p:blipFill>
        <p:spPr>
          <a:xfrm>
            <a:off x="4572000" y="2276640"/>
            <a:ext cx="2305080" cy="3673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15"/>
          <p:cNvPicPr/>
          <p:nvPr/>
        </p:nvPicPr>
        <p:blipFill>
          <a:blip r:embed="rId4"/>
          <a:stretch/>
        </p:blipFill>
        <p:spPr>
          <a:xfrm>
            <a:off x="8028000" y="333360"/>
            <a:ext cx="8269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  земном  шаре  насчитывается  около  600  действующих  вулканов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2" name="Picture 5" descr="current"/>
          <p:cNvPicPr/>
          <p:nvPr/>
        </p:nvPicPr>
        <p:blipFill>
          <a:blip r:embed="rId1"/>
          <a:stretch/>
        </p:blipFill>
        <p:spPr>
          <a:xfrm>
            <a:off x="250920" y="1773360"/>
            <a:ext cx="849636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Землетрясения и вулканы"/>
          <p:cNvPicPr/>
          <p:nvPr/>
        </p:nvPicPr>
        <p:blipFill>
          <a:blip r:embed="rId1"/>
          <a:stretch/>
        </p:blipFill>
        <p:spPr>
          <a:xfrm>
            <a:off x="539640" y="1197000"/>
            <a:ext cx="8124840" cy="54165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971640" y="476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ейсмически активные зоны план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рогноз извержени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огда уже можно предсказать начало извержения вулкана и предупредить бед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03280" y="1125360"/>
            <a:ext cx="3816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 flipV="1" rot="10800000">
            <a:off x="614520" y="3573360"/>
            <a:ext cx="374472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огноза извержений составляются карты вулканической опасности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7" descr="MAP зоны опасности"/>
          <p:cNvPicPr/>
          <p:nvPr/>
        </p:nvPicPr>
        <p:blipFill>
          <a:blip r:embed="rId1"/>
          <a:stretch/>
        </p:blipFill>
        <p:spPr>
          <a:xfrm>
            <a:off x="5003640" y="1125360"/>
            <a:ext cx="3745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Изучение вулканов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улканы-это окна в глубины Земл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извержениям ученые изучают состав, свойства веществ, находящихся в земной коре на большой глубине. Открываются тайны образования полезных ископаем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2920" y="260280"/>
            <a:ext cx="4038840" cy="58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6" descr="tephra"/>
          <p:cNvPicPr/>
          <p:nvPr/>
        </p:nvPicPr>
        <p:blipFill>
          <a:blip r:embed="rId1"/>
          <a:stretch/>
        </p:blipFill>
        <p:spPr>
          <a:xfrm>
            <a:off x="4643280" y="333360"/>
            <a:ext cx="39610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1085400"/>
            <a:ext cx="914400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«Везувий зев открыл - дым хлынул клубом- плам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Широко развивалось, как боевое знам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Земля волнуется – с шатнувшихся кол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умиры падают! Народ, гонимый страх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од каменным дождём, под воспаленным прах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олпами, стар и млад, бежит из града вон.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36280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Геотермальная  энергия</a:t>
            </a:r>
            <a:br>
              <a:rPr sz="3200"/>
            </a:br>
            <a:r>
              <a:rPr b="0" i="1" lang="ru-RU" sz="3200" spc="-1" strike="noStrike">
                <a:solidFill>
                  <a:srgbClr val="e3e3ff"/>
                </a:solidFill>
                <a:latin typeface="Arial"/>
              </a:rPr>
              <a:t>вулканизм  сопровождается  выходом  геотермальной  энергии  (гейзеры  Камчатки</a:t>
            </a: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5" name="Picture 5" descr="Картинка 8 из 5908"/>
          <p:cNvPicPr/>
          <p:nvPr/>
        </p:nvPicPr>
        <p:blipFill>
          <a:blip r:embed="rId2"/>
          <a:stretch/>
        </p:blipFill>
        <p:spPr>
          <a:xfrm>
            <a:off x="0" y="3213000"/>
            <a:ext cx="4356000" cy="3171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Картинка 11 из 5908"/>
          <p:cNvPicPr/>
          <p:nvPr/>
        </p:nvPicPr>
        <p:blipFill>
          <a:blip r:embed="rId3"/>
          <a:stretch/>
        </p:blipFill>
        <p:spPr>
          <a:xfrm>
            <a:off x="4714920" y="3983040"/>
            <a:ext cx="4429080" cy="28749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-1800" y="2133720"/>
            <a:ext cx="892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33"/>
                </a:solidFill>
                <a:latin typeface="Arial"/>
              </a:rPr>
              <a:t>Гейзер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источник, периодически выбрасывающий фонта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рячей воды и па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9" descr="Картинка 24 из 5908"/>
          <p:cNvPicPr/>
          <p:nvPr/>
        </p:nvPicPr>
        <p:blipFill>
          <a:blip r:embed="rId4"/>
          <a:stretch/>
        </p:blipFill>
        <p:spPr>
          <a:xfrm>
            <a:off x="4427640" y="1125360"/>
            <a:ext cx="403380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опросы и задания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Что такое вулканиз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Как образуются вулкан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Какие типы вулканов вы знает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Почему и как изучают вулкан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На карте полушарий найти и определить высоту вулкана Орисаб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положенного в Северной Амер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аграф 19 (вопросы устно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готовить сообщение о вулка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5" descr="img 5"/>
          <p:cNvPicPr/>
          <p:nvPr/>
        </p:nvPicPr>
        <p:blipFill>
          <a:blip r:embed="rId1"/>
          <a:stretch/>
        </p:blipFill>
        <p:spPr>
          <a:xfrm>
            <a:off x="179280" y="1197000"/>
            <a:ext cx="8964720" cy="5661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7921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cc"/>
                </a:solidFill>
                <a:latin typeface="Arial"/>
              </a:rPr>
              <a:t>Вулка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это геологическое образование, возникающее над трещинами в земной коре и по форме напоминающее гор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Что такое вулкан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3743280" y="5373720"/>
            <a:ext cx="540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ревнеримской мифологии слово «вулкан» означает – Бог ог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ак образуются вулканы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1860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ходящаяся на глубине огненно-жидкая масса при вскипании и под большим давлением, расширяя трещину в земной коре, устремляется вверх. Это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магм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лившаяся на поверхность Земли магма называется-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л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схема"/>
          <p:cNvPicPr/>
          <p:nvPr/>
        </p:nvPicPr>
        <p:blipFill>
          <a:blip r:embed="rId1"/>
          <a:stretch/>
        </p:blipFill>
        <p:spPr>
          <a:xfrm>
            <a:off x="4859280" y="1413000"/>
            <a:ext cx="4284720" cy="460836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5"/>
          <p:cNvSpPr/>
          <p:nvPr/>
        </p:nvSpPr>
        <p:spPr>
          <a:xfrm>
            <a:off x="7596360" y="5157720"/>
            <a:ext cx="288720" cy="503280"/>
          </a:xfrm>
          <a:prstGeom prst="upArrow">
            <a:avLst>
              <a:gd name="adj1" fmla="val 50000"/>
              <a:gd name="adj2" fmla="val 43579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0"/>
          <p:cNvSpPr/>
          <p:nvPr/>
        </p:nvSpPr>
        <p:spPr>
          <a:xfrm rot="1857600">
            <a:off x="7164000" y="2133720"/>
            <a:ext cx="358920" cy="647640"/>
          </a:xfrm>
          <a:prstGeom prst="downArrow">
            <a:avLst>
              <a:gd name="adj1" fmla="val 50000"/>
              <a:gd name="adj2" fmla="val 4511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33" descr="ar19"/>
          <p:cNvPicPr/>
          <p:nvPr/>
        </p:nvPicPr>
        <p:blipFill>
          <a:blip r:embed="rId2"/>
          <a:stretch/>
        </p:blipFill>
        <p:spPr>
          <a:xfrm rot="16200000">
            <a:off x="7164360" y="4797000"/>
            <a:ext cx="117972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33526E-006 L -0.00799 -0.41411 E">
                                      <p:cBhvr>
                                        <p:cTn id="37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037E-007 L -0.01337 0.10833 C -0.01563 0.13171 -0.02535 0.15972 -0.0401 0.18403 C -0.05677 0.21181 -0.07431 0.22963 -0.09097 0.23773 L -0.16754 0.27893 E">
                                      <p:cBhvr>
                                        <p:cTn id="47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" dur="1" fill="hold"/>
                                  <p:tgtEl>
                                    <p:spTgt spid="13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до извержения вершина вулкана была покрыта снегом и льдом, то раскаленная лава растапливает 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да, смешанная с пеплом и камнями, образует грязевые потоки, которые несутся вниз, опустошая все на своем пу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язевые потоки со временем уплотняются и образуется особый вид твердой породы- </a:t>
            </a:r>
            <a:r>
              <a:rPr b="1" lang="ru-RU" sz="2000" spc="-1" strike="noStrike">
                <a:solidFill>
                  <a:srgbClr val="00ffcc"/>
                </a:solidFill>
                <a:latin typeface="Arial"/>
              </a:rPr>
              <a:t>вулканический ту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img 4"/>
          <p:cNvPicPr/>
          <p:nvPr/>
        </p:nvPicPr>
        <p:blipFill>
          <a:blip r:embed="rId1"/>
          <a:stretch/>
        </p:blipFill>
        <p:spPr>
          <a:xfrm>
            <a:off x="5508720" y="3429000"/>
            <a:ext cx="3166920" cy="2360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etna1999"/>
          <p:cNvPicPr/>
          <p:nvPr/>
        </p:nvPicPr>
        <p:blipFill>
          <a:blip r:embed="rId2"/>
          <a:stretch/>
        </p:blipFill>
        <p:spPr>
          <a:xfrm>
            <a:off x="324000" y="3789360"/>
            <a:ext cx="3671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троение вулкан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нал, по которому поднимается магма, называется </a:t>
            </a: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жер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ашеобразное углубление на вершине вулкана – это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крате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в переводе с греч.- чаш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продукты извержения, поднявшиеся и выброшенные из жерла вулкана, образуют гору - </a:t>
            </a: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конус вулк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7" descr="схема"/>
          <p:cNvPicPr/>
          <p:nvPr/>
        </p:nvPicPr>
        <p:blipFill>
          <a:blip r:embed="rId1"/>
          <a:stretch/>
        </p:blipFill>
        <p:spPr>
          <a:xfrm>
            <a:off x="4643280" y="1700280"/>
            <a:ext cx="3889440" cy="432108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9"/>
          <p:cNvSpPr/>
          <p:nvPr/>
        </p:nvSpPr>
        <p:spPr>
          <a:xfrm>
            <a:off x="7093080" y="2781360"/>
            <a:ext cx="215640" cy="1942920"/>
          </a:xfrm>
          <a:prstGeom prst="upDownArrow">
            <a:avLst>
              <a:gd name="adj1" fmla="val 50000"/>
              <a:gd name="adj2" fmla="val 179366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6804000" y="2133720"/>
            <a:ext cx="863640" cy="43164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6948360" y="1773360"/>
            <a:ext cx="576360" cy="36036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cc"/>
                                </p:to>
                              </p:animCl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33"/>
                                </p:to>
                              </p:animCl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cccc"/>
                                </p:to>
                              </p:animCl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1" dur="1" fill="hold"/>
                                  <p:tgtEl>
                                    <p:spTgt spid="1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звержение вулкан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4956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вержение вулкана сопровождается подземным гулом, иногда землетрясением, ливн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 время извержения куски раскаленной лавы  выбрасываются на большую высоту-это </a:t>
            </a: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вулканические бомб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8" descr="Картинка 100 из 30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0360" y="1052640"/>
            <a:ext cx="3997080" cy="3000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Картинка 44 из 30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88000" y="4005360"/>
            <a:ext cx="414000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500"/>
                            </p:stCondLst>
                            <p:childTnLst>
                              <p:par>
                                <p:cTn id="18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7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209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Виды вулканов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38512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й высокий вулкан в России-влк.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Ключевская соп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расположен на п-ове Камчатка(4750 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904320" y="836640"/>
            <a:ext cx="32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онусообразный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6" descr="Картинка 1 из 77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08360" y="1341360"/>
            <a:ext cx="2816280" cy="3521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Картинка 3 из 34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4060800"/>
            <a:ext cx="4213440" cy="2797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7" descr="star14"/>
          <p:cNvPicPr/>
          <p:nvPr/>
        </p:nvPicPr>
        <p:blipFill>
          <a:blip r:embed="rId6">
            <a:lum bright="-30000"/>
          </a:blip>
          <a:stretch/>
        </p:blipFill>
        <p:spPr>
          <a:xfrm>
            <a:off x="4716360" y="270828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Щитообразный</a:t>
            </a:r>
            <a:br>
              <a:rPr sz="3200"/>
            </a:br>
            <a:r>
              <a:rPr b="1" i="1" lang="ru-RU" sz="3200" spc="-1" strike="noStrike">
                <a:solidFill>
                  <a:srgbClr val="e3e3ff"/>
                </a:solidFill>
                <a:latin typeface="Arial"/>
              </a:rPr>
              <a:t>вулкан  Килауэа  ( Гавайские острова )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6" name="Picture 5" descr="Картинка 29 из 7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1557360"/>
            <a:ext cx="5904000" cy="3932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Картинка 34 из 78"/>
          <p:cNvPicPr/>
          <p:nvPr/>
        </p:nvPicPr>
        <p:blipFill>
          <a:blip r:embed="rId4"/>
          <a:stretch/>
        </p:blipFill>
        <p:spPr>
          <a:xfrm>
            <a:off x="2556000" y="1916280"/>
            <a:ext cx="3992400" cy="37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700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500"/>
                            </p:stCondLst>
                            <p:childTnLst>
                              <p:par>
                                <p:cTn id="2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4T21:36:49Z</dcterms:created>
  <dc:creator>koor</dc:creator>
  <dc:description>школы №1732 
Г. Москвы СВАО 
Дубовицкой Ирины Юрьевны
</dc:description>
  <dc:language>en-US</dc:language>
  <cp:lastModifiedBy>User</cp:lastModifiedBy>
  <dcterms:modified xsi:type="dcterms:W3CDTF">2012-11-11T13:51:31Z</dcterms:modified>
  <cp:revision>21</cp:revision>
  <dc:subject/>
  <dc:title>ВУЛКАНЫ</dc:title>
</cp:coreProperties>
</file>