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D1B-D9D3-4111-AEB0-76091915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209-C97F-4736-8D1B-9D75B69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BF2-90FA-4BA9-BFB3-01C6B5B9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99E-CAC9-4419-9058-8A01229D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535E-ED10-40D4-9595-E068326F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0E39-1A50-4EA7-8E8E-00AC3C2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CD43-0834-4648-A9FF-3B42BA84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317D-788B-404D-AB89-E724C143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5C04-5E4C-4353-8468-E5549103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0EE9-0CFC-4FF5-A319-9C75C55F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A424-4A4E-4887-88D5-96CBCD74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51D-1C1E-4EEF-96C5-7B8FBECD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CDFA-71C3-48F7-A09D-DE02F0B7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9241-0089-43F4-A28B-A4918A15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B3D6-8DC0-4B57-B053-3684A553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87A-DACA-43DD-B380-1AF0640A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C528-D689-4577-ACA1-7D8B90E9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7EE-12D8-465F-AE01-E2118934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B6D-B6EC-454E-B1A9-159C10F9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093-D2D0-43E4-8F73-F984A9C2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1BA-6DF1-40C9-9B53-4B7CF5D1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C06-1FCF-4177-AF78-3AB74E8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45B-1A57-4105-A5FC-F0390FB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E13-A275-4FB1-8C24-F0AE629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228C-0F80-4992-96E6-4471FB583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9058-6465-4804-9D5B-066EDC6EF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Занимательные задачи по математике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чко-Мегрин Анастас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 «А» класс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ловие задачи №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доске написаны натуральные числа от 1 до 1966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ешается стереть любые два числа и вместо них записать их разность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раз нужно выполнить эту операцию, чтобы на доске осталось одно число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е это число – четное, или нечетно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каждой операции количество чисел уменьшается на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достижения цели потребуется выполнить 1965 опер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а числа одной четности дают четную разность, числа разной четности – нечетну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ждой из этих групп 983 числа. Выполнив 982 операции в группе четных чисел, получим в результате четн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объем 982 нечетных числа на пары и найдем 491 четную раз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тавшееся без пары нечетное число, вступая в контакт с четным, всякий раз будет давать нечетную раз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завершении процесса мы получим нечетный результат. Таким образом, конечный результат зависит только от количества нечетных чис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мечания к задач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мечания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1. Четность конечной разности не зависит от выбора пар чисел, образующих промежуточные раз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ъясняется это тем, что нечетное число дает четную разность лишь в паре с таким же нечет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этому при любом варианте у нас в итоге останется одно нечетн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Рассмотренная задача аналогична задаче, когда следует определить знак произведения сомножителей, имеющих разные зна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шая такую задачу, мы принимаем во внимание лишь отрицательные сомножи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четном их числе результат будет положительным, при нечетном – отрицате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ловие задачи №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2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 правильный тетраэдр МАВС с ребром 1. найдите расстояние между прямыми AL и МО, где L-середина ребра МС, О-центр грани АВ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03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Расстояние между двумя скрещивающимися прямыми - это длина перпендикуляра, опущенного из одной прямой, к плоскости, параллельной этой прямой и содержащей вторую прямую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14800" y="1800360"/>
            <a:ext cx="47624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Строим проекцию AK отрезка AL на плоскость ABC. Плоскость AKL перпендикулярна плоскости ABC, параллельна прямой MO и содержит прямую AL. Значит, искомая длина - это длина перпендикуляра ON, опущенного из точки O к AK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Дальше всё можно найти по теореме Пифагора либо методом координат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твете получится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/(2*корень квадратный 7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: 1/(2*корень квадратный 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ловия задачи №6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йти все значения параметра a, при которых функция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 = x^2 - |x-a^2| - 9x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еет хотя бы одну точку максиму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кроем модуль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x &lt;= a^2: f(x) = x^2 - 8x - a^2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x &gt; a^2: f(x) = x^2 - 10x + a^2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зводная левой части: f'(x) = 2x - 8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зводная правой части: f'(x) = 2x - 1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левая, и правая части могут иметь только минимум. Значит, единственный максимум у функции f(x) может быть в том и только в том случае, если в точке x=a^2 левая часть возрастает (то есть 2x-8 &gt; 0), а правая — убывает (то есть 2x-10 &lt; 0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895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 есть, получаем систему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x-8 &gt; 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x-10 &lt; 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a^2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уд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&lt; a^2 &lt;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∈ (-корень квадратный5; -2) ∪ (2; корень квадратный 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914720" cy="3686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588840" y="5904000"/>
            <a:ext cx="53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вет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-корень квадратный 5; -2) ∪ (2; кор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вадратный 5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ловие задачи №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е систему уравнений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y+3cosx = 0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ln(cos(x))+1)(y-1) = 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ловия задачи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тырёхугольник АВСД вписан в окружность. Лучи ВА  и  СД пересекаются в точк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а лучи ВС и АД в - точке К. Найдите угол ВАД если угол СКД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 = 60 граду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а система равносильна совокупности из двух систем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{2y+3cos(x)=0, y-1=0, cos(x) &gt; 0}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 = 1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+3cos(x) = 0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os(x) = -2/3 &lt; 0, следовательно, у этой системы нет решен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{2y+3cos(x)=0, ln(cos(x))+1 = 0}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ln(cos(x)) = -1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os(x) = 1/e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x = ±arccos(1/e) + 2*π*n, n ∈ Z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y+3/e = 0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 = -3e/2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{y = -3e/2; x = ±arccos(1/e) + 2*π*n, n ∈ Z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чко-Мегрин Анастас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 «А» кла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еше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им угол ВАД = альфа, тогда по свойству противолежащих углов вписанного четырёхугольника угол ВСД = 180 – альфа. Поскольку  угол ВАД - внешний угол треугольник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то угод     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+ угол А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альфа. Аналогично угол ВСД внешний угол треугольника СДК, и поэтому угол СКД+угол СДК = 180 - альф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029560" y="1942560"/>
            <a:ext cx="3999960" cy="2858040"/>
            <a:chOff x="5029560" y="1942560"/>
            <a:chExt cx="3999960" cy="2858040"/>
          </a:xfrm>
        </p:grpSpPr>
        <p:sp>
          <p:nvSpPr>
            <p:cNvPr id="105" name=""/>
            <p:cNvSpPr/>
            <p:nvPr/>
          </p:nvSpPr>
          <p:spPr>
            <a:xfrm>
              <a:off x="5143680" y="1942560"/>
              <a:ext cx="1713960" cy="20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" name=""/>
            <p:cNvCxnSpPr>
              <a:stCxn id="105" idx="1"/>
            </p:cNvCxnSpPr>
            <p:nvPr/>
          </p:nvCxnSpPr>
          <p:spPr>
            <a:xfrm>
              <a:off x="5394600" y="2244240"/>
              <a:ext cx="3291840" cy="1070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7" name=""/>
            <p:cNvSpPr/>
            <p:nvPr/>
          </p:nvSpPr>
          <p:spPr>
            <a:xfrm>
              <a:off x="5371920" y="2171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71920" y="2171520"/>
              <a:ext cx="685440" cy="26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057720" y="2743200"/>
              <a:ext cx="79992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829480" y="3313800"/>
              <a:ext cx="2856960" cy="68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29560" y="1942560"/>
              <a:ext cx="3423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7640" y="2400480"/>
              <a:ext cx="343800" cy="22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86440" y="2971440"/>
              <a:ext cx="3430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</a:rPr>
                <a:t>Л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01240" y="4457880"/>
              <a:ext cx="3423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L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1160" y="3886200"/>
              <a:ext cx="3423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001040"/>
              <a:ext cx="34308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метим, что углы А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СДК равны, как вертикаль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этому, вычитая из второго равенства первое, получи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Д – 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 = 180 – 2альфа. Но по условию угол СКД – угол 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 = 60 градусов. Следовательно, альфа = углу ВАД = 60 градусов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твет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6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ловие задачи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ана правильная треугольная призма 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BCA1B1C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сторона основания которой равна 2, диагональ боковой грани корень из пяти. Найти угол между плоскостью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1B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и плоскостью основания приз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94" descr="http://latex.codecogs.com/gif.latex?\80dpi%20\sqrt%7b5%7d"/>
          <p:cNvPicPr/>
          <p:nvPr/>
        </p:nvPicPr>
        <p:blipFill>
          <a:blip r:embed="rId1"/>
          <a:stretch/>
        </p:blipFill>
        <p:spPr>
          <a:xfrm>
            <a:off x="0" y="0"/>
            <a:ext cx="1904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76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Решени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означим середину ребр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буквой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Отрезк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1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ерпендикулярны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так как треугольник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равносторонний, а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1B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равнобедренный. Следовательно, угол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1H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линейный угол двугранного угла с граням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CA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2" descr="ЕГЭ по математике 2010"/>
          <p:cNvPicPr/>
          <p:nvPr/>
        </p:nvPicPr>
        <p:blipFill>
          <a:blip r:embed="rId1"/>
          <a:stretch/>
        </p:blipFill>
        <p:spPr>
          <a:xfrm>
            <a:off x="5257800" y="1295280"/>
            <a:ext cx="347652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мотрим треугольник A1AB: по теореме Пифагора найдем AA1=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мотрим треугольник AHB: по теореме Пифагора найдем AH= корень из трё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треугольника HAA1 находи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1НА= АА1 \ АН = 1\корень из трёх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сюда находим: угол A1HA=30 граду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тв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ловие задачи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едение двух последовательных натуральных чисел равно 210. Найди эти числ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шение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пособ 1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ожим число 210 на простые множите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0 = 2 · 3 · 5 · 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уппируем 4 полученных однозначных сомножителя попарно исходя из условия минимальной разности двух искомых чисе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5181480"/>
            <a:ext cx="76201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I</cp:lastModifiedBy>
  <dcterms:modified xsi:type="dcterms:W3CDTF">2012-03-25T15:22:0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