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B719-21DC-4D38-A90F-860307A53F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40CA-358D-45A9-8BA5-AFB46F076B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807D-CEC4-4DD3-851A-EDAEF374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0A6-9665-4CB8-BAFC-27154167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36655-10F7-4EB4-8A79-78182DE8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8A036-D1B5-4CC7-BCDA-17F0AAF9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3D95E-89DD-4218-A181-91C1B560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CE5B4-A33D-4854-ADC5-FBB01454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21FC4-E0EC-4225-A073-CF444C3C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637AB-7984-4426-83B8-792E343A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BC985-9446-4659-90CB-4CC541B8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48039-D531-4FCD-897B-5CB47858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71D82-22B9-44E9-89C5-F697EFBF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F1D-8D67-4B98-AB81-68A15BA5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C24-6DBD-4B8D-A1BA-8E1219C9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8B4E-336E-4378-BD8E-B9405709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1799-07E8-4AE7-BDD4-6B9454CB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5AF0-E069-4E05-B99B-38162E13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CDAC-0280-488D-BF6B-04080938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A3E3-4F00-416E-B21A-1640ABE0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A00A-FAF3-411F-B281-B1455CEC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7915-E5F8-4FF4-AADF-BEAD1E3C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6E6-5F04-4418-9E3D-CA96C0DD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C7CB-450B-4D46-871B-065F718D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5F0D-D110-462F-A1DF-90F08BEC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53CB-01DB-4065-9645-AC98DB3F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6432-ACE9-4175-97AA-546A5D96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142F-32F9-4EFE-9A97-536DEEE4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58AE1-FFEC-4D82-86BE-04D20BDC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28E51-3814-41D0-8C20-F59DB3C0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23C8F-F602-448B-AB35-859E4809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BC03E-DC6C-42ED-8B89-D9C11B02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33D6E-0F53-430B-9F0E-3B7DA662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CCF-8BD8-493F-A7E4-B851331F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BE54E-B513-4734-84C9-15E29657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AB5A-4DBB-46AB-9B69-16840314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288BD-6C23-4864-AD1F-F53A9018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E0BE1-599D-4984-895B-3AE593E9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F0552-6645-4602-8E3B-B088145D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ADA67-8E95-4CFB-BC9E-63564A3B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6625F-5A64-434E-BA93-CBD17AA8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E39E1-9039-4FB0-9FAE-13981635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CA111-DA74-4D6F-B79E-5608F652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C2F10-56E7-45E3-B916-6C18B0A3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6756-AF83-4A7F-BC81-8F3A091E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0D874-9578-4A94-B446-D88FD5E7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78663-0AF1-4934-BC39-4F41380E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5A832-4BB5-4987-9F4E-692E4345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F7320-AC36-4987-A58C-28B40AFF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542CB-C7CE-4AA6-B900-7D11665F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42A6C-3FB6-45EA-A5B2-DB6BEDF5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C2B85-57B6-4B17-A678-BD867E7A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14788-621D-4A2F-B984-4D6F84BD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494B3-E1E8-4E04-B95F-3CD7A8B6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FA7A5-47EB-4309-9685-0F04D2E6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4611-AD33-473A-A21C-3D0936D7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F84D2-E8A4-4995-8B61-5C7EC51C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EEA8F-8393-4217-B109-9BAFD4C4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7470B-C746-444F-8AA7-AED2CD17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69802-5ED3-4F22-8D7A-C963E22A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28C8C-4E8D-4AA6-97E7-2EA42F71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D0453-A5E3-4C08-B724-11CE211E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ADAE9-000E-4828-A98A-4D833D79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3E22C-591F-4F84-BC45-F268DFBC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B793C-E09E-457B-9E55-A6BDE018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86A1E-2347-405B-B565-6581ACF6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565-4E16-4672-8344-530E49CE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E5BF4-2B57-46F7-9648-3E7404E9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2CDA8-CC0F-4774-8F0C-2DB1CA6D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25E26-52FC-488F-908F-C25AE24C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44607-FBA5-4476-9873-6B58EA3E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7A0CF-461A-41AA-A894-6DA22A08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0D265-D86B-4781-97F8-5F2E2EE2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B2AA6-B1AE-4BD6-AC6A-76E0B789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3BF4D-051F-4836-999E-CC6793A8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BD5E6-AF87-4211-92FB-F54D4DFA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BE9DF-8EF1-4578-9B5C-A195D765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FF4A-4EDB-4080-B29E-B0AB3887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F2E65-B3EE-4D69-8A88-F9B4F665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E4034-0FE0-4479-9125-22206379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B3EBB-8FB6-43FF-A23F-5B2C856A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0EB93-6628-4E47-BEA1-0680365A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37E21-4520-473A-A979-48AC0B90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46EB0-4B02-4D8A-BE2A-2EB7CD94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FC54A-6427-4215-BD6E-C4F5F985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0B4DA-6255-40AC-A533-A933C75F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CE5A3-C4EB-40B0-84A8-F5B3ABCC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67D3F-33D4-410A-90A6-23D09E57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858-1298-4A63-AAD9-53D5A0B0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843E3-B822-408C-8E78-1CB5C8E9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B950A-E4FC-409C-B785-C21474C7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F0079-3C51-489E-8525-879006B6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09197-AE4F-4833-BA6D-4DAC7AFC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90AAA-BCF6-47B3-8054-2CBBC7F6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4EC78-A4CA-4689-9D42-0C89E3C1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B2C19-1A0E-40EC-B9E5-FC8553D8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316F4-E41B-4869-8394-6A99B92E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11A49-A315-442F-BE5A-EBBB2C7A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9D09F-1EAA-4C74-A843-878F87AB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25F-007A-4B09-A00D-9502F513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1738D-9FB7-474D-8B46-8340144B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77629-7515-4CEC-81D6-4185C229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C01CA-32C2-4247-BBD3-A1469745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D6C03-5C4C-4703-B7C6-AE63DDDE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B2E77-4C0D-466A-B10B-25F9FD37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3E26B-3000-4F78-A584-873EAAFC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E7266-66FC-4EC7-AEAE-605F9192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21CD2-4EC6-4C8B-AED9-5F2935C7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59AFC-7A72-4631-A39F-FFB7B511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ED22E-616D-4E6F-81AF-FE1BDA47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22AC-76CC-4F15-A2BA-33D4A884BACF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0780-81E2-4578-B060-52074D95925A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A604-3FB1-40E5-9F48-4317905EF7D0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ABEE-EB89-4780-AE7F-4EA338F5E4D8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840C-747D-449A-86D9-94A410A975AF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C97E-07F2-4779-84A5-F79B72671236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84B4-D1A2-4C0F-A97F-78609CDB8D42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A86A-7DFD-4E8D-A6BC-9FC192B226B8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DF96-25FC-4E66-8421-707F94C49747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298440" y="1170000"/>
            <a:ext cx="8474040" cy="24210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04560" y="35049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105c"/>
                </a:solidFill>
                <a:latin typeface="Monotype Corsiva"/>
              </a:rPr>
              <a:t>Яковенко Наталия Юрьевна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105c"/>
                </a:solidFill>
                <a:latin typeface="Monotype Corsiva"/>
              </a:rPr>
              <a:t>воспитатель МАДОУ д/с №340 «Берёзка»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105c"/>
                </a:solidFill>
                <a:latin typeface="Monotype Corsiva"/>
              </a:rPr>
              <a:t>г. Казань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92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24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699760" cy="18590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0105c"/>
                </a:solidFill>
                <a:latin typeface="Franklin Gothic Book"/>
              </a:rPr>
              <a:t>	</a:t>
            </a:r>
            <a:r>
              <a:rPr b="0" lang="ru-RU" sz="3600" spc="-1" strike="noStrike">
                <a:solidFill>
                  <a:srgbClr val="b0105c"/>
                </a:solidFill>
                <a:latin typeface="Comic Sans MS"/>
              </a:rPr>
              <a:t>Повышение грамотности родителей в области физического развития детей, организация совместных действий родителей, педагогов, детей, направленных на укрепление здоровья воспитанников.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699760" cy="16941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7fd13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0105c"/>
                </a:solidFill>
                <a:latin typeface="Comic Sans MS"/>
              </a:rPr>
              <a:t>Выявление готовности семьи к активному взаимодействию с ДОУ по охране и укреплению физического и психического здоровья детей;</a:t>
            </a:r>
            <a:endParaRPr b="0" lang="en-US" sz="2500" spc="-1" strike="noStrike">
              <a:solidFill>
                <a:srgbClr val="4e5b6f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7fd13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0105c"/>
                </a:solidFill>
                <a:latin typeface="Comic Sans MS"/>
              </a:rPr>
              <a:t> </a:t>
            </a:r>
            <a:r>
              <a:rPr b="0" lang="ru-RU" sz="2500" spc="-1" strike="noStrike">
                <a:solidFill>
                  <a:srgbClr val="b0105c"/>
                </a:solidFill>
                <a:latin typeface="Comic Sans MS"/>
              </a:rPr>
              <a:t>Повышение педагогической культуры родителей путем их просвещения по организации физического воспитания детей в условиях семейного быта;</a:t>
            </a:r>
            <a:endParaRPr b="0" lang="en-US" sz="2500" spc="-1" strike="noStrike">
              <a:solidFill>
                <a:srgbClr val="4e5b6f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7fd13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0105c"/>
                </a:solidFill>
                <a:latin typeface="Comic Sans MS"/>
              </a:rPr>
              <a:t> </a:t>
            </a:r>
            <a:r>
              <a:rPr b="0" lang="ru-RU" sz="2500" spc="-1" strike="noStrike">
                <a:solidFill>
                  <a:srgbClr val="b0105c"/>
                </a:solidFill>
                <a:latin typeface="Comic Sans MS"/>
              </a:rPr>
              <a:t>Воспитание потребности в физических упражнениях и подвижных играх;</a:t>
            </a:r>
            <a:endParaRPr b="0" lang="en-US" sz="2500" spc="-1" strike="noStrike">
              <a:solidFill>
                <a:srgbClr val="4e5b6f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7fd13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0105c"/>
                </a:solidFill>
                <a:latin typeface="Comic Sans MS"/>
              </a:rPr>
              <a:t>Гармонизация  детско-родительских отношений;</a:t>
            </a:r>
            <a:endParaRPr b="0" lang="en-US" sz="2500" spc="-1" strike="noStrike">
              <a:solidFill>
                <a:srgbClr val="4e5b6f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7fd13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0105c"/>
                </a:solidFill>
                <a:latin typeface="Comic Sans MS"/>
              </a:rPr>
              <a:t> </a:t>
            </a:r>
            <a:r>
              <a:rPr b="0" lang="ru-RU" sz="2500" spc="-1" strike="noStrike">
                <a:solidFill>
                  <a:srgbClr val="b0105c"/>
                </a:solidFill>
                <a:latin typeface="Comic Sans MS"/>
              </a:rPr>
              <a:t>Поддержка у родителей уверенности в собственных педагогических возможностях;</a:t>
            </a:r>
            <a:endParaRPr b="0" lang="en-US" sz="2500" spc="-1" strike="noStrike">
              <a:solidFill>
                <a:srgbClr val="4e5b6f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7fd13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0105c"/>
                </a:solidFill>
                <a:latin typeface="Comic Sans MS"/>
              </a:rPr>
              <a:t> </a:t>
            </a:r>
            <a:r>
              <a:rPr b="0" lang="ru-RU" sz="2500" spc="-1" strike="noStrike">
                <a:solidFill>
                  <a:srgbClr val="b0105c"/>
                </a:solidFill>
                <a:latin typeface="Comic Sans MS"/>
              </a:rPr>
              <a:t>Установление партнерских отношений с семьей каждого ребенка.</a:t>
            </a:r>
            <a:endParaRPr b="0" lang="en-US" sz="25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5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Овал 3"/>
          <p:cNvSpPr/>
          <p:nvPr/>
        </p:nvSpPr>
        <p:spPr>
          <a:xfrm>
            <a:off x="1905120" y="457200"/>
            <a:ext cx="5410080" cy="1143000"/>
          </a:xfrm>
          <a:prstGeom prst="ellipse">
            <a:avLst/>
          </a:prstGeom>
          <a:solidFill>
            <a:srgbClr val="e8eb6f"/>
          </a:solidFill>
          <a:ln w="25560">
            <a:solidFill>
              <a:srgbClr val="3396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98440" y="603360"/>
            <a:ext cx="8699400" cy="1128600"/>
          </a:xfrm>
          <a:prstGeom prst="rect">
            <a:avLst/>
          </a:prstGeom>
          <a:ln w="0">
            <a:noFill/>
          </a:ln>
        </p:spPr>
      </p:pic>
      <p:sp>
        <p:nvSpPr>
          <p:cNvPr id="414" name="Тройная стрелка влево/вправо/вверх 5"/>
          <p:cNvSpPr/>
          <p:nvPr/>
        </p:nvSpPr>
        <p:spPr>
          <a:xfrm rot="10800000">
            <a:off x="2438280" y="1751760"/>
            <a:ext cx="4191120" cy="838440"/>
          </a:xfrm>
          <a:custGeom>
            <a:avLst/>
            <a:gdLst>
              <a:gd name="textAreaLeft" fmla="*/ 104760 w 4191120"/>
              <a:gd name="textAreaRight" fmla="*/ 4086360 w 4191120"/>
              <a:gd name="textAreaTop" fmla="*/ 524160 h 838440"/>
              <a:gd name="textAreaBottom" fmla="*/ 733680 h 838440"/>
            </a:gdLst>
            <a:ahLst/>
            <a:rect l="textAreaLeft" t="textAreaTop" r="textAreaRight" b="textAreaBottom"/>
            <a:pathLst>
              <a:path w="4191000" h="838200">
                <a:moveTo>
                  <a:pt x="0" y="628650"/>
                </a:moveTo>
                <a:lnTo>
                  <a:pt x="209550" y="419100"/>
                </a:lnTo>
                <a:lnTo>
                  <a:pt x="209550" y="523875"/>
                </a:lnTo>
                <a:lnTo>
                  <a:pt x="1990725" y="523875"/>
                </a:lnTo>
                <a:lnTo>
                  <a:pt x="1990725" y="209550"/>
                </a:lnTo>
                <a:lnTo>
                  <a:pt x="1885950" y="209550"/>
                </a:lnTo>
                <a:lnTo>
                  <a:pt x="2095500" y="0"/>
                </a:lnTo>
                <a:lnTo>
                  <a:pt x="2305050" y="209550"/>
                </a:lnTo>
                <a:lnTo>
                  <a:pt x="2200275" y="209550"/>
                </a:lnTo>
                <a:lnTo>
                  <a:pt x="2200275" y="523875"/>
                </a:lnTo>
                <a:lnTo>
                  <a:pt x="3981450" y="523875"/>
                </a:lnTo>
                <a:lnTo>
                  <a:pt x="3981450" y="419100"/>
                </a:lnTo>
                <a:lnTo>
                  <a:pt x="4191000" y="628650"/>
                </a:lnTo>
                <a:lnTo>
                  <a:pt x="3981450" y="838200"/>
                </a:lnTo>
                <a:lnTo>
                  <a:pt x="3981450" y="733425"/>
                </a:lnTo>
                <a:lnTo>
                  <a:pt x="209550" y="733425"/>
                </a:lnTo>
                <a:lnTo>
                  <a:pt x="209550" y="838200"/>
                </a:lnTo>
                <a:close/>
              </a:path>
            </a:pathLst>
          </a:custGeom>
          <a:solidFill>
            <a:srgbClr val="3396c7"/>
          </a:solidFill>
          <a:ln w="25560">
            <a:solidFill>
              <a:srgbClr val="3396c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6"/>
          <p:cNvSpPr/>
          <p:nvPr/>
        </p:nvSpPr>
        <p:spPr>
          <a:xfrm>
            <a:off x="304920" y="1752480"/>
            <a:ext cx="2133360" cy="1752840"/>
          </a:xfrm>
          <a:prstGeom prst="ellipse">
            <a:avLst/>
          </a:prstGeom>
          <a:solidFill>
            <a:srgbClr val="e8eb6f"/>
          </a:solidFill>
          <a:ln w="25560">
            <a:solidFill>
              <a:srgbClr val="3396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Овал 8"/>
          <p:cNvSpPr/>
          <p:nvPr/>
        </p:nvSpPr>
        <p:spPr>
          <a:xfrm>
            <a:off x="3429000" y="2743200"/>
            <a:ext cx="2133720" cy="1752480"/>
          </a:xfrm>
          <a:prstGeom prst="ellipse">
            <a:avLst/>
          </a:prstGeom>
          <a:solidFill>
            <a:srgbClr val="e8eb6f"/>
          </a:solidFill>
          <a:ln w="25560">
            <a:solidFill>
              <a:srgbClr val="3396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Овал 9"/>
          <p:cNvSpPr/>
          <p:nvPr/>
        </p:nvSpPr>
        <p:spPr>
          <a:xfrm>
            <a:off x="6629400" y="1676520"/>
            <a:ext cx="2133720" cy="1752480"/>
          </a:xfrm>
          <a:prstGeom prst="ellipse">
            <a:avLst/>
          </a:prstGeom>
          <a:solidFill>
            <a:srgbClr val="e8eb6f"/>
          </a:solidFill>
          <a:ln w="25560">
            <a:solidFill>
              <a:srgbClr val="3396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459720" y="2286000"/>
            <a:ext cx="192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Анали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3402720" y="3352680"/>
            <a:ext cx="229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Информацио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6585480" y="2286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Образов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ашивка 15"/>
          <p:cNvSpPr/>
          <p:nvPr/>
        </p:nvSpPr>
        <p:spPr>
          <a:xfrm rot="5400000">
            <a:off x="1142640" y="3733920"/>
            <a:ext cx="484200" cy="4842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3396c7"/>
          </a:solidFill>
          <a:ln w="25560">
            <a:solidFill>
              <a:srgbClr val="3396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ашивка 16"/>
          <p:cNvSpPr/>
          <p:nvPr/>
        </p:nvSpPr>
        <p:spPr>
          <a:xfrm rot="5400000">
            <a:off x="4266720" y="4648320"/>
            <a:ext cx="484200" cy="4842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3396c7"/>
          </a:solidFill>
          <a:ln w="25560">
            <a:solidFill>
              <a:srgbClr val="3396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Нашивка 17"/>
          <p:cNvSpPr/>
          <p:nvPr/>
        </p:nvSpPr>
        <p:spPr>
          <a:xfrm rot="5400000">
            <a:off x="7543440" y="3581280"/>
            <a:ext cx="484200" cy="4842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3396c7"/>
          </a:solidFill>
          <a:ln w="25560">
            <a:solidFill>
              <a:srgbClr val="3396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14"/>
          <p:cNvSpPr/>
          <p:nvPr/>
        </p:nvSpPr>
        <p:spPr>
          <a:xfrm>
            <a:off x="0" y="441972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Анке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Монитор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Посещение семей на д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2"/>
          <p:cNvSpPr/>
          <p:nvPr/>
        </p:nvSpPr>
        <p:spPr>
          <a:xfrm>
            <a:off x="2209680" y="5410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Подбор наглядн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Оформление  папок – передвиж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Проведение выстав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Составление памяток 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23"/>
          <p:cNvSpPr/>
          <p:nvPr/>
        </p:nvSpPr>
        <p:spPr>
          <a:xfrm>
            <a:off x="6172200" y="40384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Круглые ст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Вечера вопросов и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Инд. рекоменд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Дни открытых две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Физкультурные дос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Выст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Игровы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с участием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Семейные про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Мастер-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250"/>
                            </p:stCondLst>
                            <p:childTnLst>
                              <p:par>
                                <p:cTn id="1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250"/>
                            </p:stCondLst>
                            <p:childTnLst>
                              <p:par>
                                <p:cTn id="1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250"/>
                            </p:stCondLst>
                            <p:childTnLst>
                              <p:par>
                                <p:cTn id="1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5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550"/>
                            </p:stCondLst>
                            <p:childTnLst>
                              <p:par>
                                <p:cTn id="1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900"/>
                            </p:stCondLst>
                            <p:childTnLst>
                              <p:par>
                                <p:cTn id="1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900"/>
                            </p:stCondLst>
                            <p:childTnLst>
                              <p:par>
                                <p:cTn id="1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1300"/>
                            </p:stCondLst>
                            <p:childTnLst>
                              <p:par>
                                <p:cTn id="1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3900"/>
                            </p:stCondLst>
                            <p:childTnLst>
                              <p:par>
                                <p:cTn id="1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900"/>
                            </p:stCondLst>
                            <p:childTnLst>
                              <p:par>
                                <p:cTn id="1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300"/>
                            </p:stCondLst>
                            <p:childTnLst>
                              <p:par>
                                <p:cTn id="1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130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Овал 17"/>
          <p:cNvSpPr/>
          <p:nvPr/>
        </p:nvSpPr>
        <p:spPr>
          <a:xfrm rot="19467600">
            <a:off x="135000" y="1201320"/>
            <a:ext cx="2359080" cy="121932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18"/>
          <p:cNvSpPr/>
          <p:nvPr/>
        </p:nvSpPr>
        <p:spPr>
          <a:xfrm>
            <a:off x="3505320" y="304920"/>
            <a:ext cx="2514600" cy="121896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19"/>
          <p:cNvSpPr/>
          <p:nvPr/>
        </p:nvSpPr>
        <p:spPr>
          <a:xfrm rot="2170800">
            <a:off x="6864120" y="1171440"/>
            <a:ext cx="2268360" cy="11430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20"/>
          <p:cNvSpPr/>
          <p:nvPr/>
        </p:nvSpPr>
        <p:spPr>
          <a:xfrm>
            <a:off x="380880" y="3429000"/>
            <a:ext cx="2225880" cy="11430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Овал 21"/>
          <p:cNvSpPr/>
          <p:nvPr/>
        </p:nvSpPr>
        <p:spPr>
          <a:xfrm rot="1237800">
            <a:off x="1726920" y="5289480"/>
            <a:ext cx="2739960" cy="122076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22"/>
          <p:cNvSpPr/>
          <p:nvPr/>
        </p:nvSpPr>
        <p:spPr>
          <a:xfrm>
            <a:off x="6553080" y="3351240"/>
            <a:ext cx="2395800" cy="122076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23"/>
          <p:cNvSpPr/>
          <p:nvPr/>
        </p:nvSpPr>
        <p:spPr>
          <a:xfrm rot="20640600">
            <a:off x="5181480" y="5306760"/>
            <a:ext cx="2490840" cy="123192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Блок-схема: знак завершения 24"/>
          <p:cNvSpPr/>
          <p:nvPr/>
        </p:nvSpPr>
        <p:spPr>
          <a:xfrm>
            <a:off x="2895480" y="2666880"/>
            <a:ext cx="3581640" cy="1067040"/>
          </a:xfrm>
          <a:prstGeom prst="flowChartTerminator">
            <a:avLst/>
          </a:prstGeom>
          <a:solidFill>
            <a:srgbClr val="ffff00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Franklin Gothic Book"/>
              </a:rPr>
              <a:t>ИнИИамвамва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26"/>
          <p:cNvSpPr/>
          <p:nvPr/>
        </p:nvSpPr>
        <p:spPr>
          <a:xfrm>
            <a:off x="3200400" y="27432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Интеграция обла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8"/>
          <p:cNvSpPr/>
          <p:nvPr/>
        </p:nvSpPr>
        <p:spPr>
          <a:xfrm rot="19397400">
            <a:off x="451440" y="1514520"/>
            <a:ext cx="177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Позна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29"/>
          <p:cNvSpPr/>
          <p:nvPr/>
        </p:nvSpPr>
        <p:spPr>
          <a:xfrm>
            <a:off x="3657600" y="5335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Физическая культу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30"/>
          <p:cNvSpPr/>
          <p:nvPr/>
        </p:nvSpPr>
        <p:spPr>
          <a:xfrm rot="2158800">
            <a:off x="7031520" y="14320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«Здоровь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32"/>
          <p:cNvSpPr/>
          <p:nvPr/>
        </p:nvSpPr>
        <p:spPr>
          <a:xfrm>
            <a:off x="533520" y="3657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Му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3"/>
          <p:cNvSpPr/>
          <p:nvPr/>
        </p:nvSpPr>
        <p:spPr>
          <a:xfrm>
            <a:off x="6477120" y="3733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Социализац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34"/>
          <p:cNvSpPr/>
          <p:nvPr/>
        </p:nvSpPr>
        <p:spPr>
          <a:xfrm rot="1320600">
            <a:off x="1837800" y="5647320"/>
            <a:ext cx="24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Коммуникац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35"/>
          <p:cNvSpPr/>
          <p:nvPr/>
        </p:nvSpPr>
        <p:spPr>
          <a:xfrm rot="20589600">
            <a:off x="5392800" y="56674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Безопас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Прямая со стрелкой 37"/>
          <p:cNvCxnSpPr>
            <a:stCxn id="434" idx="0"/>
            <a:endCxn id="428" idx="4"/>
          </p:cNvCxnSpPr>
          <p:nvPr/>
        </p:nvCxnSpPr>
        <p:spPr>
          <a:xfrm flipV="1">
            <a:off x="4685400" y="1523160"/>
            <a:ext cx="76680" cy="1143720"/>
          </a:xfrm>
          <a:prstGeom prst="straightConnector1">
            <a:avLst/>
          </a:prstGeom>
          <a:ln w="100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44" name="Прямая со стрелкой 39"/>
          <p:cNvCxnSpPr/>
          <p:nvPr/>
        </p:nvCxnSpPr>
        <p:spPr>
          <a:xfrm flipV="1">
            <a:off x="6324120" y="2133360"/>
            <a:ext cx="1220040" cy="762480"/>
          </a:xfrm>
          <a:prstGeom prst="straightConnector1">
            <a:avLst/>
          </a:prstGeom>
          <a:ln w="100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45" name="Прямая со стрелкой 41"/>
          <p:cNvCxnSpPr/>
          <p:nvPr/>
        </p:nvCxnSpPr>
        <p:spPr>
          <a:xfrm flipH="1" flipV="1">
            <a:off x="1980360" y="1980360"/>
            <a:ext cx="1143720" cy="839160"/>
          </a:xfrm>
          <a:prstGeom prst="straightConnector1">
            <a:avLst/>
          </a:prstGeom>
          <a:ln w="100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46" name="Прямая со стрелкой 43"/>
          <p:cNvCxnSpPr/>
          <p:nvPr/>
        </p:nvCxnSpPr>
        <p:spPr>
          <a:xfrm flipH="1">
            <a:off x="2514240" y="3581280"/>
            <a:ext cx="534240" cy="153360"/>
          </a:xfrm>
          <a:prstGeom prst="straightConnector1">
            <a:avLst/>
          </a:prstGeom>
          <a:ln w="100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47" name="Прямая со стрелкой 46"/>
          <p:cNvCxnSpPr/>
          <p:nvPr/>
        </p:nvCxnSpPr>
        <p:spPr>
          <a:xfrm>
            <a:off x="6324120" y="3504960"/>
            <a:ext cx="381960" cy="229320"/>
          </a:xfrm>
          <a:prstGeom prst="straightConnector1">
            <a:avLst/>
          </a:prstGeom>
          <a:ln w="100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48" name="Прямая со стрелкой 48"/>
          <p:cNvCxnSpPr/>
          <p:nvPr/>
        </p:nvCxnSpPr>
        <p:spPr>
          <a:xfrm flipH="1">
            <a:off x="3200040" y="3809880"/>
            <a:ext cx="915120" cy="1448640"/>
          </a:xfrm>
          <a:prstGeom prst="straightConnector1">
            <a:avLst/>
          </a:prstGeom>
          <a:ln w="100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49" name="Прямая со стрелкой 50"/>
          <p:cNvCxnSpPr/>
          <p:nvPr/>
        </p:nvCxnSpPr>
        <p:spPr>
          <a:xfrm>
            <a:off x="5256720" y="3809520"/>
            <a:ext cx="762840" cy="1600920"/>
          </a:xfrm>
          <a:prstGeom prst="straightConnector1">
            <a:avLst/>
          </a:prstGeom>
          <a:ln w="10080">
            <a:solidFill>
              <a:srgbClr val="7fd13b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587520" y="1371600"/>
            <a:ext cx="7268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Comic Sans MS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Comic Sans MS"/>
              </a:rPr>
              <a:t>з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Comic Sans MS"/>
              </a:rPr>
              <a:t>внимание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5:39:22Z</dcterms:created>
  <dc:creator>Таня</dc:creator>
  <dc:description/>
  <dc:language>en-US</dc:language>
  <cp:lastModifiedBy>Настя</cp:lastModifiedBy>
  <dcterms:modified xsi:type="dcterms:W3CDTF">2012-11-11T18:35:33Z</dcterms:modified>
  <cp:revision>66</cp:revision>
  <dc:subject/>
  <dc:title>Слайд 1</dc:title>
</cp:coreProperties>
</file>