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6.wmf" ContentType="image/x-wmf"/>
  <Override PartName="/ppt/media/image5.jpeg" ContentType="image/jpeg"/>
  <Override PartName="/ppt/media/image27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082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082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082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082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475920"/>
            <a:ext cx="82184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82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082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082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082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082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475920"/>
            <a:ext cx="821844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082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082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rGeometrySlaid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ForGeometrySlaid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7" descr="ForGeometryMaster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Rectangle 2" descr=""/>
          <p:cNvPicPr/>
          <p:nvPr/>
        </p:nvPicPr>
        <p:blipFill>
          <a:blip r:embed="rId1"/>
          <a:stretch/>
        </p:blipFill>
        <p:spPr>
          <a:xfrm>
            <a:off x="1042920" y="2130480"/>
            <a:ext cx="7201080" cy="146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8 А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314880" y="5877000"/>
            <a:ext cx="234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МБОУ СОШ №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г.Ков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124000" y="479736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Учитель: Евсеева Лидия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1129320"/>
            <a:ext cx="76327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побег цикория. От основного стебля образовался отросток. Тут же расположился первый листок. Отросток делает сильный выброс в пространство, останавливается, выпускает листок, но уже короче первого, снова делает выброс в пространство, но уже меньшей силы, выпускает листок еще меньшего размера и снова выбр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ервый выброс принять за 100 единиц, то второй равен 62 единицам, третий – 38, четвертый – 24 и т.д. Длина лепестков тоже подчинена золотой пропорции. В росте, завоевании пространства растение сохраняло определенные пропорции. Импульсы его роста постепенно уменьшались в пропорции золотого с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0" descr="C:\Documents and Settings\Администратор\Рабочий стол\ИТ\18.gif"/>
          <p:cNvPicPr/>
          <p:nvPr/>
        </p:nvPicPr>
        <p:blipFill>
          <a:blip r:embed="rId1"/>
          <a:stretch/>
        </p:blipFill>
        <p:spPr>
          <a:xfrm>
            <a:off x="826920" y="3933720"/>
            <a:ext cx="7490160" cy="18194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971640" y="549360"/>
            <a:ext cx="7215120" cy="459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лото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чение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4" descr="C:\Documents and Settings\Администратор\Рабочий стол\ИТ\19.jpg"/>
          <p:cNvPicPr/>
          <p:nvPr/>
        </p:nvPicPr>
        <p:blipFill>
          <a:blip r:embed="rId1"/>
          <a:stretch/>
        </p:blipFill>
        <p:spPr>
          <a:xfrm>
            <a:off x="1692360" y="2781360"/>
            <a:ext cx="2303280" cy="18828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C:\Documents and Settings\Администратор\Рабочий стол\ИТ\20.jpg"/>
          <p:cNvPicPr/>
          <p:nvPr/>
        </p:nvPicPr>
        <p:blipFill>
          <a:blip r:embed="rId2"/>
          <a:stretch/>
        </p:blipFill>
        <p:spPr>
          <a:xfrm>
            <a:off x="5219640" y="2781360"/>
            <a:ext cx="2176560" cy="183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C:\Documents and Settings\Администратор\Рабочий стол\ИТ\21.gif"/>
          <p:cNvPicPr/>
          <p:nvPr/>
        </p:nvPicPr>
        <p:blipFill>
          <a:blip r:embed="rId3"/>
          <a:stretch/>
        </p:blipFill>
        <p:spPr>
          <a:xfrm>
            <a:off x="1332000" y="4797360"/>
            <a:ext cx="3097080" cy="1494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C:\Documents and Settings\Администратор\Рабочий стол\ИТ\22.gif"/>
          <p:cNvPicPr/>
          <p:nvPr/>
        </p:nvPicPr>
        <p:blipFill>
          <a:blip r:embed="rId4"/>
          <a:stretch/>
        </p:blipFill>
        <p:spPr>
          <a:xfrm>
            <a:off x="5435640" y="4797360"/>
            <a:ext cx="1998720" cy="1532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1124640"/>
            <a:ext cx="7921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ногих бабочек соотношение размеров грудной и брюшной части тела отвечает золотой пропорции. Сложив крылья, ночная бабочка образует правильный равносторонний треугольник. Но стоит развести крылья, и вы увидите тот же принцип членения тела на 2,3,5,8. Стрекоза также создана по законам золотой пропорции: отношение длин хвоста и корпуса равно отношению общей длины к длине хво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ящерице длина ее хвоста так относится к длине остального тела, как 62 к 38. Можно заметить золотые пропорции, если внимательно посмотреть на яйцо птиц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71640" y="549360"/>
            <a:ext cx="7215120" cy="459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лото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чение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971640" y="476280"/>
            <a:ext cx="7215120" cy="459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лоты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порции в частях тел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C:\Documents and Settings\Администратор\Рабочий стол\6.jpeg"/>
          <p:cNvPicPr/>
          <p:nvPr/>
        </p:nvPicPr>
        <p:blipFill>
          <a:blip r:embed="rId1"/>
          <a:stretch/>
        </p:blipFill>
        <p:spPr>
          <a:xfrm>
            <a:off x="611280" y="1125360"/>
            <a:ext cx="2678040" cy="52167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C:\Documents and Settings\Администратор\Рабочий стол\04.gif"/>
          <p:cNvPicPr/>
          <p:nvPr/>
        </p:nvPicPr>
        <p:blipFill>
          <a:blip r:embed="rId2"/>
          <a:srcRect l="0" t="0" r="56610" b="11630"/>
          <a:stretch/>
        </p:blipFill>
        <p:spPr>
          <a:xfrm>
            <a:off x="6084720" y="1052640"/>
            <a:ext cx="1657440" cy="15508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C:\Documents and Settings\Администратор\Рабочий стол\04.gif"/>
          <p:cNvPicPr/>
          <p:nvPr/>
        </p:nvPicPr>
        <p:blipFill>
          <a:blip r:embed="rId3"/>
          <a:srcRect l="55014" t="0" r="0" b="0"/>
          <a:stretch/>
        </p:blipFill>
        <p:spPr>
          <a:xfrm>
            <a:off x="3995640" y="1052640"/>
            <a:ext cx="1401840" cy="1511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19640" y="2708280"/>
            <a:ext cx="482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55 г. немецкий исследователь золотого сечения профессор Цейзинг опубликовал свой труд «Эстетические исследования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йзинг измерил около двух тысяч человеческих тел и пришел к выводу, что золотое сечение выражает средний статистический за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ение тела точкой пупа – важнейший показатель золотого сечения. Пропорции мужского тела колеблются в пределах среднего отношения 13 : 8 = 1,625 и несколько ближе подходят к золотому сечению, чем пропорции женского тела, в отношении которого среднее значение пропорции выражается в соотношении 8 : 5 = 1,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оворожденного пропорция составляет отношение 1 : 1, к 13 годам она равна 1,6, а к 21 году равняется мужс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00000" y="422064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я к примерам золотого сечения в живописи, нельзя не остановить своего внимания на творчестве Леонардо да Винчи. Его личность – одна из загадок истории. Сам Леонардо да Винчи говорил: «Пусть никто, не будучи математиком, не дерзнет читать мои труд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Моны Лизы (Джоконды) долгие годы привлекает внимание исследователей, которые обнаружили, что композиция рисунка основана на золотых треугольниках, являющихся частями правильного звездчатого пяти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539640" y="549360"/>
            <a:ext cx="7848720" cy="50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лотое сечение в живописи</a:t>
            </a:r>
            <a:endParaRPr b="0" lang="en-US" sz="24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141" name="" descr="music.files\jokonde.gif"/>
          <p:cNvPicPr/>
          <p:nvPr/>
        </p:nvPicPr>
        <p:blipFill>
          <a:blip r:embed="rId1"/>
          <a:stretch/>
        </p:blipFill>
        <p:spPr>
          <a:xfrm>
            <a:off x="1619280" y="1052640"/>
            <a:ext cx="2448000" cy="28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0" t="0" r="41" b="-94"/>
          <a:stretch/>
        </p:blipFill>
        <p:spPr>
          <a:xfrm>
            <a:off x="4716360" y="1065240"/>
            <a:ext cx="2951280" cy="2814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00000" y="450864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м примером применения золотого сечения в архитектуре является церковь Покрова Богородицы на Нерли, возведенная в 1165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539640" y="549360"/>
            <a:ext cx="7848720" cy="50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лотое сечение в архитектуре</a:t>
            </a:r>
            <a:endParaRPr b="0" lang="en-US" sz="24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233496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2292480" cy="28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3816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соответствуют золотому сеч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одним примером, являются всемирно известные египетские пирамиды Хеопса. Широко известны  медицинские свойства пирамид, особенно золотого сечения. По некоторым наиболее распространенным мнениям, комната, в которой находится такая пирамида, кажется больше, а воздух - прозрачнее. Сны начинают запоминаться луч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39640" y="549360"/>
            <a:ext cx="7848720" cy="50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лотое сечение в архитектуре</a:t>
            </a:r>
            <a:endParaRPr b="0" lang="en-US" sz="24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473640" cy="251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инистратор\Рабочий стол\пирамиды.jpg"/>
          <p:cNvPicPr/>
          <p:nvPr/>
        </p:nvPicPr>
        <p:blipFill>
          <a:blip r:embed="rId2"/>
          <a:srcRect l="0" t="0" r="0" b="-49"/>
          <a:stretch/>
        </p:blipFill>
        <p:spPr>
          <a:xfrm>
            <a:off x="900000" y="3860640"/>
            <a:ext cx="345600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345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анну Кеплеру, жившему пять веков назад, принадлежит высказывание: "Геометрия обладает двумя великими сокровищами. Первое - это теорема Пифагора, второе - деления отрезка в крайнем и среднем отношени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сказать, что золотое сечение имеет большое применение в нашей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золотому сечению был открыт пояс астероидов между Марсом и Юпитером – по пропорции там должна находиться ещё одна план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летательных аппаратах с электромагнитными источниками энергии создаются прямоугольные ячейки с пропорцией золотого с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можно сделать 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-первых, золотое сечение - это один из основных основополагающих принципов прир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-вторых, человеческое представление о красивом явно сформировалось под влиянием того, какой порядок и гармонию человек видит в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39640" y="549360"/>
            <a:ext cx="7848720" cy="50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920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лотое сечение –это деление непрерывной величины на две части в таком отношении, при котором меньшая часть так относится к большей, как большая ко всей велич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ая тема привлекла меня тем, что термин «Золотое сечение» встречается во многих сферах человеческой деятельности, а также в окружаемом нас мире. В дошедшей до нас античной литературе деление отрезка в крайнем и среднем отношении впервые встречается в «Началах» Евклида (ок. 300 лет до н. э.), где оно применяется для построения правильного пятиугольника. Интерес и споры вокруг этого понятия не исчезли и по сегодняшний день. Многие люди стремятся найти золотое сечение во всём, есть и те, кто считают, что золотое сечение имеет множество замечательных свойств, но ещё больше свойств вымышле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дей с давних времён волновал вопрос, подчиняются ли такие неуло­вимые вещи как красота и гармония, каким-либо математическим расчётам. Можно ли «проверить алгеброй гармонию?» - как сказал А.С. Пушк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ечно, все законы красоты невозможно вместить в несколько формул, но, изучая математику, мы можем открыть некоторые слагаемые прекрас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а «Золотое сечение»  актуальна в современном  развивающемся мире,  так например, в архитектуре, живописи «правило золотого сечения» встречается очень часто. Существуют ли другие сферы деятельности, в которых возможно применение данного математического терми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сторическая</a:t>
            </a:r>
            <a:r>
              <a:rPr b="0" lang="en-US" sz="3200" spc="-1" strike="noStrike">
                <a:solidFill>
                  <a:srgbClr val="4e5b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часть</a:t>
            </a:r>
            <a:endParaRPr b="0" lang="en-US" sz="2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ятие о золотом делении ввел в научный обиход Пифагор, древнегреческий философ и математик (VI в. до н.э.). Есть предположение, что Пифагор свое знание золотого деления позаимствовал у египтян и вавилонян. И действительно, пропорции пирамиды Хеопса, храмов, барельефов, предметов быта и украшений из гробницы Тутанхамона свидетельствуют, что египетские мастера пользовались соотношениями золотого деления при их созда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й архитектор Ле Корбюзье нашел, что в рельефе из храма фараона Сети I в Абидосе и в рельефе, изображающем фараона Рамсеса, пропорции фигур соответствуют величинам золотого деления. Зодчий Хесира, изображенный на рельефе деревянной доски из гробницы его имени, держит в руках измерительные инструменты, в которых зафиксированы пропорции золотого де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8" descr="ант.цирк..gif"/>
          <p:cNvPicPr/>
          <p:nvPr/>
        </p:nvPicPr>
        <p:blipFill>
          <a:blip r:embed="rId1"/>
          <a:stretch/>
        </p:blipFill>
        <p:spPr>
          <a:xfrm>
            <a:off x="2050920" y="4149720"/>
            <a:ext cx="5185080" cy="1511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356000" y="476280"/>
            <a:ext cx="42544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еки же были искусными геометрами. Даже арифметике обучали своих детей при помощи геометрических фигур. Квадрат Пифагора и диагональ этого квадрата были основанием для построения динамических прямоугольн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тон (427...347 гг. до н.э.) также знал о золотом делении. Его диалог "Тимей" посвящен математическим и эстетическим воззрениям школы Пифагора и, в  частности, вопросам золотого 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рфенон имеет 8 колонн по коротким сторонам и 17 по длинным. Отношение высоты здания к его длине равно 0,618. Если произвести деление Парфенона по «золотому сечению», то получим те или иные выступы фасада. При его раскопках обнаружены циркули, которыми пользовались архитекторы и скульпторы античного мира. В Помпейском циркуле (музей в Неаполе) также заложены пропорции золотого  де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im3_2.jpg"/>
          <p:cNvPicPr/>
          <p:nvPr/>
        </p:nvPicPr>
        <p:blipFill>
          <a:blip r:embed="rId1">
            <a:grayscl/>
          </a:blip>
          <a:stretch/>
        </p:blipFill>
        <p:spPr>
          <a:xfrm>
            <a:off x="971640" y="907920"/>
            <a:ext cx="3205080" cy="316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1187280" y="4365720"/>
            <a:ext cx="6913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ошедшей до нас античной литературе золотое деление впервые упоминается в "Началах" Евклида. Во 2-й книге "Начал" дается геометрическое построение золотого деления. После Евклида исследованием золотого деления занимались Гипсикл (II в. до н.э.), Папп (III в. н.э.) и др.. В средневековой Европе с золотым делением познакомились по арабским переводам "Начал" Евклида. Переводчик Дж. Кампано из Наварры (III в.) сделал к переводу комментарии. Секреты золотого деления ревностно оберегались, хранились в строгой тайне. Они были известны только посвящен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1000080" y="571680"/>
            <a:ext cx="7215120" cy="520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Деление отрезка в золотом отнош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857160" y="1357200"/>
            <a:ext cx="3500640" cy="1465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Дано: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ок 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Построить: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лотое сечение отрезка АВ, т.е. точку Е так, чтобы               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928800" cy="554040"/>
          </a:xfrm>
          <a:prstGeom prst="rect">
            <a:avLst/>
          </a:prstGeom>
          <a:ln w="0">
            <a:noFill/>
          </a:ln>
        </p:spPr>
      </p:pic>
      <p:pic>
        <p:nvPicPr>
          <p:cNvPr id="94" name="Object 7" descr=""/>
          <p:cNvPicPr/>
          <p:nvPr/>
        </p:nvPicPr>
        <p:blipFill>
          <a:blip r:embed="rId2"/>
          <a:stretch/>
        </p:blipFill>
        <p:spPr>
          <a:xfrm>
            <a:off x="7451640" y="4508640"/>
            <a:ext cx="571680" cy="61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Documents and Settings\Администратор\Рабочий стол\деление отрезка.gif"/>
          <p:cNvPicPr/>
          <p:nvPr/>
        </p:nvPicPr>
        <p:blipFill>
          <a:blip r:embed="rId3"/>
          <a:stretch/>
        </p:blipFill>
        <p:spPr>
          <a:xfrm>
            <a:off x="4500720" y="1357200"/>
            <a:ext cx="3787560" cy="2214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96" name="TextBox 4"/>
          <p:cNvSpPr/>
          <p:nvPr/>
        </p:nvSpPr>
        <p:spPr>
          <a:xfrm>
            <a:off x="971640" y="3789360"/>
            <a:ext cx="7272360" cy="2288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о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м прямоугольный треугольник, у которого один катет в два раза больше другого. Для этого восстановим в точке В перпендикуляр к прямой АВ и на нем отложим отрезок ВС=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, соединим точки А и С, отлож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Е является искомой, она производит золотое сечение отрезка 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000080" y="571680"/>
            <a:ext cx="7215120" cy="520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олото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AutoShape 2"/>
          <p:cNvGrpSpPr/>
          <p:nvPr/>
        </p:nvGrpSpPr>
        <p:grpSpPr>
          <a:xfrm>
            <a:off x="738360" y="1494000"/>
            <a:ext cx="2985840" cy="4114800"/>
            <a:chOff x="738360" y="1494000"/>
            <a:chExt cx="2985840" cy="4114800"/>
          </a:xfrm>
        </p:grpSpPr>
        <p:pic>
          <p:nvPicPr>
            <p:cNvPr id="99" name="AutoShape 2" descr=""/>
            <p:cNvPicPr/>
            <p:nvPr/>
          </p:nvPicPr>
          <p:blipFill>
            <a:blip r:embed="rId1"/>
            <a:stretch/>
          </p:blipFill>
          <p:spPr>
            <a:xfrm>
              <a:off x="738360" y="1494000"/>
              <a:ext cx="29858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517760" y="3537000"/>
              <a:ext cx="132228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5"/>
          <p:cNvSpPr/>
          <p:nvPr/>
        </p:nvSpPr>
        <p:spPr>
          <a:xfrm>
            <a:off x="2000160" y="12859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429000" y="5429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571920" y="1785960"/>
            <a:ext cx="43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Золоты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такой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равнобедренный треугольни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ние и боковая сторона которого находятся в золотом отношении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9" descr=""/>
          <p:cNvPicPr/>
          <p:nvPr/>
        </p:nvPicPr>
        <p:blipFill>
          <a:blip r:embed="rId2"/>
          <a:stretch/>
        </p:blipFill>
        <p:spPr>
          <a:xfrm>
            <a:off x="5214960" y="314316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11" descr=""/>
          <p:cNvPicPr/>
          <p:nvPr/>
        </p:nvPicPr>
        <p:blipFill>
          <a:blip r:embed="rId3"/>
          <a:stretch/>
        </p:blipFill>
        <p:spPr>
          <a:xfrm>
            <a:off x="4143240" y="4572000"/>
            <a:ext cx="3857760" cy="93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1000080" y="571680"/>
            <a:ext cx="7215120" cy="520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олотой 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143000" y="44290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, стороны которого находятся в золотом отношении, т.е. отношение длины к ширине даёт число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тс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олотым прямоуголь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1143000" y="1928880"/>
            <a:ext cx="3214800" cy="192888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0"/>
          </a:gradFill>
          <a:ln w="25560">
            <a:solidFill>
              <a:srgbClr val="ff6d6d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857160" y="1643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286160" y="1643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428616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85716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5500800" y="2286000"/>
            <a:ext cx="1258920" cy="928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1000080" y="571680"/>
            <a:ext cx="7215120" cy="520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Золотое сечение и золотая спи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C:\Documents and Settings\Администратор\Рабочий стол\ИТ\14.gif"/>
          <p:cNvPicPr/>
          <p:nvPr/>
        </p:nvPicPr>
        <p:blipFill>
          <a:blip r:embed="rId1"/>
          <a:stretch/>
        </p:blipFill>
        <p:spPr>
          <a:xfrm>
            <a:off x="755640" y="1628640"/>
            <a:ext cx="3505320" cy="2549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355640" y="1413000"/>
            <a:ext cx="4103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биологических исследованиях было показано, что, начиная с вирусов и растений и кончая организмом человека, всюду выявляется золотая пропорция, характеризующая соразмерность и гармоничность их строения. Золотое сечение признано универсальным законом живых сист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ло установлено, что числовой ряд чисел Фибоначчи характеризует структурную организацию многих живых систем. Например, винтовое листорасположение на ветке составляет дробь (число оборотов на стебле/число листьев в цикле, напр. 2/5; 3/8; 5/13), соответствующую рядам Фибоначч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рошо известна "золотая" пропорция пятилепестковых цветков яблони, груши и многих других растений. Носители генетического кода - молекулы ДНК и РНК - имеют структуру двойной спирали; ее размеры почти полностью соответствуют числам ряда Фибоначч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те подчеркивал тенденцию природы к спира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869000"/>
            <a:ext cx="42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ук плетет паутину спиралеобраз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алью закручивается ураган. Испуганное стадо северных оленей разбегается по спира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981000"/>
            <a:ext cx="7423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те называл спираль "кривой жизни". Спираль увидели в расположении семян подсолнечника, в шишках сосны, ананасах, кактусах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ки и семена подсолнуха, ромашки, чешуйки в плодах ананаса, хвойных шишках "упакованы" по логарифмическим ("золотым") спиралям, завивающимся навстречу друг друг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5" descr="C:\Documents and Settings\Администратор\Рабочий стол\ИТ\15.jpg"/>
          <p:cNvPicPr/>
          <p:nvPr/>
        </p:nvPicPr>
        <p:blipFill>
          <a:blip r:embed="rId1"/>
          <a:stretch/>
        </p:blipFill>
        <p:spPr>
          <a:xfrm>
            <a:off x="4643280" y="242100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C:\Documents and Settings\Администратор\Рабочий стол\ИТ\16.jpg"/>
          <p:cNvPicPr/>
          <p:nvPr/>
        </p:nvPicPr>
        <p:blipFill>
          <a:blip r:embed="rId2"/>
          <a:stretch/>
        </p:blipFill>
        <p:spPr>
          <a:xfrm>
            <a:off x="1042920" y="242100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971640" y="476280"/>
            <a:ext cx="7215120" cy="459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лото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чение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0:40:15Z</dcterms:created>
  <dc:creator>Evseeva</dc:creator>
  <dc:description/>
  <dc:language>en-US</dc:language>
  <cp:lastModifiedBy>Admin</cp:lastModifiedBy>
  <dcterms:modified xsi:type="dcterms:W3CDTF">2004-07-29T00:23:19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b000000000001023620</vt:lpwstr>
  </property>
  <property fmtid="{D5CDD505-2E9C-101B-9397-08002B2CF9AE}" pid="3" name="_MarkAsFinal">
    <vt:bool>1</vt:bool>
  </property>
</Properties>
</file>