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DD5-123E-4E0E-B655-139F49A1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5EE-253E-4700-B36F-FBC1F80F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611-51A9-4CD1-BA10-AD05941A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53A-C925-49D1-9877-B67A34D1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D2C-72E8-4293-9C57-A827E451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7D4-7725-4F2D-9A7D-5EE1C65A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DA2-0D38-4F80-8788-BDC2A741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C0B1-3BF4-4FDA-A4DE-B4F5B12D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05C-D798-4AD7-A921-69E0EF6E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8AF-9F61-4017-B029-88AB72B1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126C-E891-4514-869B-EC5FF95E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9D7C-9DDB-4863-BC30-70C7CCF5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91CF-FCD3-4BB0-B8DC-39B11630F3F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-61920"/>
            <a:ext cx="914400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ологический 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кета «Здоровый образ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1.Делаете ли вы утром заряд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2.Едите ли вы чипсы или «кириешки»? Если да, то сколько раз 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недел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3.Знаете ли вы, что это вредная пищ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4.Занимаетесь ли в спортивных кружках? Если да, то в каки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5.Соблюдаете ли вы режим дн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6.Что из перечисленных напитков вы чаще пьёте: пепси, сок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компот, лимонад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7.Курят ли взрослые в вашем присутств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8.Едите ли вы утром перед уходом в школ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9.Чистите ли вы зуб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а) только утром    б) утром и вечером      в) вечером      г) ред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10.Сколько раз в неделю вы едите овощи и фрукт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11.Как вы проводите свободное время: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а) смотрите телевизор          б) играете на компьютере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в) играете на улиц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12. Напишите несколько предложений о том, что такое здоровый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953735"/>
                </a:solidFill>
                <a:latin typeface="Arial"/>
                <a:ea typeface="Times New Roman"/>
              </a:rPr>
              <a:t>образ жизни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14200" y="455040"/>
            <a:ext cx="8643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Для того чтобы прожить дольше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      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запомните следующие пра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Живите в определенном режим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а, отдыха,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чинайте день с утренней заря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е  становитесь рабами телеви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ажись от вредных привы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214200" y="310320"/>
            <a:ext cx="8572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Целью </a:t>
            </a: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моей работы является  разъяснение  здорового образа жизни. Я хотела заинтересовать ребят изучением этого вопроса и показать им, что человеку важно быть абсолютно здоровым, чтобы добиться успехов в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Тема исследования </a:t>
            </a: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очень важна, потому что многие имеют проблемы со здоровьем с раннего возраста. Современные дети часами сидят за компьютером и перед экраном телевизора, что приводит к различным заболева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доровым быть мод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I:\DCIM\100PHOTO\SAM_0843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I:\DCIM\100PHOTO\SAM_0832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2060"/>
                </a:solidFill>
                <a:latin typeface="Calibri"/>
              </a:rPr>
              <a:t>По утрам я делаю зарядку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 завтрак я ем  гречневую каш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I:\DCIM\100PHOTO\SAM_0835.JPG"/>
          <p:cNvPicPr/>
          <p:nvPr/>
        </p:nvPicPr>
        <p:blipFill>
          <a:blip r:embed="rId1"/>
          <a:stretch/>
        </p:blipFill>
        <p:spPr>
          <a:xfrm>
            <a:off x="2649600" y="1600200"/>
            <a:ext cx="3844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Calibri"/>
              </a:rPr>
              <a:t>Я занимаюсь спор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I:\DCIM\100PHOTO\SAM_082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I:\DCIM\100PHOTO\SAM_0792.JPG"/>
          <p:cNvPicPr/>
          <p:nvPr/>
        </p:nvPicPr>
        <p:blipFill>
          <a:blip r:embed="rId1"/>
          <a:stretch/>
        </p:blipFill>
        <p:spPr>
          <a:xfrm>
            <a:off x="2000160" y="1214280"/>
            <a:ext cx="4219560" cy="5643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едовый 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Дворец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14200" y="1000080"/>
          <a:ext cx="8643960" cy="5396040"/>
        </p:xfrm>
        <a:graphic>
          <a:graphicData uri="http://schemas.openxmlformats.org/drawingml/2006/table">
            <a:tbl>
              <a:tblPr/>
              <a:tblGrid>
                <a:gridCol w="714600"/>
                <a:gridCol w="5857920"/>
                <a:gridCol w="1071360"/>
                <a:gridCol w="1000080"/>
              </a:tblGrid>
              <a:tr h="60156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ы дл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ют зарядку ут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ят зубы утром и вече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тракают перед уходом в школ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потребляют чипсы, «кириешки» и т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ют, что это  «вредная» пищ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читают натуральные напитки (сок и компо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ый день употребляют в пищу овощи и фру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ются пассивными курильщи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имаются в спортивных кружках и секц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ают режим д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ят свободное время на свежем воздух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1"/>
          <p:cNvSpPr/>
          <p:nvPr/>
        </p:nvSpPr>
        <p:spPr>
          <a:xfrm>
            <a:off x="4456440" y="74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32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Различные методы исследования позвол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сделать следующие выводы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214200" y="382680"/>
            <a:ext cx="864396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78 %  третьеклассников написали в анкетах, что здоровый образ жизни – это занятия спортом, 14 %  - отсутствие вредных привычек, а  7  %  - правильное пит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«Здоровый образ жизни – это правильное питание, занятия спортом, соблюдение режима дня,» - такой вывод сделали 77 % пятиклассников, а остальные считают, что здоровый образ жизни – это только полноценное питание и отсутствие вредных привы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Таким образом, я выяснила, что все ученики правильно понимают, что такое здоровый образ жизни, 100 % опрошенных знают «вредные» продукты, занимаются в спортивных секциях и проводят много времени на свежем воздухе, но чем старше они становятся, тем чаще забывают о том, что может нанести вред их здоровью. Социологический опрос показал, что взрослые чаще не курят в присутствии маленьких детей, чем в присутствии подрост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лина</dc:creator>
  <dc:description/>
  <dc:language>en-US</dc:language>
  <cp:lastModifiedBy>Ольга</cp:lastModifiedBy>
  <dcterms:modified xsi:type="dcterms:W3CDTF">2012-11-11T11:20:29Z</dcterms:modified>
  <cp:revision>38</cp:revision>
  <dc:subject/>
  <dc:title>Слайд 1</dc:title>
</cp:coreProperties>
</file>