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D69-FA3B-411B-8482-E0185EC0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25B-0B51-4A0E-82A0-B8E95EB1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F63-FF9F-4AAB-B0D5-F08B09CB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D4A-0388-42E5-9EA1-3F442C77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82D-9B88-4667-8722-E873BE68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E7E-A3D6-43B7-9CF5-C2CF23B8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6DA-2FF2-4948-8AE9-E7272ADF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A8B-8D6D-4228-97DD-BA7E5FFF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DBB-14D6-423C-B76F-76B1638A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F03-01B5-4742-BABB-D0E7EB5D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780-6DFE-4394-B263-E15ED5DF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810-9BA7-4612-91E7-AEBF0168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2893-0313-40DE-96BA-01BECF6BC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220500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300" spc="-1" strike="noStrike">
                <a:solidFill>
                  <a:srgbClr val="000000"/>
                </a:solidFill>
                <a:latin typeface="Arial"/>
              </a:rPr>
              <a:t>Who knows English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3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1" i="1" lang="ru-RU" sz="6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700360" y="76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26920" y="2205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at’s the official residence of the British Qu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87280" y="3573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ckingham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5892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ower of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148360" y="357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Westminster Abb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076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Big 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7524720" y="602136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3794" y="5938"/>
                </a:moveTo>
                <a:lnTo>
                  <a:pt x="17806" y="12945"/>
                </a:lnTo>
                <a:lnTo>
                  <a:pt x="3794" y="199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800"/>
                            </p:stCondLst>
                            <p:childTnLst>
                              <p:par>
                                <p:cTn id="433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300"/>
                            </p:stCondLst>
                            <p:childTnLst>
                              <p:par>
                                <p:cTn id="4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800"/>
                            </p:stCondLst>
                            <p:childTnLst>
                              <p:par>
                                <p:cTn id="4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300"/>
                            </p:stCondLst>
                            <p:childTnLst>
                              <p:par>
                                <p:cTn id="4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9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0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1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916360" y="620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6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26920" y="2205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at’s the favourite drink of British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187280" y="3573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5892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ee with lem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48360" y="3573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Hot water with l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076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7308720" y="580536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  <a:path fill="darken" w="21600" h="25161">
                <a:moveTo>
                  <a:pt x="3794" y="5574"/>
                </a:moveTo>
                <a:lnTo>
                  <a:pt x="17806" y="12581"/>
                </a:lnTo>
                <a:lnTo>
                  <a:pt x="3794" y="195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600"/>
                            </p:stCondLst>
                            <p:childTnLst>
                              <p:par>
                                <p:cTn id="4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100"/>
                            </p:stCondLst>
                            <p:childTnLst>
                              <p:par>
                                <p:cTn id="496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600"/>
                            </p:stCondLst>
                            <p:childTnLst>
                              <p:par>
                                <p:cTn id="5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100"/>
                            </p:stCondLst>
                            <p:childTnLst>
                              <p:par>
                                <p:cTn id="5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5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26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27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771640" y="836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32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26920" y="2205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ich famous university is the most highly regar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187280" y="3573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xford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258920" y="4292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ambridge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univers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148360" y="357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Harvar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76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Sorb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7885080" y="616572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840"/>
                            </p:stCondLst>
                            <p:childTnLst>
                              <p:par>
                                <p:cTn id="545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340"/>
                            </p:stCondLst>
                            <p:childTnLst>
                              <p:par>
                                <p:cTn id="5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840"/>
                            </p:stCondLst>
                            <p:childTnLst>
                              <p:par>
                                <p:cTn id="5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340"/>
                            </p:stCondLst>
                            <p:childTnLst>
                              <p:par>
                                <p:cTn id="5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1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059280" y="836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4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26920" y="2205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ere is the statute of Sherlock Holmes situ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187280" y="3573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x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25892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In Car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148360" y="357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In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076720" y="436572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In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7451640" y="587700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" w="21600" h="24646">
                <a:moveTo>
                  <a:pt x="3794" y="5317"/>
                </a:moveTo>
                <a:lnTo>
                  <a:pt x="17806" y="12323"/>
                </a:lnTo>
                <a:lnTo>
                  <a:pt x="3794" y="193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720"/>
                            </p:stCondLst>
                            <p:childTnLst>
                              <p:par>
                                <p:cTn id="6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220"/>
                            </p:stCondLst>
                            <p:childTnLst>
                              <p:par>
                                <p:cTn id="6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720"/>
                            </p:stCondLst>
                            <p:childTnLst>
                              <p:par>
                                <p:cTn id="615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220"/>
                            </p:stCondLst>
                            <p:childTnLst>
                              <p:par>
                                <p:cTn id="6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7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38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39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76720" y="836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25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26920" y="1989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How do the passengers stop a bus at the “Request Stop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87280" y="3573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sit on the grass and 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258920" y="45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y stand in the middle of the r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148360" y="3573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y wait when a bus will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076720" y="45086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They stick their arm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766764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840"/>
                            </p:stCondLst>
                            <p:childTnLst>
                              <p:par>
                                <p:cTn id="6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340"/>
                            </p:stCondLst>
                            <p:childTnLst>
                              <p:par>
                                <p:cTn id="6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840"/>
                            </p:stCondLst>
                            <p:childTnLst>
                              <p:par>
                                <p:cTn id="6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340"/>
                            </p:stCondLst>
                            <p:childTnLst>
                              <p:par>
                                <p:cTn id="678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3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94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95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203640" y="836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50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826920" y="198900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ere can you buy “package” holid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87280" y="3789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187280" y="4724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148360" y="3645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148360" y="472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752472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320"/>
                            </p:stCondLst>
                            <p:childTnLst>
                              <p:par>
                                <p:cTn id="7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820"/>
                            </p:stCondLst>
                            <p:childTnLst>
                              <p:par>
                                <p:cTn id="7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320"/>
                            </p:stCondLst>
                            <p:childTnLst>
                              <p:par>
                                <p:cTn id="7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820"/>
                            </p:stCondLst>
                            <p:childTnLst>
                              <p:par>
                                <p:cTn id="734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9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50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51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132000" y="9079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500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826920" y="1989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at’s the Russian translation of the proverb: ”Like mother, like daught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87280" y="3789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емь раз отмерь, один отреж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187280" y="47242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ин в поле не во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148360" y="3645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хорошо, что хорошо кон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148360" y="472428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блоко от яблони не далеко п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7885080" y="623736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680"/>
                            </p:stCondLst>
                            <p:childTnLst>
                              <p:par>
                                <p:cTn id="7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180"/>
                            </p:stCondLst>
                            <p:childTnLst>
                              <p:par>
                                <p:cTn id="7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680"/>
                            </p:stCondLst>
                            <p:childTnLst>
                              <p:par>
                                <p:cTn id="7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180"/>
                            </p:stCondLst>
                            <p:childTnLst>
                              <p:par>
                                <p:cTn id="790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05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06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07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59280" y="9079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000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26920" y="1989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at’s the English translation of the proverb: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 «Все хорошо, что хорошо кончается»</a:t>
            </a: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187280" y="3645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All that bad i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187280" y="4724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Every things i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5148360" y="3645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All is well that ends w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148360" y="472428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All is bad that ends w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7524720" y="5877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7523"/>
                </a:moveTo>
                <a:lnTo>
                  <a:pt x="7301" y="7523"/>
                </a:lnTo>
                <a:lnTo>
                  <a:pt x="7301" y="12859"/>
                </a:lnTo>
                <a:cubicBezTo>
                  <a:pt x="7301" y="13781"/>
                  <a:pt x="8102" y="14513"/>
                  <a:pt x="9138" y="14513"/>
                </a:cubicBezTo>
                <a:lnTo>
                  <a:pt x="10800" y="14513"/>
                </a:lnTo>
                <a:cubicBezTo>
                  <a:pt x="11836" y="14513"/>
                  <a:pt x="12636" y="13781"/>
                  <a:pt x="12636" y="12859"/>
                </a:cubicBezTo>
                <a:lnTo>
                  <a:pt x="12636" y="7523"/>
                </a:lnTo>
                <a:lnTo>
                  <a:pt x="10800" y="7523"/>
                </a:lnTo>
                <a:lnTo>
                  <a:pt x="14308" y="4016"/>
                </a:lnTo>
                <a:lnTo>
                  <a:pt x="17981" y="7523"/>
                </a:lnTo>
                <a:lnTo>
                  <a:pt x="16144" y="7523"/>
                </a:lnTo>
                <a:lnTo>
                  <a:pt x="16144" y="12859"/>
                </a:lnTo>
                <a:cubicBezTo>
                  <a:pt x="16144" y="15627"/>
                  <a:pt x="13568" y="18186"/>
                  <a:pt x="10800" y="18186"/>
                </a:cubicBezTo>
                <a:lnTo>
                  <a:pt x="9138" y="18186"/>
                </a:lnTo>
                <a:cubicBezTo>
                  <a:pt x="6370" y="18186"/>
                  <a:pt x="3794" y="15627"/>
                  <a:pt x="3794" y="1285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880"/>
                            </p:stCondLst>
                            <p:childTnLst>
                              <p:par>
                                <p:cTn id="8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80"/>
                            </p:stCondLst>
                            <p:childTnLst>
                              <p:par>
                                <p:cTn id="8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880"/>
                            </p:stCondLst>
                            <p:childTnLst>
                              <p:par>
                                <p:cTn id="839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380"/>
                            </p:stCondLst>
                            <p:childTnLst>
                              <p:par>
                                <p:cTn id="8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61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62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63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116000" y="76500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limination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42920" y="1773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Put the letters in the alphabetic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403280" y="2852640"/>
            <a:ext cx="18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427640" y="2852640"/>
            <a:ext cx="1944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>
            <a:hlinkClick r:id="rId1" action="ppaction://hlinksldjump"/>
          </p:cNvPr>
          <p:cNvSpPr/>
          <p:nvPr/>
        </p:nvSpPr>
        <p:spPr>
          <a:xfrm>
            <a:off x="824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700360" y="692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332000" y="220500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Choose the correct tense: ”Michael went to the hospit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187280" y="357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Present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25892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Past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643280" y="3645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Past 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71636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Pas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>
            <a:hlinkClick r:id="rId1" action="ppaction://hlinksldjump"/>
          </p:cNvPr>
          <p:cNvSpPr/>
          <p:nvPr/>
        </p:nvSpPr>
        <p:spPr>
          <a:xfrm>
            <a:off x="759636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60"/>
                            </p:stCondLst>
                            <p:childTnLst>
                              <p:par>
                                <p:cTn id="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960"/>
                            </p:stCondLst>
                            <p:childTnLst>
                              <p:par>
                                <p:cTn id="48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960"/>
                            </p:stCondLst>
                            <p:childTnLst>
                              <p:par>
                                <p:cTn id="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960"/>
                            </p:stCondLst>
                            <p:childTnLst>
                              <p:par>
                                <p:cTn id="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411280" y="765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332000" y="220500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at’s the Russian for “time-t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87280" y="3573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денный 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25892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о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148360" y="357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пу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14836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>
            <a:hlinkClick r:id="rId1" action="ppaction://hlinksldjump"/>
          </p:cNvPr>
          <p:cNvSpPr/>
          <p:nvPr/>
        </p:nvSpPr>
        <p:spPr>
          <a:xfrm>
            <a:off x="766764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28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78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28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78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76720" y="76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16000" y="2205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The capital of Great Britai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187280" y="3573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25892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48360" y="357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Mos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14836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>
            <a:hlinkClick r:id="rId1" action="ppaction://hlinksldjump"/>
          </p:cNvPr>
          <p:cNvSpPr/>
          <p:nvPr/>
        </p:nvSpPr>
        <p:spPr>
          <a:xfrm>
            <a:off x="7524720" y="595008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620"/>
                            </p:stCondLst>
                            <p:childTnLst>
                              <p:par>
                                <p:cTn id="1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20"/>
                            </p:stCondLst>
                            <p:childTnLst>
                              <p:par>
                                <p:cTn id="1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620"/>
                            </p:stCondLst>
                            <p:childTnLst>
                              <p:par>
                                <p:cTn id="167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120"/>
                            </p:stCondLst>
                            <p:childTnLst>
                              <p:par>
                                <p:cTn id="1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9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0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1" dur="25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556000" y="836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26920" y="2205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at’s the translation of the proverb: “Live and lear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187280" y="3573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имей сто друзей, а имей сто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187280" y="45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к живи, век уч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148360" y="357336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з труда не вытащишь и рыбку из п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219640" y="45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ь раз отмерь, один отре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>
            <a:hlinkClick r:id="rId1" action="ppaction://hlinksldjump"/>
          </p:cNvPr>
          <p:cNvSpPr/>
          <p:nvPr/>
        </p:nvSpPr>
        <p:spPr>
          <a:xfrm>
            <a:off x="752472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960"/>
                            </p:stCondLst>
                            <p:childTnLst>
                              <p:par>
                                <p:cTn id="2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460"/>
                            </p:stCondLst>
                            <p:childTnLst>
                              <p:par>
                                <p:cTn id="216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960"/>
                            </p:stCondLst>
                            <p:childTnLst>
                              <p:par>
                                <p:cTn id="2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460"/>
                            </p:stCondLst>
                            <p:childTnLst>
                              <p:par>
                                <p:cTn id="2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46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47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987640" y="836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26920" y="2205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at’s the 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10</a:t>
            </a:r>
            <a:r>
              <a:rPr b="0" lang="en-US" sz="3200" spc="-1" strike="noStrike" baseline="30000">
                <a:solidFill>
                  <a:srgbClr val="00cc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 letter of the English alphab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187280" y="3573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5892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148360" y="357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14836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>
            <a:hlinkClick r:id="rId1" action="ppaction://hlinksldjump"/>
          </p:cNvPr>
          <p:cNvSpPr/>
          <p:nvPr/>
        </p:nvSpPr>
        <p:spPr>
          <a:xfrm>
            <a:off x="7740720" y="587700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5621"/>
                </a:moveTo>
                <a:lnTo>
                  <a:pt x="17806" y="12627"/>
                </a:lnTo>
                <a:lnTo>
                  <a:pt x="3794" y="196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640"/>
                            </p:stCondLst>
                            <p:childTnLst>
                              <p:par>
                                <p:cTn id="265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140"/>
                            </p:stCondLst>
                            <p:childTnLst>
                              <p:par>
                                <p:cTn id="2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640"/>
                            </p:stCondLst>
                            <p:childTnLst>
                              <p:par>
                                <p:cTn id="2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140"/>
                            </p:stCondLst>
                            <p:childTnLst>
                              <p:par>
                                <p:cTn id="2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1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2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3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59280" y="981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826920" y="2205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at’s the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Russian  for: “My home is my castl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187280" y="3573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емеро одного не жд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58920" y="4292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й дом - моя креп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148360" y="357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тречают по одежке, провожают по 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148360" y="472428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написано пером, того не вырубишь топ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>
            <a:hlinkClick r:id="rId1" action="ppaction://hlinksldjump"/>
          </p:cNvPr>
          <p:cNvSpPr/>
          <p:nvPr/>
        </p:nvSpPr>
        <p:spPr>
          <a:xfrm>
            <a:off x="824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600"/>
                            </p:stCondLst>
                            <p:childTnLst>
                              <p:par>
                                <p:cTn id="3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100"/>
                            </p:stCondLst>
                            <p:childTnLst>
                              <p:par>
                                <p:cTn id="328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600"/>
                            </p:stCondLst>
                            <p:childTnLst>
                              <p:par>
                                <p:cTn id="3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100"/>
                            </p:stCondLst>
                            <p:childTnLst>
                              <p:par>
                                <p:cTn id="3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987640" y="98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26920" y="220500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What holiday do American people celebrate on 31</a:t>
            </a:r>
            <a:r>
              <a:rPr b="0" lang="en-US" sz="3200" spc="-1" strike="noStrike" baseline="30000">
                <a:solidFill>
                  <a:srgbClr val="00cc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 of Octo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87280" y="3573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llo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5892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E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148360" y="357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anksgiving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148360" y="4292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Christmas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>
            <a:hlinkClick r:id="rId1" action="ppaction://hlinksldjump"/>
          </p:cNvPr>
          <p:cNvSpPr/>
          <p:nvPr/>
        </p:nvSpPr>
        <p:spPr>
          <a:xfrm>
            <a:off x="795672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12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620"/>
                            </p:stCondLst>
                            <p:childTnLst>
                              <p:par>
                                <p:cTn id="3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120"/>
                            </p:stCondLst>
                            <p:childTnLst>
                              <p:par>
                                <p:cTn id="3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620"/>
                            </p:stCondLst>
                            <p:childTnLst>
                              <p:par>
                                <p:cTn id="3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6:02:55Z</dcterms:created>
  <dc:creator>Бодрова М.С.</dc:creator>
  <dc:description/>
  <dc:language>en-US</dc:language>
  <cp:lastModifiedBy>бодрик</cp:lastModifiedBy>
  <dcterms:modified xsi:type="dcterms:W3CDTF">2009-04-20T16:27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