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4372D-3DF1-4DB5-AD34-F795A055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BC73C-31A6-46D9-8B41-6D5F1506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FB67C-CD43-4776-BBC3-CA349327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293DE-7029-4EE9-A7E9-887F621D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3486-90BF-420A-888C-0B4FA902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B87A-D17E-4E73-9862-2BD65907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7712-AF3D-4711-B862-F7542DD6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7187-BC96-4EE7-845C-1A9338F2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C457-FDA6-4B0A-BF55-4CFA1424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250D-9006-424E-A21B-0811ED30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2677-7151-43BE-91EB-C6895539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61EF6-F63F-4775-939F-E8B39897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360D-89FC-4D5E-8261-AF143546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5645-AA25-4E36-814F-A8163E50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29AC-EFF7-4EC5-8DD3-072C37EF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129C-A38D-460C-8471-91351D9F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25F8-39CF-4C3B-B2DE-7D7F835BF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B592C-23F1-4759-8B39-B2F7922C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02CBD-00C9-4815-B51A-0CA50DAD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EC562-808C-4727-ACE6-4494068C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67584-622D-4498-B495-286F2216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B0B54-E33C-42BB-BF79-885C1428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47156-8EF5-4BE1-9B0A-42C23D18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97512-4AB5-4500-89AE-6CD4B08D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8120-97FD-4AD9-9C48-522E06553CD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2892-3129-40B9-B7BF-462C82353DF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540072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В мире тысячи профессий. Как сориентироваться в их многообразии? Выбрать среди них ту с которой начнется мой трудовой жизненный путь?</a:t>
            </a:r>
            <a:r>
              <a:rPr b="0" lang="ru-RU" sz="4400" spc="-1" strike="noStrike">
                <a:solidFill>
                  <a:srgbClr val="cc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24000" y="3141720"/>
            <a:ext cx="4248000" cy="3008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5940360" y="476280"/>
            <a:ext cx="2916360" cy="3203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3"/>
          <a:stretch/>
        </p:blipFill>
        <p:spPr>
          <a:xfrm>
            <a:off x="4859280" y="3789360"/>
            <a:ext cx="399744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Направление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ти освоения профе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чение темперамента и характера в профессиональном самоопредел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е шаги в освоении будущей профе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5373720" y="2971800"/>
          <a:ext cx="37702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3720" y="2971800"/>
                    <a:ext cx="37702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539640" y="1197000"/>
          <a:ext cx="8280360" cy="550872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ессиональн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яет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образовательные школы, учебно-производственные комбинаты, учебно-курсовые комбинаты, производ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ессиональные училища, частные профессиональные шко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-специ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икумы, педучилища, колледжи, специальные средние школы и училищ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е и частные ву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Rectangle 40"/>
          <p:cNvSpPr/>
          <p:nvPr/>
        </p:nvSpPr>
        <p:spPr>
          <a:xfrm>
            <a:off x="468360" y="47628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Пути освоения профе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начение темперамента и характера в профессиональном самоопреде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перамент – эмоциональная возбудимость человека и его восприимчивость к впечатлениям внешнего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ификация темпераментов по Гиппократ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лер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нгвин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ланхол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легмат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Мой темпера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на определение типа темпера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е показало, что я – холерик, экстраве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250920" y="3691800"/>
            <a:ext cx="806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нный тест я выполнила для того, чтобы при выборе профессии, места работы я учитывала свой темперамент. Это нужно, чтобы видеть подходит ли мне эта работа или професс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Характер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индивидуальное сочетание устойчивых, психических особенностей человека, проявляющихся в его действиях, пове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евнегреческое слово «характер» в переводе на русский означает «чеканка, печа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ёные выделяют четыре группы черт характера, выражающих отношение личности к действи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   Отношение к люд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ношение к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ношение к общественной и личной собствен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ношение к с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ервые шаги в освоении </a:t>
            </a:r>
            <a:br>
              <a:rPr sz="3200"/>
            </a:b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будущей профе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фессии, которые мне нравя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недже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урналис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водч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зайн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из выбора «Привлекательные и непривлекательные стороны профессий, понравившихся мн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дя анализ я остановилась на профессии «Переводчи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ктическая ч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вод текста с проверкой программы «Переводчик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Рекомендации по выбору професс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353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дый сам выбирает свою профессию и сам должен ошибаться и учиться на своих ошибках; советы нужно слушать, а решать и поступать по-сво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знайте ценность вашего выбора (для себя и для общества), изучайте профессию и все, что с ней связа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риентируйтесь в конкретной социально-экономической ситуации (потребность, престижность, зарплата и др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7110360" y="476280"/>
            <a:ext cx="171756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Рекомендации по выбору професс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знося «Я-хочу», знайте, что вы можете и что надо в данных обстоятельст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ите дальнюю профессиональную цель (мечту), соотнесите ее с другими жизненными целями (личностными, семейными, досуго-вы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ройте для себя систему ближних и средних перспектив как этапов движения к дальне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бойтесь поиска, риска, смело исправляйте ошибки, возвращайтесь с неправильно избранного пу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ирать следует не только профессию, а и связанный с ней образ жизни и подходящий для вас вид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6948360" y="333360"/>
            <a:ext cx="19083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Рекомендации по выбору професс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дьте ответственны в решениях: жизнь не знает чернов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йте резервный вариант на случай неудачи по основному направл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знайте трудности (внешние и внутренние) на пути к намеченным цел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метьте (спланируйте) пути и средства преодоления труд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риближения мечты надо много работать, читать, дум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инайте реализацию намеченного плана с самого малого: ежедневного, рефлексивного анализа своей жизне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124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244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Я и моя професс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697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2637360"/>
            <a:ext cx="882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cc"/>
                </a:solidFill>
                <a:latin typeface="Arial Black"/>
              </a:rPr>
              <a:t>      </a:t>
            </a:r>
            <a:r>
              <a:rPr b="1" lang="ru-RU" sz="2800" spc="-1" strike="noStrike">
                <a:solidFill>
                  <a:srgbClr val="6633cc"/>
                </a:solidFill>
                <a:latin typeface="Arial Black"/>
                <a:ea typeface="Times New Roman"/>
              </a:rPr>
              <a:t>Обдумывая выбор будущей профессии, я старалась оценивать свои интересы, склонности, возможности. Словом,  разбираться в сложном мире своих качеств, которые нельзя не принимать во внимание при обдумывании будущего трудового пу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-2395440" y="3914640"/>
            <a:ext cx="5067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Arial Black"/>
                <a:ea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-456732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920" y="293220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Моя будущая профес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32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Выполнила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Касьянова Анастасия 8 «В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cc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Д.Симоненко, изд. «Вентана – Граф» 1999 год, технология 9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ьшая энциклопедия Кирилла и Мефодия, Москва, электронное издание, 2007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686800" cy="25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Цель: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Раскрыть возможности развития и самоутверждения в выборе будущей профессии, а также избежать  ошибки при выборе професси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5508720" y="2852640"/>
            <a:ext cx="29509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Темы  самостоятельных</a:t>
            </a:r>
            <a:br>
              <a:rPr sz="3600"/>
            </a:b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исследовани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24000" y="1844640"/>
            <a:ext cx="65628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в современный рынок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е требования предъявляются к профессионал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е ошибки допускаются при выборе професс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1528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15 профессий, переживающих          наибольши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35344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Социальные работники, помощь на дому                          118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Медицинское обслуживание на дому                                  102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Системные аналитики                                                                9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Компьютерная инженерия                                                        9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Специалисты по созданию электронных документов       8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Специалисты в области лечебной физкультуры 8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Специалисты в области трудоустройств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ессиональной подготовки                                                 8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 Физиотерапевты                                                                        7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. Работники сферы услуг                                                           7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.Терапевты                                                                                  7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1. Маникюр                                                                                    6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. Медицинская помощь (младший мед. персонал)             5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3. Помощники адвоката                                                              5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4. Работники медицинских регистратур                                  5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5. Бизнес – консультанты                                                          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439092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Рейтинг востребованных професс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2465280"/>
            <a:ext cx="8675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еджеры по продажам и закуп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ис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нковские служащие, бухгалт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кламисты, маркетологи, бренд – менедж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зайнер интерьера, архитект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играфисты, журналис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я, преподаватели ву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водч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тисты, музыка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Основные правила выбора профе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знать, какие профессии и специальности нужны там, где я прожив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умать ,чем бы я хотела заниматься, что меня особенно привлек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робно изучить эту профессию; оценить возможность ее приобре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авнить полученные знания о профессии со своими данными, желаниями, посоветоваться с родителями, учителями, врачами,  по возможности получить профконсульт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рав для себя будущую профессию, быть настойчивым в стремлении овладеть ею в соверше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Требования различных групп профессий, областей деятельности и рынка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ный  уровень образования (общего и профессионального), квалифик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оровье человека должно давать возможность ему осуществлять плодотворную трудовую деятельность по выбранной профес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ессия должна соответствовать склонностям и способностям челове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ессия должна выбираться с учетом его темперамента, характ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данную профессию должен быть спрос на рынке труда, т.е. профессия должна быть полезна и востребована общ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Ошибки при выборе професс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8930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 ошибкам, возникающим при выборе профессии относя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влечение внешней или частной стороной профес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ор «за компанию» с друзь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умение разбираться в мотивах выбора и т.д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знание пути получения профес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правильное отношение к различным обстоятельствам выб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нос отношения к человеку - представителю той или иной профессии – на отношение к самой профес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ождествление школьного учебного предмета с професси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арелое представление о характере труда в сфере материального производств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умение (без учета индивидуальных особенностей) разобраться в своих личностных качествах (склонностях, способностях, подготовленност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рассудки относительно некоторых важных для общества занятий, которые иногда считаются непрестижными («дворник», «уборщица» и д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6:55:56Z</dcterms:created>
  <dc:creator>Анастасия</dc:creator>
  <dc:description/>
  <dc:language>en-US</dc:language>
  <cp:lastModifiedBy>User</cp:lastModifiedBy>
  <dcterms:modified xsi:type="dcterms:W3CDTF">2012-11-06T19:36:07Z</dcterms:modified>
  <cp:revision>11</cp:revision>
  <dc:subject/>
  <dc:title>Моя будущая профессия</dc:title>
</cp:coreProperties>
</file>