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10B-83C2-4CC6-9754-380A3C49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634-9DA8-402E-A41D-6A32A9E2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6C348-45F4-4A5F-94A6-E5A0B73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6C27-7791-44F7-BA2E-7F3CBB9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F5E9-7A6F-4DE1-87A5-81073408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CBFA3-2B1B-4C74-AFA6-108CBC2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1050-61B6-4FD2-AC6D-637CC3E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5EDFB-D6C8-4DDD-A157-A8A623C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B1674-8607-44D9-A661-AB4566B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A8207-7B2E-49F9-BA75-DD48EE15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D667-A749-4B5A-9E41-5D48D1AC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2EF-8A52-4FC1-9917-9FFC58D3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7BF-BEEB-4B15-8EF3-C3EA55E6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4C6-1314-45EF-81DE-044A20DE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9DC9-045E-4A1E-A781-710CB3B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E91-F330-46D0-A337-4B1A230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53D3-E039-404D-97AA-7FEA71C3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7D2-DEDE-4EA4-AED3-31F585B6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9A9-0B0E-406C-BA67-2BAC8D2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74F1-C0EF-475D-8E9D-1C4310A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710-55A7-4EC6-AED2-D8C412CC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E632-FF84-4AB2-BD0B-ABA4059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33EF-3ED1-405D-A323-2C932D2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D077-3BB3-48DA-81C0-3EF986E9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CCBC-9674-4970-9EF0-3BA448A3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BCF-6C25-417A-8DEF-5CBB61E5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EB25-B9FE-495C-B316-79A37A49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E9DF-17C9-4866-93BB-5805BD5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0A77-85F5-4FB7-B823-62D47B0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4B5F-81B4-4799-A2BC-C27D5FB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CC7E-550B-4A61-B2C5-E7DBCCD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433-55B9-48F0-8182-D07CEA7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771C-892B-4870-AFC3-1CB4011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019C-10BF-4EC1-8AF7-C3E6F34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8F70-0237-47AC-BCF7-BEF409C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42FF-3898-4080-BC37-E85558D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12F9-B6E0-45FD-95D1-612079C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DF86-C4BA-452E-97CF-A63EF6C2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6FD0-DABC-41A6-B7DF-A3E5B1B6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1EAA-0E5B-4256-93D9-8A0A845F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29E4-93C5-4F46-BC0D-D5969A3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577E-213C-4E40-8E18-849669A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9D4-426B-478E-BBFB-93DACEB2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F11C-E9B4-49C5-B797-99C7108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58E4-AEDA-40FE-952C-EE550C04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0E21-5895-4C83-A0DF-DB9E5CF5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0C71-5981-4134-9BAC-A203869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76AC-BFF0-4E87-84E3-478050F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11D6-6EB4-4DA3-8515-69F36D9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9846-C32E-4905-9D78-944D5AF9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336B-ADBD-482F-81D7-792FC4B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7E3E-7557-4EA2-913F-62C2D0FE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B62E-E1FC-41D9-B039-D216BA8A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174-D44B-4597-8502-0B9967D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D56E-D223-46B0-8F5A-A26D17B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D566-49B8-4B07-A901-A5EE74C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FD42-298E-4E5A-8139-18DE761E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BB564-B251-4A9F-B6A7-68AABC7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92DE-0DB4-4CAF-80DD-7EF67EE8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0865-AF9C-4D1C-84B2-FC22F439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E9C4-3D4D-4E72-9151-C2CBDA5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D578-A2D4-45AA-A3C3-586760E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9576-F63F-4BE9-934C-03DF389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6DB2-6F24-4723-8AF7-C87DC35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66F-4FC7-4F77-ABC4-7EAF4CF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4573-5B14-4684-8A00-7292394E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73F6-8321-4192-BAF0-997396A9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186A-B679-43D5-B208-6896ABAA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B83F-14BC-4251-A437-EA159C1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B909D-9C8D-4FE9-8F46-4D6F945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0885-A736-4612-9873-7C48DE4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A657F-BC65-4142-BC15-233F0D5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1095-6879-4E39-BAA8-AD78ADC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DB00-544B-47DF-905F-822A974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BD74-C1B8-4D05-AF9E-2413F5B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2A9-714A-44D6-B0C3-3C76634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D482-2C8C-464E-94A0-1F45C5DE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E381-FD55-42CD-ABE5-2CBA9F4D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8EC5-6118-4808-B3E4-1B7E1B21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C8A0-F4EE-4ED2-BC68-44F6E85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0119-6A7C-4D2F-8A05-D7FEF17A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1CF6-DF19-47FA-817F-3765392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3DD9-8160-40F7-A6F6-BFD57CF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B5F9-EC26-45EF-90D9-6FF29C4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B50EE-3F57-4CAE-BF44-821595B9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BA72-9520-4006-9C4E-E7280F3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6DA-5952-43DE-8989-FEBB5E2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D87E1-04B1-47B0-BF83-0D9A1B0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F9E4-5670-4196-B87D-2719BA9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2BEB-B193-4398-ABE1-1D65F62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E1C00-CEBF-4E2E-B6CA-E74AF90F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A87E-AB20-42EF-B5B4-DD064D1E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B3C67-9494-4327-9058-375C1061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2B33C-2469-425D-B2E4-88778DA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9C1F-B9BF-4BB0-8D42-1E3AF680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A194-27B4-43E7-8093-B535CCF0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751A-A826-424D-8FD5-D390BBB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0ED-774D-4B2C-B3C6-34CCE1F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9190F-49D6-447B-A42B-6E8B82E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75CFF-24F5-4523-8675-76F477D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AD6F-20CD-49B2-A2CF-B2E8EB5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BD520-4A37-4CFA-AAEB-5D35630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D763-4377-4118-A6B2-C180E95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7FF6-2181-4D2E-92C8-40B46CA9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5EA7-A0F2-4516-A716-DE5AC977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2169E-A95A-4ABB-88D1-205BB46B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4E6A-4F8F-493F-9100-4E23453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84656-B063-4183-9ADE-67C736D2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258E-1A9B-4923-B73C-F36277193C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1BC3-0903-4307-ADA1-9768282AFE1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1E0-E59C-4E6C-B416-3A4A735DCE7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2A6-21DC-4908-B4BF-263F2537288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BE4-D87B-4BFD-9E94-527FF3DB62F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6C9-56DD-4F31-B73A-C9854626D8C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7CE-EE2F-4809-B7C8-0D382A52FDE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9EB-D0F5-47B0-BCC8-F909D738185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E5E5-E3A7-4A2A-8D46-45FCDA43F70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15920" y="79200"/>
            <a:ext cx="8577360" cy="17132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714240" y="1357200"/>
            <a:ext cx="1700280" cy="9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279360" y="1571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1491480" y="9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989280" y="2357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0"/>
          <p:cNvSpPr/>
          <p:nvPr/>
        </p:nvSpPr>
        <p:spPr>
          <a:xfrm>
            <a:off x="3571920" y="1357200"/>
            <a:ext cx="1928880" cy="121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12"/>
          <p:cNvSpPr/>
          <p:nvPr/>
        </p:nvSpPr>
        <p:spPr>
          <a:xfrm flipV="1">
            <a:off x="3571920" y="1357200"/>
            <a:ext cx="192888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3691080" y="15717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4905360" y="19288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5"/>
          <p:cNvSpPr/>
          <p:nvPr/>
        </p:nvSpPr>
        <p:spPr>
          <a:xfrm>
            <a:off x="3722760" y="2571840"/>
            <a:ext cx="1684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6"/>
          <p:cNvSpPr/>
          <p:nvPr/>
        </p:nvSpPr>
        <p:spPr>
          <a:xfrm>
            <a:off x="6715080" y="1285920"/>
            <a:ext cx="1428840" cy="1428840"/>
          </a:xfrm>
          <a:prstGeom prst="rect">
            <a:avLst/>
          </a:prstGeom>
          <a:solidFill>
            <a:srgbClr val="d2a01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7"/>
          <p:cNvSpPr/>
          <p:nvPr/>
        </p:nvSpPr>
        <p:spPr>
          <a:xfrm>
            <a:off x="6279840" y="171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8"/>
          <p:cNvSpPr/>
          <p:nvPr/>
        </p:nvSpPr>
        <p:spPr>
          <a:xfrm>
            <a:off x="6940440" y="28576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9"/>
          <p:cNvSpPr/>
          <p:nvPr/>
        </p:nvSpPr>
        <p:spPr>
          <a:xfrm>
            <a:off x="500040" y="4214880"/>
            <a:ext cx="42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 д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 000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0"/>
          <p:cNvSpPr/>
          <p:nvPr/>
        </p:nvSpPr>
        <p:spPr>
          <a:xfrm>
            <a:off x="5214960" y="4429080"/>
            <a:ext cx="35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а = 10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а = 100 а = 10 00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 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15920" y="115920"/>
            <a:ext cx="8577360" cy="1712880"/>
          </a:xfrm>
          <a:prstGeom prst="rect">
            <a:avLst/>
          </a:prstGeom>
          <a:ln w="0">
            <a:noFill/>
          </a:ln>
        </p:spPr>
      </p:pic>
      <p:sp>
        <p:nvSpPr>
          <p:cNvPr id="415" name="Куб 2"/>
          <p:cNvSpPr/>
          <p:nvPr/>
        </p:nvSpPr>
        <p:spPr>
          <a:xfrm>
            <a:off x="571680" y="1143000"/>
            <a:ext cx="2428560" cy="1716120"/>
          </a:xfrm>
          <a:prstGeom prst="cube">
            <a:avLst>
              <a:gd name="adj" fmla="val 25000"/>
            </a:avLst>
          </a:prstGeom>
          <a:solidFill>
            <a:srgbClr val="e2d6c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Куб 3"/>
          <p:cNvSpPr/>
          <p:nvPr/>
        </p:nvSpPr>
        <p:spPr>
          <a:xfrm>
            <a:off x="6357960" y="1214280"/>
            <a:ext cx="1500120" cy="1501920"/>
          </a:xfrm>
          <a:prstGeom prst="cube">
            <a:avLst>
              <a:gd name="adj" fmla="val 25000"/>
            </a:avLst>
          </a:prstGeom>
          <a:solidFill>
            <a:srgbClr val="c4ad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3687120" y="150012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ш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б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228240" y="3143160"/>
            <a:ext cx="27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 = a 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6383520" y="3286080"/>
            <a:ext cx="108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 = 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8"/>
          <p:cNvSpPr/>
          <p:nvPr/>
        </p:nvSpPr>
        <p:spPr>
          <a:xfrm>
            <a:off x="1000080" y="1143000"/>
            <a:ext cx="0" cy="128412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0"/>
          <p:cNvSpPr/>
          <p:nvPr/>
        </p:nvSpPr>
        <p:spPr>
          <a:xfrm>
            <a:off x="1000080" y="2428920"/>
            <a:ext cx="2000160" cy="144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4"/>
          <p:cNvSpPr/>
          <p:nvPr/>
        </p:nvSpPr>
        <p:spPr>
          <a:xfrm flipH="1">
            <a:off x="571680" y="2428920"/>
            <a:ext cx="428400" cy="42876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6"/>
          <p:cNvSpPr/>
          <p:nvPr/>
        </p:nvSpPr>
        <p:spPr>
          <a:xfrm flipH="1">
            <a:off x="6714720" y="1214280"/>
            <a:ext cx="1800" cy="114300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8"/>
          <p:cNvSpPr/>
          <p:nvPr/>
        </p:nvSpPr>
        <p:spPr>
          <a:xfrm>
            <a:off x="6715080" y="2357280"/>
            <a:ext cx="1143000" cy="180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7"/>
          <p:cNvSpPr/>
          <p:nvPr/>
        </p:nvSpPr>
        <p:spPr>
          <a:xfrm flipH="1">
            <a:off x="6357960" y="2357280"/>
            <a:ext cx="357120" cy="357480"/>
          </a:xfrm>
          <a:prstGeom prst="line">
            <a:avLst/>
          </a:prstGeom>
          <a:ln w="10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9"/>
          <p:cNvSpPr/>
          <p:nvPr/>
        </p:nvSpPr>
        <p:spPr>
          <a:xfrm>
            <a:off x="212400" y="178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0"/>
          <p:cNvSpPr/>
          <p:nvPr/>
        </p:nvSpPr>
        <p:spPr>
          <a:xfrm>
            <a:off x="1418760" y="2857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1"/>
          <p:cNvSpPr/>
          <p:nvPr/>
        </p:nvSpPr>
        <p:spPr>
          <a:xfrm>
            <a:off x="623520" y="214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32"/>
          <p:cNvSpPr/>
          <p:nvPr/>
        </p:nvSpPr>
        <p:spPr>
          <a:xfrm>
            <a:off x="6784920" y="2714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3"/>
          <p:cNvSpPr/>
          <p:nvPr/>
        </p:nvSpPr>
        <p:spPr>
          <a:xfrm>
            <a:off x="2143080" y="4786200"/>
            <a:ext cx="500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1 000 м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д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1 л = 1 000 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1 000 д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1 000 000 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250920" y="33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57120" y="428760"/>
            <a:ext cx="42148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8 + 82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7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7 + 98 + 1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  в га     45 000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)   в литрах    2 070 0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) Найди объем куба с реб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Найт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сторонами 6 и 3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) Найди объем прямоуг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епипед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ми  5; 8 и 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 flipH="1">
            <a:off x="4500000" y="428760"/>
            <a:ext cx="4252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547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72 – 72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 4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4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359 + 89 + 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 3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 4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  в га    35 000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)   в литрах   3 410 0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) Найди объем куба с реб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Найт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сторонами 3 и 7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) Найди объем прямоуг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епипед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ми 2; 7 и 5 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500120" y="1071720"/>
          <a:ext cx="6096240" cy="4079880"/>
        </p:xfrm>
        <a:graphic>
          <a:graphicData uri="http://schemas.openxmlformats.org/drawingml/2006/table">
            <a:tbl>
              <a:tblPr/>
              <a:tblGrid>
                <a:gridCol w="1476360"/>
                <a:gridCol w="2143080"/>
                <a:gridCol w="24768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1224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1224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12240">
                      <a:solidFill>
                        <a:srgbClr val="f0a22e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1224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4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1224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4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1224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4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50 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0 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70 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410 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 с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 с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 д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1 д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0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0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a22e"/>
                      </a:solidFill>
                    </a:lnL>
                    <a:lnR w="5760">
                      <a:solidFill>
                        <a:srgbClr val="f0a22e"/>
                      </a:solidFill>
                    </a:lnR>
                    <a:lnT w="5760">
                      <a:solidFill>
                        <a:srgbClr val="f0a22e"/>
                      </a:solidFill>
                    </a:lnT>
                    <a:lnB w="5760">
                      <a:solidFill>
                        <a:srgbClr val="f0a2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TextBox 3"/>
          <p:cNvSpPr/>
          <p:nvPr/>
        </p:nvSpPr>
        <p:spPr>
          <a:xfrm>
            <a:off x="1071720" y="5429160"/>
            <a:ext cx="7358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ученн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– верно 9-10 заданий     3 – верно 6-5 зад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– верно  7-8 заданий      2 – верно 4 и меньше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4"/>
          <p:cNvSpPr/>
          <p:nvPr/>
        </p:nvSpPr>
        <p:spPr>
          <a:xfrm>
            <a:off x="971640" y="1700280"/>
            <a:ext cx="6624720" cy="388944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692360" y="3429000"/>
            <a:ext cx="1439640" cy="14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572000" y="3429000"/>
            <a:ext cx="144000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1692360" y="371628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4572000" y="371628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2411280" y="3716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5292720" y="3716280"/>
            <a:ext cx="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1979640" y="1700280"/>
            <a:ext cx="0" cy="1728720"/>
          </a:xfrm>
          <a:prstGeom prst="line">
            <a:avLst/>
          </a:prstGeom>
          <a:ln w="0">
            <a:solidFill>
              <a:srgbClr val="000000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"/>
          <p:cNvSpPr/>
          <p:nvPr/>
        </p:nvSpPr>
        <p:spPr>
          <a:xfrm flipH="1">
            <a:off x="971640" y="4869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0"/>
          <p:cNvSpPr/>
          <p:nvPr/>
        </p:nvSpPr>
        <p:spPr>
          <a:xfrm rot="8232000">
            <a:off x="6227280" y="2923920"/>
            <a:ext cx="1935360" cy="1743120"/>
          </a:xfrm>
          <a:prstGeom prst="parallelogram">
            <a:avLst>
              <a:gd name="adj" fmla="val 9161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3"/>
          <p:cNvSpPr/>
          <p:nvPr/>
        </p:nvSpPr>
        <p:spPr>
          <a:xfrm>
            <a:off x="1692360" y="486900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4"/>
          <p:cNvSpPr/>
          <p:nvPr/>
        </p:nvSpPr>
        <p:spPr>
          <a:xfrm>
            <a:off x="3132000" y="458136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6011640" y="458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0"/>
          <p:cNvSpPr/>
          <p:nvPr/>
        </p:nvSpPr>
        <p:spPr>
          <a:xfrm flipH="1">
            <a:off x="313200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32400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3616920" y="56563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755640" y="17668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1692360" y="1197000"/>
            <a:ext cx="5759280" cy="43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7451640" y="2708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 flipV="1">
            <a:off x="7451640" y="119700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>
            <a:off x="1692360" y="1197000"/>
            <a:ext cx="575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1692360" y="1197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>
            <a:off x="1692360" y="5516640"/>
            <a:ext cx="575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V="1">
            <a:off x="7451640" y="4149360"/>
            <a:ext cx="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7451640" y="4149720"/>
            <a:ext cx="57636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 flipV="1">
            <a:off x="7451640" y="220500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3132000" y="1989000"/>
            <a:ext cx="2880000" cy="2808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4050000" y="56088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971640" y="3232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7506000" y="323208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250920" y="3357720"/>
            <a:ext cx="5761080" cy="295092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572000" y="189000"/>
            <a:ext cx="4319640" cy="280836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851280" y="4149720"/>
            <a:ext cx="1441440" cy="14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3851280" y="443700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5"/>
          <p:cNvSpPr/>
          <p:nvPr/>
        </p:nvSpPr>
        <p:spPr>
          <a:xfrm>
            <a:off x="4572000" y="443700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6012000" y="836640"/>
            <a:ext cx="1439640" cy="2160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>
            <a:off x="6732720" y="83664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2464200" y="457524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1403280" y="3736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7524720" y="17924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6136200" y="471960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3635280" y="1413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6443640" y="47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6516720" y="30891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2751480" y="284796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971640" y="4149720"/>
            <a:ext cx="1439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971640" y="44370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1692360" y="44370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8" descr=""/>
          <p:cNvPicPr/>
          <p:nvPr/>
        </p:nvPicPr>
        <p:blipFill>
          <a:blip r:embed="rId1"/>
          <a:stretch/>
        </p:blipFill>
        <p:spPr>
          <a:xfrm>
            <a:off x="-6480" y="414360"/>
            <a:ext cx="9156960" cy="126828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0"/>
          <p:cNvSpPr/>
          <p:nvPr/>
        </p:nvSpPr>
        <p:spPr>
          <a:xfrm>
            <a:off x="1345680" y="1387440"/>
            <a:ext cx="62953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исовать в тетради свой параллелеп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рить его длину, ширину и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площадь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площадь полной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ь объем параллелепи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071720" y="3714840"/>
          <a:ext cx="7275240" cy="2562120"/>
        </p:xfrm>
        <a:graphic>
          <a:graphicData uri="http://schemas.openxmlformats.org/drawingml/2006/table">
            <a:tbl>
              <a:tblPr/>
              <a:tblGrid>
                <a:gridCol w="936360"/>
                <a:gridCol w="1152720"/>
                <a:gridCol w="1152360"/>
                <a:gridCol w="1368360"/>
                <a:gridCol w="1670040"/>
                <a:gridCol w="995400"/>
              </a:tblGrid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основа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полной поверхност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396720"/>
            <a:ext cx="5962680" cy="2767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C:\Users\Toshiba\Pictures\картинки\kvadrat.gif"/>
          <p:cNvPicPr/>
          <p:nvPr/>
        </p:nvPicPr>
        <p:blipFill>
          <a:blip r:embed="rId2"/>
          <a:stretch/>
        </p:blipFill>
        <p:spPr>
          <a:xfrm>
            <a:off x="3143160" y="3500280"/>
            <a:ext cx="26431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6:09:00Z</dcterms:created>
  <dc:creator>Тан4а</dc:creator>
  <dc:description/>
  <dc:language>en-US</dc:language>
  <cp:lastModifiedBy>Toshiba</cp:lastModifiedBy>
  <dcterms:modified xsi:type="dcterms:W3CDTF">2012-11-12T18:35:40Z</dcterms:modified>
  <cp:revision>11</cp:revision>
  <dc:subject/>
  <dc:title>Слайд 1</dc:title>
</cp:coreProperties>
</file>