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0E52-6599-47C0-B3DB-21798F2A4A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7A86-6A9D-488F-9FDA-AFA854524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749C-6B29-44EE-AC89-82B4E3E9C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51CD-1362-406F-8DD9-6A040AC57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8DF-1BCE-4FEC-9A08-E38F6579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91F-EF6E-4E63-A931-30589E94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F51-E0B1-4B28-A420-7F2245B2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F47-8942-4861-8448-4FD9DC4F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273F-04F5-460D-8686-5456E47C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72B2-5618-4727-A859-F92A2134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9DBD-4FD2-43A2-8AF3-444E9A29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0DB9-8580-4E3C-8321-AD0DE565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2E46-7DA3-4AD2-B31E-24975DE8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8FDA-2D04-448F-9A84-6478765D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7CDD-AFEC-4E2B-A058-D6955C84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A27-4B47-4A04-A90F-C752F0D5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C7F4-99F6-467B-A544-8C90FD0E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98E7-10C9-4FC2-9DC0-688D6504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F609-A33B-491D-B5A5-87FADAFB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85F4-C7BE-467C-9420-97B7B8FF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7493-68CC-4759-BA1B-6FE10260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057D-ECA8-4315-891B-072D6B89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6B8F-D987-47BF-8F0D-AE0ED247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8A84-1889-47CA-9E6D-85DB6A42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38B7-08CD-418A-A558-A6F0DE42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85D7-BB04-4E9A-B9D9-A25A015B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1FA-A337-45C0-856F-46592A6C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B94A-DD30-42F9-BBA1-9787CDF2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D249-2A8C-477F-9406-2157C905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F434-CFD6-4CAA-B5C2-4081CB0B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EA12-EE54-44D0-A27A-556C040D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B670-C180-4EEE-AF71-E65F10DA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FF04-A58B-450A-8AB7-59BFF0F5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465E-D047-45CF-BF7C-16D3B510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8962-B3BD-47AB-AD76-61A1391B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33CC-74D2-4BE7-A22C-9B2AB092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08C5-354F-4D56-A1B5-3D3E9CF4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0F4-0C52-4E7C-8EF0-EDAFCF5B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BE802-5279-4BB1-92F1-BECC9ECE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2512-2178-4122-911D-09A90952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CA5A-796C-410D-9FC4-8B4F5382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3CB6-84B3-422F-A2D6-FA0F418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EFA7C-77C2-44A1-B622-0D03AE16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CF34-D66B-476E-8542-C7581C01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CB14-7566-481E-8E66-081F18E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7A02-5A58-4197-9ED6-7497F930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0A39-66BE-4726-A841-54D08289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DA6FD-1FE0-4A96-A40D-D489C383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241-8533-41F2-8E92-24E9BCC6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AD12E-7BD7-4562-B2C8-752B9D87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F8192-CDB2-438B-937F-9B2FCC4C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C5FF5-1B50-4428-AD03-9AC8E45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3FE0-8119-477B-8C43-DCCEF1F2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7B2A-8E4E-44A7-A738-214EE429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7B015-D573-415C-93F1-792A7612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76381-AD28-4709-A4A1-13EBF611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8A5F-B4D0-4FEF-BECF-F8A2F471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AAA5F-2C81-4ACF-B854-E3EDC50B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0D2E-349E-4F1E-9259-7E34DA35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7E0-18F1-4FAD-99C3-73A6B2CA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47B8-F879-42BD-B927-5E5BC3FD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31A-3D3F-44FC-B2E9-2C5D7A9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2D4-4CEA-49CA-9980-9FE1FB0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0FA-2016-4254-B0F3-656AF50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2630-152A-421F-ACEA-67519C30D8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E403-EA77-4105-9FEA-3F7D8303A7F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17B3-FEBF-4B5D-80C9-9804FF8A211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EAF3-9308-46F4-85DC-AB191DDFFA8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B7E0-3DBD-4FB8-850C-8D7ECCB7664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Fcg0jIQPxU&amp;feature=related" TargetMode="External"/><Relationship Id="rId2" Type="http://schemas.openxmlformats.org/officeDocument/2006/relationships/hyperlink" Target="http://ruskline.ru/analitika/2011/03/29/chtenie_psaltyri_v_nachalnoj_shkole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14880" y="0"/>
            <a:ext cx="421488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0000"/>
                </a:solidFill>
                <a:latin typeface="a_Albionic"/>
              </a:rPr>
              <a:t>Читаем Псалтирь</a:t>
            </a:r>
            <a:endParaRPr b="1" lang="en-US" sz="6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785840" y="3886200"/>
            <a:ext cx="2986200" cy="2185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70c0"/>
                </a:solidFill>
                <a:latin typeface="Verdana"/>
              </a:rPr>
              <a:t>Презентацию приготовили </a:t>
            </a:r>
            <a:br>
              <a:rPr sz="1700"/>
            </a:br>
            <a:r>
              <a:rPr b="0" lang="ru-RU" sz="1700" spc="-1" strike="noStrike">
                <a:solidFill>
                  <a:srgbClr val="0070c0"/>
                </a:solidFill>
                <a:latin typeface="Verdana"/>
              </a:rPr>
              <a:t> учащиеся  4 «А» и 4 «Б» классов</a:t>
            </a:r>
            <a:br>
              <a:rPr sz="1700"/>
            </a:br>
            <a:r>
              <a:rPr b="0" lang="ru-RU" sz="1700" spc="-1" strike="noStrike">
                <a:solidFill>
                  <a:srgbClr val="0070c0"/>
                </a:solidFill>
                <a:latin typeface="Verdana"/>
              </a:rPr>
              <a:t>МОУ «Средняя школа №11» г. Кимры</a:t>
            </a:r>
            <a:br>
              <a:rPr sz="1700"/>
            </a:br>
            <a:r>
              <a:rPr b="0" lang="ru-RU" sz="1700" spc="-1" strike="noStrike">
                <a:solidFill>
                  <a:srgbClr val="0070c0"/>
                </a:solidFill>
                <a:latin typeface="Verdana"/>
              </a:rPr>
              <a:t>Кураторы:  Рябова Г.Г.</a:t>
            </a:r>
            <a:br>
              <a:rPr sz="1700"/>
            </a:br>
            <a:r>
              <a:rPr b="0" lang="ru-RU" sz="1700" spc="-1" strike="noStrike">
                <a:solidFill>
                  <a:srgbClr val="0070c0"/>
                </a:solidFill>
                <a:latin typeface="Verdana"/>
              </a:rPr>
              <a:t>Анохина Н.А.</a:t>
            </a:r>
            <a:br>
              <a:rPr sz="1700"/>
            </a:br>
            <a:r>
              <a:rPr b="0" lang="ru-RU" sz="1700" spc="-1" strike="noStrike">
                <a:solidFill>
                  <a:srgbClr val="0070c0"/>
                </a:solidFill>
                <a:latin typeface="Verdana"/>
              </a:rPr>
              <a:t>Белова О.В.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psaltir_na_vsyaku_potrebu_enl.jpg"/>
          <p:cNvPicPr/>
          <p:nvPr/>
        </p:nvPicPr>
        <p:blipFill>
          <a:blip r:embed="rId1"/>
          <a:stretch/>
        </p:blipFill>
        <p:spPr>
          <a:xfrm>
            <a:off x="714240" y="714240"/>
            <a:ext cx="3322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Содержимое 3" descr="0_95edb_40976b0c_XL.jpeg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Содержимое 3" descr="0_95ee4_c7f624c2_XL.jpeg"/>
          <p:cNvPicPr/>
          <p:nvPr/>
        </p:nvPicPr>
        <p:blipFill>
          <a:blip r:embed="rId1"/>
          <a:stretch/>
        </p:blipFill>
        <p:spPr>
          <a:xfrm>
            <a:off x="357120" y="231840"/>
            <a:ext cx="85010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Содержимое 3" descr="736128051.jpg"/>
          <p:cNvPicPr/>
          <p:nvPr/>
        </p:nvPicPr>
        <p:blipFill>
          <a:blip r:embed="rId1"/>
          <a:stretch/>
        </p:blipFill>
        <p:spPr>
          <a:xfrm>
            <a:off x="142920" y="285840"/>
            <a:ext cx="87310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85880" y="4071600"/>
            <a:ext cx="3000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Фотографии 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с урока «Псалтирь в православной культуре.»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4" name="Содержимое 3" descr="PA160003.JPG"/>
          <p:cNvPicPr/>
          <p:nvPr/>
        </p:nvPicPr>
        <p:blipFill>
          <a:blip r:embed="rId1"/>
          <a:stretch/>
        </p:blipFill>
        <p:spPr>
          <a:xfrm>
            <a:off x="857160" y="571680"/>
            <a:ext cx="3198960" cy="23986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" descr="PA160004.JPG"/>
          <p:cNvPicPr/>
          <p:nvPr/>
        </p:nvPicPr>
        <p:blipFill>
          <a:blip r:embed="rId2"/>
          <a:stretch/>
        </p:blipFill>
        <p:spPr>
          <a:xfrm>
            <a:off x="4572000" y="71424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5" descr="PA160008.JPG"/>
          <p:cNvPicPr/>
          <p:nvPr/>
        </p:nvPicPr>
        <p:blipFill>
          <a:blip r:embed="rId3"/>
          <a:stretch/>
        </p:blipFill>
        <p:spPr>
          <a:xfrm>
            <a:off x="500040" y="300024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4560" y="2928600"/>
            <a:ext cx="39718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Verdana"/>
              </a:rPr>
              <a:t>Интернет-ресурсы:</a:t>
            </a:r>
            <a:br>
              <a:rPr sz="1300"/>
            </a:br>
            <a:r>
              <a:rPr b="1" lang="ru-RU" sz="1300" spc="-1" strike="noStrike" u="sng">
                <a:solidFill>
                  <a:srgbClr val="ff0000"/>
                </a:solidFill>
                <a:uFillTx/>
                <a:latin typeface="Verdana"/>
              </a:rPr>
              <a:t>http://www.youtube.com/watch?v=9mgb8thqcjQ&amp;feature=relmfu</a:t>
            </a:r>
            <a:br>
              <a:rPr sz="1300"/>
            </a:br>
            <a:r>
              <a:rPr b="1" lang="ru-RU" sz="13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youtube.com/watch?v=dFcg0jIQPxU&amp;feature=related</a:t>
            </a:r>
            <a:br>
              <a:rPr sz="1300"/>
            </a:br>
            <a:r>
              <a:rPr b="1" lang="ru-RU" sz="13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ruskline.ru/analitika/2011/03/29/chtenie_psaltyri_v_nachalnoj_shkole</a:t>
            </a:r>
            <a:br>
              <a:rPr sz="1300"/>
            </a:br>
            <a:r>
              <a:rPr b="1" lang="ru-RU" sz="1300" spc="-1" strike="noStrike" u="sng">
                <a:solidFill>
                  <a:srgbClr val="ff0000"/>
                </a:solidFill>
                <a:uFillTx/>
                <a:latin typeface="Verdana"/>
              </a:rPr>
              <a:t>фото авторов</a:t>
            </a:r>
            <a:br>
              <a:rPr sz="1300"/>
            </a:br>
            <a:br>
              <a:rPr sz="1300"/>
            </a:br>
            <a:endParaRPr b="1" lang="en-US" sz="1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Содержимое 3" descr="Открою я Псалтирь святую.jpeg"/>
          <p:cNvPicPr/>
          <p:nvPr/>
        </p:nvPicPr>
        <p:blipFill>
          <a:blip r:embed="rId3"/>
          <a:stretch/>
        </p:blipFill>
        <p:spPr>
          <a:xfrm>
            <a:off x="593640" y="928800"/>
            <a:ext cx="3772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99920" y="1356840"/>
            <a:ext cx="51865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ПСАЛТИРЬ 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Книга духовных песен – псалмов. Одна из книг Ветхого Завета. Получила название от музыкального инструмента псалтириона.  В Псалтирь вошло 150 псалмов. Их сочиняли пророки, цари, простые люди. Авторами псалмов были пророк Моисей, царь Соломон, певцы из племени левитов… Почти половину псалмов создал царь Давид. В них прославляли Бога, взывали к Нему о помощи, каялись в грехах, наставляли в Законе Божием, рассказывали об исторических событиях…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3" descr="c05361ba237e6d6a57b7bb49eecf8050.jpeg"/>
          <p:cNvPicPr/>
          <p:nvPr/>
        </p:nvPicPr>
        <p:blipFill>
          <a:blip r:embed="rId1"/>
          <a:stretch/>
        </p:blipFill>
        <p:spPr>
          <a:xfrm>
            <a:off x="642960" y="928800"/>
            <a:ext cx="27147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1153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Содержимое 3" descr="MemoryEternal.jpg"/>
          <p:cNvPicPr/>
          <p:nvPr/>
        </p:nvPicPr>
        <p:blipFill>
          <a:blip r:embed="rId1"/>
          <a:stretch/>
        </p:blipFill>
        <p:spPr>
          <a:xfrm>
            <a:off x="571680" y="135720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Псалом 50 - покаянный псалом Давида..gif"/>
          <p:cNvPicPr/>
          <p:nvPr/>
        </p:nvPicPr>
        <p:blipFill>
          <a:blip r:embed="rId2"/>
          <a:stretch/>
        </p:blipFill>
        <p:spPr>
          <a:xfrm>
            <a:off x="3857760" y="1000080"/>
            <a:ext cx="46386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3" descr="0_95eb2_d261983d_XL.jpeg"/>
          <p:cNvPicPr/>
          <p:nvPr/>
        </p:nvPicPr>
        <p:blipFill>
          <a:blip r:embed="rId1"/>
          <a:stretch/>
        </p:blipFill>
        <p:spPr>
          <a:xfrm>
            <a:off x="214200" y="142920"/>
            <a:ext cx="86457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Содержимое 3" descr="0_95eb7_b716569a_XL.jpeg"/>
          <p:cNvPicPr/>
          <p:nvPr/>
        </p:nvPicPr>
        <p:blipFill>
          <a:blip r:embed="rId1"/>
          <a:stretch/>
        </p:blipFill>
        <p:spPr>
          <a:xfrm>
            <a:off x="162000" y="285840"/>
            <a:ext cx="869616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Содержимое 3" descr="0_95ebc_d432bf18_XL.jpeg"/>
          <p:cNvPicPr/>
          <p:nvPr/>
        </p:nvPicPr>
        <p:blipFill>
          <a:blip r:embed="rId1"/>
          <a:stretch/>
        </p:blipFill>
        <p:spPr>
          <a:xfrm>
            <a:off x="285840" y="133200"/>
            <a:ext cx="857232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Содержимое 3" descr="0_95ec1_574fdc44_XL.jpeg"/>
          <p:cNvPicPr/>
          <p:nvPr/>
        </p:nvPicPr>
        <p:blipFill>
          <a:blip r:embed="rId1"/>
          <a:stretch/>
        </p:blipFill>
        <p:spPr>
          <a:xfrm>
            <a:off x="166680" y="214200"/>
            <a:ext cx="8691480" cy="65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Содержимое 3" descr="0_95ec8_3adb6731_XL.jpeg"/>
          <p:cNvPicPr/>
          <p:nvPr/>
        </p:nvPicPr>
        <p:blipFill>
          <a:blip r:embed="rId1"/>
          <a:stretch/>
        </p:blipFill>
        <p:spPr>
          <a:xfrm>
            <a:off x="357120" y="214200"/>
            <a:ext cx="83836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Содержимое 3" descr="0_95eda_f122567c_XL.jpe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3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3:32:09Z</dcterms:created>
  <dc:creator>Галина</dc:creator>
  <dc:description/>
  <dc:language>en-US</dc:language>
  <cp:lastModifiedBy>таня</cp:lastModifiedBy>
  <dcterms:modified xsi:type="dcterms:W3CDTF">2012-10-25T09:08:25Z</dcterms:modified>
  <cp:revision>11</cp:revision>
  <dc:subject/>
  <dc:title>Читаем Псалтирь</dc:title>
</cp:coreProperties>
</file>