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A48-7C6A-443A-9D6E-0FC5F7BA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F39-D935-4E0E-9D72-73FD763B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F75-C577-438B-8C0E-6407D032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44C-28D5-4C47-A60A-253FDC6A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8F06-AD86-446D-8DB8-E7D9FDAF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1831-D719-48B6-80D7-501CB34D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FF2A-16C3-4E7B-9080-60553805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6ACC-1852-4DCC-8205-6BF10B01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A8CE-7C0D-415A-81E8-1E1D9B0F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6E03-3DF8-4183-97D9-12F3B0A8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860D-33B4-4412-8398-A62728B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1C9-7BA5-4423-A20E-4F334D80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4E42-2848-4928-8550-187CB6C9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6F61-51D2-407D-AC96-BA1B0007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80D1-6748-49BD-97D3-79979E4C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4F70-0DFB-4ADF-9D66-7C6147B2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D62-27D5-4E96-B087-E583CE53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837-8964-4477-ADEC-DB9FE472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D95-DD0A-4215-A8A3-ECF2CEDA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5FC-D95B-4A2B-B85A-5FC15415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C5C-9F79-4B56-9CF3-2BE05CF1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24D-B49D-4D8F-9BB5-7A9E434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C94-A56E-414F-A1C1-20122D77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4D8-3905-4FE9-AEB2-18BC53E2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A66C-106E-4CA1-A6F3-DFE0C46F31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F7D8-4B3E-4EE5-8B30-7DD7033473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5400"/>
            </a:br>
            <a:endParaRPr b="0" lang="en-US" sz="8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7621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 rot="10800000">
            <a:off x="-3240" y="1751760"/>
            <a:ext cx="91504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езентацию по теме: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«БИОНИК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дготов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ченик 3 «А»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Навалов Дан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6178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рень сосны воплощён в постройке самой высокой в мире Останкинской башн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827360"/>
            <a:ext cx="3581280" cy="3778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733920" cy="3800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6112800"/>
            <a:ext cx="87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рни сосны                                        Останкинская баш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 образцу плодов репейника изобретена застёжка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2054160"/>
            <a:ext cx="3809880" cy="340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886200" cy="3352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62120" y="59436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лод репейника                                               Застёжка - липу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люв веретенника подал идею создания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ерационных ножниц и пинцета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733560" cy="3855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733920" cy="3886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 rot="10800000">
            <a:off x="682200" y="579096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юв веретенника                         Операционные ножницы и пинц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044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рыша в виде цветка  над стадионом в Киеве и в Кита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819160" cy="271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895840" cy="2743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520" y="5355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веток                       Стадион в Киеве                     Стадион в Кита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апы ловчих птиц подсказали идею изобретения  экскаватора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751040"/>
            <a:ext cx="3581280" cy="3781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сьминог помог придумать технические присоски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978200"/>
            <a:ext cx="3504960" cy="3477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73392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 rot="10800000">
            <a:off x="756720" y="58662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ьминог                                                 Технические присо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дею создания очков для слепых подали летучие мыш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657600" cy="391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58820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етучая мышь                                     Очки – локаторы для слепых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нцип скольжения пингвинов по рыхлому снегу воспроизведён в конструкции снегохода «Пингвин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429000" cy="3124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 rot="10826400">
            <a:off x="682200" y="5879160"/>
            <a:ext cx="80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егоход «Пингвин»                                  Пингв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Загадки природ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рода хранит ещё множество загадок, гармония её творений всегда удивляла и будет удивлять мир человека. Человек – творец, искатель будет стремиться постигнуть эти тайны, а поняв, воспроизводить в технике, строительстве на благо живущего и будущего человече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cc"/>
                </a:solidFill>
                <a:latin typeface="Tahoma"/>
              </a:rPr>
              <a:t>Конец.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еликий строитель - ПРИР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давно по телевизору я услышал незнакомое для меня слово: бионика.  Говорили, что Природа -  гениальный конструктор, инженер, великий строитель. Её творения отличаются красотой, прочностью и надёжностью при малых затратах строительного материа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ществует целая наука, которая строение  объектов природы воплощает в жизнь. Называется она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ионик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Ей занимаются люди самых разных профессий: биологи, врачи, физики, инженеры, математики. Мне стало интересно, и я решил узнать о бионике побольше. Приведу несколько примеров того, как Природа помогает людям создавать много полезных вещ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амолёты, вертолёты, подводные лодки – принципы их строения выявила «бионика».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221004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248520" y="175248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38080" y="4191120"/>
            <a:ext cx="221004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505320" y="419112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248520" y="4191120"/>
            <a:ext cx="2266920" cy="1904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2120" y="3780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амолет                            вертолёт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водная лод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71104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летные п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5639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 rot="10800000">
            <a:off x="3886200" y="57099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пособность тараканов и некоторых жуков передвигаться      по пересеченной местности натолкнула на мысль создания вездеходов и луноходов</a:t>
            </a: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троение глаза мухи нашло техническое воплощение в специальной фотокамер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65760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 rot="10797600">
            <a:off x="1066320" y="60048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з мухи                                                    Фотокам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2128680"/>
            <a:ext cx="3581640" cy="34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 аналогии с особенностями зрения некоторых хищных животных создан прибор ночного видения «кошачий глаз»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1978200"/>
            <a:ext cx="3581280" cy="332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570816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аз хищников                               Прибор ночного видения «кошачий  глаз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зучение механизма работы передних конечностей крота помогло создать землеройные машины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2205000"/>
            <a:ext cx="3657600" cy="3175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3124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 rot="10800000">
            <a:off x="684000" y="5790960"/>
            <a:ext cx="76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Крот                                            Землеройные маш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нструкцию берцовой кости полностью повторила Эйфелева башня в Париж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124080" cy="3855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3124440" cy="381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 rot="10800000">
            <a:off x="533520" y="595764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Берцовые кости                                       Эйфелева баш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чность трубчатых костей натолкнула на мысль создать опорные колонны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1978200"/>
            <a:ext cx="3382920" cy="351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276720" cy="3581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5949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ые трубчатые кости                                Опорные колон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0T20:22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