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BC7-605B-451B-8BAF-A21FF56C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6A4-C4B8-4C75-AA76-A57076A6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540-915C-4594-985A-AF2EF3DE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A22-9E7D-4435-AF4F-ACBF6C15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1EC1-B9A9-4D69-88AB-E93AA493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538D-42CC-41D1-97A4-925FA4F1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D92-BA3F-4819-9AF7-C7B36F71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9794-3303-4F9E-8AF9-BF05F7FC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2FA9-DAEE-4132-9767-FFA49B89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54EA-B717-4A51-B299-D1920E9F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A1E8-449E-49CD-AF2C-757F8A37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CB5-6E3A-4E2B-8151-0035E6B3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9B1B-102D-4CBE-A433-74195535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2E1A-6CE0-402B-8A6F-4FC7E1D0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E012-10FE-454D-B4FD-4A4CCEC9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3BB-9012-424D-912A-3217D69C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E8B5-E13A-43B5-A105-205796CB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2CF-B065-4ABD-9E9F-BBAB2FA5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1DB-A4F0-48A4-8F28-C79AC91D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7A9-587E-40EF-AD6A-6E7D3D1A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200-3B88-4CF6-BEBB-C9473DF0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8A0-DAA5-44EF-BD82-5EAF2DA6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E29-7DD2-40A1-9EB5-33A3FDE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02F-8675-4C5A-BCD8-8CDCC74A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D70B-80BB-4FDB-A59E-18EDFC358B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598E-E7C0-475C-BCDC-81DC23D8DC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5400"/>
            </a:b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 rot="10800000">
            <a:off x="-3240" y="1751760"/>
            <a:ext cx="9150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езентацию по теме: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«БИОН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дготов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ченик 3 «А»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валов Дан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6178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рень сосны воплощён в постройке самой высокой в мире Останкинской башн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827360"/>
            <a:ext cx="3581280" cy="3778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733920" cy="3800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6112800"/>
            <a:ext cx="87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рни сосны                                        Останкинская баш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 образцу плодов репейника изобретена застёжка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2054160"/>
            <a:ext cx="3809880" cy="340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886200" cy="3352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62120" y="59436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од репейника                                               Застёжка - липу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люв веретенника подал идею создания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ерационных ножниц и пинцета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733560" cy="3855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733920" cy="3886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 rot="10800000">
            <a:off x="682200" y="579096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юв веретенника                         Операционные ножницы и пинц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044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рыша в виде цветка  над стадионом в Киеве и в Кита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819160" cy="271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5355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веток                       Стадион в Киеве                     Стадион в Кита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апы ловчих птиц подсказали идею изобретения  экскаватора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751040"/>
            <a:ext cx="3581280" cy="3781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ьминог помог придумать технические присоск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978200"/>
            <a:ext cx="3504960" cy="3477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 rot="10800000">
            <a:off x="756720" y="58662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ьминог                                                 Технические присо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дею создания очков для слепых подали летучие мыш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657600" cy="391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58820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тучая мышь                                     Очки – локаторы для слепых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нцип скольжения пингвинов по рыхлому снегу воспроизведён в конструкции снегохода «Пингвин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429000" cy="3124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 rot="10826400">
            <a:off x="682200" y="5879160"/>
            <a:ext cx="80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егоход «Пингвин»                                  Пингв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Загадки природ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рода хранит ещё множество загадок, гармония её творений всегда удивляла и будет удивлять мир человека. Человек – творец, искатель будет стремиться постигнуть эти тайны, а поняв, воспроизводить в технике, строительстве на благо живущего и будущего человече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cc"/>
                </a:solidFill>
                <a:latin typeface="Tahoma"/>
              </a:rPr>
              <a:t>Конец.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ликий строитель - ПРИР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давно по телевизору я услышал незнакомое для меня слово: бионика.  Говорили, что Природа -  гениальный конструктор, инженер, великий строитель. Её творения отличаются красотой, прочностью и надёжностью при малых затратах строительного материа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ществует целая наука, которая строение  объектов природы воплощает в жизнь. Называется он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ионик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Ей занимаются люди самых разных профессий: биологи, врачи, физики, инженеры, математики. Мне стало интересно, и я решил узнать о бионике побольше. Приведу несколько примеров того, как Природа помогает людям создавать много полезных вещ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амолёты, вертолёты, подводные лодки – принципы их строения выявила «бионик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221004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248520" y="17524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38080" y="4191120"/>
            <a:ext cx="221004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505320" y="419112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248520" y="4191120"/>
            <a:ext cx="226692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120" y="378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олет                            вертолёт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водная лод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71104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летные 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5639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 rot="10800000">
            <a:off x="3886200" y="57099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пособность тараканов и некоторых жуков передвигаться      по пересеченной местности натолкнула на мысль создания вездеходов и луноходов</a:t>
            </a: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троение глаза мухи нашло техническое воплощение в специальной фотокамер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 rot="10797600">
            <a:off x="1066320" y="60048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з мухи                                                    Фотокам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2128680"/>
            <a:ext cx="3581640" cy="34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 аналогии с особенностями зрения некоторых хищных животных создан прибор ночного видения «кошачий глаз»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1978200"/>
            <a:ext cx="3581280" cy="332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570816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аз хищников                               Прибор ночного видения «кошачий  глаз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зучение механизма работы передних конечностей крота помогло создать землеройные машины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2205000"/>
            <a:ext cx="3657600" cy="3175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3124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 rot="10800000">
            <a:off x="684000" y="5790960"/>
            <a:ext cx="76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Крот                                            Землеройные маш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нструкцию берцовой кости полностью повторила Эйфелева башня в Париж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124080" cy="385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124440" cy="381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 rot="10800000">
            <a:off x="533520" y="595764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Берцовые кости                                       Эйфелева баш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чность трубчатых костей натолкнула на мысль создать опорные колонны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978200"/>
            <a:ext cx="3382920" cy="351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276720" cy="3581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5949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ые трубчатые кости                                Опорные колон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0T20:22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