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1.gif" ContentType="image/gif"/>
  <Override PartName="/ppt/media/image27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FCF5-F3FC-4C3A-A2D4-FFE2F049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3FC-AC4E-4B6B-BB02-146F3303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D53-2D5B-422C-A7A0-8C8731CD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E4C-C883-467D-8EAA-30983B9F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072D-8372-46B7-8265-FBD0DD0C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237-345E-4EDF-BD38-526A3C0D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416-5D54-4EFD-8D50-646C0548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142-2D68-4E5B-99FF-BAEEB14B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372-D21F-40A5-A1D6-1B8C8790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49AF-C288-4DCF-BC38-48249FC7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D19-5F60-43E9-82FC-FA79D865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7C6-1C92-44C5-AA1B-46AADBA4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b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b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b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b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b1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b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b1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b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EB47-5CB7-4453-A4DB-AE9C242B7592}" type="slidenum">
              <a:rPr b="0" lang="en-US" sz="1400" spc="-1" strike="noStrike">
                <a:solidFill>
                  <a:srgbClr val="ffffb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4.xml"/><Relationship Id="rId3" Type="http://schemas.openxmlformats.org/officeDocument/2006/relationships/slide" Target="slide2.xm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7.xml"/><Relationship Id="rId3" Type="http://schemas.openxmlformats.org/officeDocument/2006/relationships/slide" Target="slide2.xml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8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9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0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41.xml"/><Relationship Id="rId3" Type="http://schemas.openxmlformats.org/officeDocument/2006/relationships/slide" Target="slide2.xm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32.xml"/><Relationship Id="rId3" Type="http://schemas.openxmlformats.org/officeDocument/2006/relationships/slide" Target="slide4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4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21.xml"/><Relationship Id="rId9" Type="http://schemas.openxmlformats.org/officeDocument/2006/relationships/slide" Target="slide13.xml"/><Relationship Id="rId10" Type="http://schemas.openxmlformats.org/officeDocument/2006/relationships/slide" Target="slide21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6.xml"/><Relationship Id="rId16" Type="http://schemas.openxmlformats.org/officeDocument/2006/relationships/slide" Target="slide3.xml"/><Relationship Id="rId17" Type="http://schemas.openxmlformats.org/officeDocument/2006/relationships/slide" Target="slide3.xml"/><Relationship Id="rId18" Type="http://schemas.openxmlformats.org/officeDocument/2006/relationships/slide" Target="slide27.xml"/><Relationship Id="rId19" Type="http://schemas.openxmlformats.org/officeDocument/2006/relationships/slide" Target="slide4.xml"/><Relationship Id="rId20" Type="http://schemas.openxmlformats.org/officeDocument/2006/relationships/slide" Target="slide5.xml"/><Relationship Id="rId21" Type="http://schemas.openxmlformats.org/officeDocument/2006/relationships/slide" Target="slide5.xml"/><Relationship Id="rId22" Type="http://schemas.openxmlformats.org/officeDocument/2006/relationships/slide" Target="slide6.xml"/><Relationship Id="rId23" Type="http://schemas.openxmlformats.org/officeDocument/2006/relationships/slide" Target="slide6.xml"/><Relationship Id="rId24" Type="http://schemas.openxmlformats.org/officeDocument/2006/relationships/slide" Target="slide8.xml"/><Relationship Id="rId25" Type="http://schemas.openxmlformats.org/officeDocument/2006/relationships/slide" Target="slide8.xml"/><Relationship Id="rId26" Type="http://schemas.openxmlformats.org/officeDocument/2006/relationships/slide" Target="slide17.xml"/><Relationship Id="rId27" Type="http://schemas.openxmlformats.org/officeDocument/2006/relationships/slide" Target="slide14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9.xml"/><Relationship Id="rId31" Type="http://schemas.openxmlformats.org/officeDocument/2006/relationships/slide" Target="slide19.xml"/><Relationship Id="rId32" Type="http://schemas.openxmlformats.org/officeDocument/2006/relationships/slide" Target="slide20.xml"/><Relationship Id="rId33" Type="http://schemas.openxmlformats.org/officeDocument/2006/relationships/slide" Target="slide20.xml"/><Relationship Id="rId34" Type="http://schemas.openxmlformats.org/officeDocument/2006/relationships/slide" Target="slide15.xml"/><Relationship Id="rId35" Type="http://schemas.openxmlformats.org/officeDocument/2006/relationships/slide" Target="slide23.xml"/><Relationship Id="rId36" Type="http://schemas.openxmlformats.org/officeDocument/2006/relationships/slide" Target="slide16.xml"/><Relationship Id="rId37" Type="http://schemas.openxmlformats.org/officeDocument/2006/relationships/slide" Target="slide17.xml"/><Relationship Id="rId38" Type="http://schemas.openxmlformats.org/officeDocument/2006/relationships/slide" Target="slide18.xml"/><Relationship Id="rId39" Type="http://schemas.openxmlformats.org/officeDocument/2006/relationships/slide" Target="slide46.xml"/><Relationship Id="rId40" Type="http://schemas.openxmlformats.org/officeDocument/2006/relationships/slide" Target="slide19.xml"/><Relationship Id="rId41" Type="http://schemas.openxmlformats.org/officeDocument/2006/relationships/slide" Target="slide20.xml"/><Relationship Id="rId42" Type="http://schemas.openxmlformats.org/officeDocument/2006/relationships/slide" Target="slide7.xml"/><Relationship Id="rId4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32.xml"/><Relationship Id="rId3" Type="http://schemas.openxmlformats.org/officeDocument/2006/relationships/slide" Target="slide45.xml"/><Relationship Id="rId4" Type="http://schemas.openxmlformats.org/officeDocument/2006/relationships/slide" Target="slide3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7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7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8.xml"/><Relationship Id="rId3" Type="http://schemas.openxmlformats.org/officeDocument/2006/relationships/slide" Target="slide2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9.xml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0.xml"/><Relationship Id="rId3" Type="http://schemas.openxmlformats.org/officeDocument/2006/relationships/slide" Target="slide2.xm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1.xml"/><Relationship Id="rId3" Type="http://schemas.openxmlformats.org/officeDocument/2006/relationships/slide" Target="slide2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43200" y="2038320"/>
            <a:ext cx="5680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498e2"/>
                  </a:solidFill>
                  <a:miter/>
                </a:ln>
                <a:gradFill rotWithShape="0">
                  <a:gsLst>
                    <a:gs pos="0">
                      <a:srgbClr val="40409c"/>
                    </a:gs>
                    <a:gs pos="50000">
                      <a:srgbClr val="c6f5fa"/>
                    </a:gs>
                    <a:gs pos="100000">
                      <a:srgbClr val="40409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йловая система</a:t>
            </a:r>
            <a:endParaRPr b="0" lang="en-US" sz="1800" spc="1" strike="noStrike">
              <a:ln w="9360">
                <a:solidFill>
                  <a:srgbClr val="f498e2"/>
                </a:solidFill>
                <a:miter/>
              </a:ln>
              <a:gradFill rotWithShape="0">
                <a:gsLst>
                  <a:gs pos="0">
                    <a:srgbClr val="40409c"/>
                  </a:gs>
                  <a:gs pos="50000">
                    <a:srgbClr val="c6f5fa"/>
                  </a:gs>
                  <a:gs pos="100000">
                    <a:srgbClr val="40409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5120" y="3220920"/>
            <a:ext cx="245736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80160" y="6510240"/>
            <a:ext cx="114480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30360" y="965160"/>
            <a:ext cx="734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72164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454040" y="351000"/>
            <a:ext cx="6224760" cy="3152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31880" y="3524400"/>
            <a:ext cx="76770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b1"/>
                </a:solidFill>
                <a:latin typeface="Arial"/>
              </a:rPr>
              <a:t>Какой это вид представления объектов в папке ?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marL="360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1) Таблица</a:t>
            </a: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  <a:p>
            <a:pPr marL="360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2) Список</a:t>
            </a: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  <a:p>
            <a:pPr marL="360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3) Мелкие значки</a:t>
            </a: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  <a:p>
            <a:pPr marL="360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4) Крупные значки</a:t>
            </a: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58720" y="2830680"/>
            <a:ext cx="85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D:\</a:t>
            </a:r>
            <a:r>
              <a:rPr b="0" lang="ru-RU" sz="2800" spc="-1" strike="noStrike">
                <a:solidFill>
                  <a:srgbClr val="ffffb1"/>
                </a:solidFill>
                <a:latin typeface="Arial"/>
              </a:rPr>
              <a:t>Учебная\7Мкласс\Практикум\Свойства\урок</a:t>
            </a: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.txt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5516640"/>
            <a:ext cx="734400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6037200" y="615960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7760" y="1062000"/>
            <a:ext cx="858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Какая папка находится непосредственно в корневом каталоге диска?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19460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8560" y="2252520"/>
            <a:ext cx="79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Какое максимальное количество символов может составлять имя файла?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7640" y="3618000"/>
            <a:ext cx="734364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65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19460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49400" y="3467160"/>
            <a:ext cx="734364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70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670040" y="1333440"/>
            <a:ext cx="1090800" cy="1150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586400" y="1324080"/>
            <a:ext cx="1157040" cy="1128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3110040" y="1311120"/>
            <a:ext cx="1158840" cy="1141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5983200" y="1311120"/>
            <a:ext cx="1446480" cy="1143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841400" y="2633760"/>
            <a:ext cx="6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81400" y="259236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34080" y="259236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99360" y="260676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12760" y="3957480"/>
            <a:ext cx="731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Определите, где значки файлов, а где ярлыки?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46928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92160" y="2511360"/>
            <a:ext cx="734364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59132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84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7760" y="1062000"/>
            <a:ext cx="858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b1"/>
                </a:solidFill>
                <a:latin typeface="Arial"/>
              </a:rPr>
              <a:t>На каком диске находится файл «урок</a:t>
            </a:r>
            <a:r>
              <a:rPr b="0" i="1" lang="en-US" sz="2800" spc="-1" strike="noStrike">
                <a:solidFill>
                  <a:srgbClr val="ffffb1"/>
                </a:solidFill>
                <a:latin typeface="Arial"/>
              </a:rPr>
              <a:t>.txt</a:t>
            </a:r>
            <a:r>
              <a:rPr b="0" i="1" lang="ru-RU" sz="2800" spc="-1" strike="noStrike">
                <a:solidFill>
                  <a:srgbClr val="ffffb1"/>
                </a:solidFill>
                <a:latin typeface="Arial"/>
              </a:rPr>
              <a:t>»?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8720" y="3579840"/>
            <a:ext cx="85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D:\</a:t>
            </a:r>
            <a:r>
              <a:rPr b="0" lang="ru-RU" sz="2800" spc="-1" strike="noStrike">
                <a:solidFill>
                  <a:srgbClr val="ffffb1"/>
                </a:solidFill>
                <a:latin typeface="Arial"/>
              </a:rPr>
              <a:t>Учебная\7Мкласс\Практикум\Свойства\урок</a:t>
            </a: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.txt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19460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715968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9560" y="1011240"/>
            <a:ext cx="7993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b1"/>
                </a:solidFill>
                <a:latin typeface="Arial"/>
              </a:rPr>
              <a:t>Какие из этих типов файлов содержат звуковую информацию? 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DOC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RAR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WAV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BMP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EXE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MP3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311960" y="6510240"/>
            <a:ext cx="114480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47628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2668680"/>
            <a:ext cx="734400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1566720"/>
            <a:ext cx="704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2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736452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98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9440" y="2951280"/>
            <a:ext cx="85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D:\</a:t>
            </a:r>
            <a:r>
              <a:rPr b="0" lang="ru-RU" sz="2800" spc="-1" strike="noStrike">
                <a:solidFill>
                  <a:srgbClr val="ffffb1"/>
                </a:solidFill>
                <a:latin typeface="Arial"/>
              </a:rPr>
              <a:t>Учебная\7Мкласс\Практикум\Свойства\урок</a:t>
            </a: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.txt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7760" y="1062000"/>
            <a:ext cx="858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b1"/>
                </a:solidFill>
                <a:latin typeface="Arial"/>
              </a:rPr>
              <a:t>Назовите тип файла и какие данные в нем хранятся?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311960" y="6510240"/>
            <a:ext cx="114480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47628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1878120" y="307800"/>
            <a:ext cx="4792680" cy="40546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58720" y="4344840"/>
            <a:ext cx="858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b1"/>
                </a:solidFill>
                <a:latin typeface="Arial"/>
              </a:rPr>
              <a:t>Какие из перечисленных папок содержат вложенные папки?</a:t>
            </a: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28960" y="4788000"/>
            <a:ext cx="535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1) Калькулятор + Блокнот</a:t>
            </a:r>
            <a:br>
              <a:rPr sz="2400"/>
            </a:b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2) Пишем на ПК</a:t>
            </a:r>
            <a:br>
              <a:rPr sz="2400"/>
            </a:b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3) Набор текста</a:t>
            </a:r>
            <a:br>
              <a:rPr sz="2400"/>
            </a:b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4) Игра_КОМПЬЮТЕРНЫЙ РИНГ</a:t>
            </a:r>
            <a:br>
              <a:rPr sz="2400"/>
            </a:b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5) Для 5 класса</a:t>
            </a:r>
            <a:br>
              <a:rPr sz="2400"/>
            </a:b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7311960" y="6510240"/>
            <a:ext cx="114480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43160" y="133812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87480" y="2604960"/>
            <a:ext cx="734364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3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9720" y="1844640"/>
            <a:ext cx="87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1"/>
                </a:solidFill>
                <a:latin typeface="Arial"/>
              </a:rPr>
              <a:t>Имя логического диска + путь к файлу + имя файла =</a:t>
            </a:r>
            <a:r>
              <a:rPr b="1" lang="en-US" sz="3600" spc="-1" strike="noStrike">
                <a:solidFill>
                  <a:srgbClr val="ffffb1"/>
                </a:solidFill>
                <a:latin typeface="Arial"/>
              </a:rPr>
              <a:t>?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311960" y="6510240"/>
            <a:ext cx="114480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47628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333360"/>
            <a:ext cx="748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08160" y="1173240"/>
            <a:ext cx="75358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Последовательность имен папок, начиная с корневой, и заканчивая той, в которой непосредственно хранится файл – это…? 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1359000" y="2463480"/>
            <a:ext cx="5756040" cy="44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0040" y="3800520"/>
            <a:ext cx="5702400" cy="20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27400" y="860400"/>
            <a:ext cx="0" cy="551988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1680" y="1009800"/>
            <a:ext cx="12960" cy="53845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27480" y="1047600"/>
            <a:ext cx="0" cy="533268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73560" y="993600"/>
            <a:ext cx="12960" cy="53168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126120" y="993600"/>
            <a:ext cx="14400" cy="533088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7086600" y="760320"/>
            <a:ext cx="23760" cy="421488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38280" y="29192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1" action="ppaction://hlinksldjump"/>
              </a:rPr>
              <a:t>7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47840" y="871560"/>
            <a:ext cx="5788080" cy="5608440"/>
          </a:xfrm>
          <a:prstGeom prst="rect">
            <a:avLst/>
          </a:prstGeom>
          <a:noFill/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2473200" y="291780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3" action="ppaction://hlinksldjump"/>
              </a:rPr>
              <a:t>8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3408480" y="29192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5" action="ppaction://hlinksldjump"/>
              </a:rPr>
              <a:t>9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4343400" y="29192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7" action="ppaction://hlinksldjump"/>
              </a:rPr>
              <a:t>10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6" name="">
            <a:hlinkClick r:id="rId8" action="ppaction://hlinksldjump"/>
          </p:cNvPr>
          <p:cNvSpPr/>
          <p:nvPr/>
        </p:nvSpPr>
        <p:spPr>
          <a:xfrm>
            <a:off x="5278320" y="291780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9" action="ppaction://hlinksldjump"/>
              </a:rPr>
              <a:t>11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7" name="">
            <a:hlinkClick r:id="rId10" action="ppaction://hlinksldjump"/>
          </p:cNvPr>
          <p:cNvSpPr/>
          <p:nvPr/>
        </p:nvSpPr>
        <p:spPr>
          <a:xfrm>
            <a:off x="6213600" y="291780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11" action="ppaction://hlinksldjump"/>
              </a:rPr>
              <a:t>12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8" name="">
            <a:hlinkClick r:id="rId12" action="ppaction://hlinksldjump"/>
          </p:cNvPr>
          <p:cNvSpPr/>
          <p:nvPr/>
        </p:nvSpPr>
        <p:spPr>
          <a:xfrm>
            <a:off x="1490760" y="428472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13" action="ppaction://hlinksldjump"/>
              </a:rPr>
              <a:t>13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2459160" y="428472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15" action="ppaction://hlinksldjump"/>
              </a:rPr>
              <a:t>14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1484280" y="14828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17" action="ppaction://hlinksldjump"/>
              </a:rPr>
              <a:t>1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1" name="">
            <a:hlinkClick r:id="rId18" action="ppaction://hlinksldjump"/>
          </p:cNvPr>
          <p:cNvSpPr/>
          <p:nvPr/>
        </p:nvSpPr>
        <p:spPr>
          <a:xfrm>
            <a:off x="2440080" y="14828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19" action="ppaction://hlinksldjump"/>
              </a:rPr>
              <a:t>2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2" name="">
            <a:hlinkClick r:id="rId20" action="ppaction://hlinksldjump"/>
          </p:cNvPr>
          <p:cNvSpPr/>
          <p:nvPr/>
        </p:nvSpPr>
        <p:spPr>
          <a:xfrm>
            <a:off x="3395520" y="148284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21" action="ppaction://hlinksldjump"/>
              </a:rPr>
              <a:t>3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3" name="">
            <a:hlinkClick r:id="rId22" action="ppaction://hlinksldjump"/>
          </p:cNvPr>
          <p:cNvSpPr/>
          <p:nvPr/>
        </p:nvSpPr>
        <p:spPr>
          <a:xfrm>
            <a:off x="4352760" y="148284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23" action="ppaction://hlinksldjump"/>
              </a:rPr>
              <a:t>4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08560" y="14828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5" name="">
            <a:hlinkClick r:id="rId24" action="ppaction://hlinksldjump"/>
          </p:cNvPr>
          <p:cNvSpPr/>
          <p:nvPr/>
        </p:nvSpPr>
        <p:spPr>
          <a:xfrm>
            <a:off x="6265800" y="14828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25" action="ppaction://hlinksldjump"/>
              </a:rPr>
              <a:t>6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6" name="">
            <a:hlinkClick r:id="rId26" action="ppaction://hlinksldjump"/>
          </p:cNvPr>
          <p:cNvSpPr/>
          <p:nvPr/>
        </p:nvSpPr>
        <p:spPr>
          <a:xfrm>
            <a:off x="3427560" y="428472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27" action="ppaction://hlinksldjump"/>
              </a:rPr>
              <a:t>15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7" name="">
            <a:hlinkClick r:id="rId28" action="ppaction://hlinksldjump"/>
          </p:cNvPr>
          <p:cNvSpPr/>
          <p:nvPr/>
        </p:nvSpPr>
        <p:spPr>
          <a:xfrm>
            <a:off x="4395960" y="428472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29" action="ppaction://hlinksldjump"/>
              </a:rPr>
              <a:t>16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8" name="">
            <a:hlinkClick r:id="rId30" action="ppaction://hlinksldjump"/>
          </p:cNvPr>
          <p:cNvSpPr/>
          <p:nvPr/>
        </p:nvSpPr>
        <p:spPr>
          <a:xfrm>
            <a:off x="5364000" y="428472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31" action="ppaction://hlinksldjump"/>
              </a:rPr>
              <a:t>17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69" name="">
            <a:hlinkClick r:id="rId32" action="ppaction://hlinksldjump"/>
          </p:cNvPr>
          <p:cNvSpPr/>
          <p:nvPr/>
        </p:nvSpPr>
        <p:spPr>
          <a:xfrm>
            <a:off x="6334200" y="428472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33" action="ppaction://hlinksldjump"/>
              </a:rPr>
              <a:t>18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0040" y="5172120"/>
            <a:ext cx="5702400" cy="20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71" name="">
            <a:hlinkClick r:id="rId34" action="ppaction://hlinksldjump"/>
          </p:cNvPr>
          <p:cNvSpPr/>
          <p:nvPr/>
        </p:nvSpPr>
        <p:spPr>
          <a:xfrm>
            <a:off x="1434960" y="554688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35" action="ppaction://hlinksldjump"/>
              </a:rPr>
              <a:t>19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72" name="">
            <a:hlinkClick r:id="rId36" action="ppaction://hlinksldjump"/>
          </p:cNvPr>
          <p:cNvSpPr/>
          <p:nvPr/>
        </p:nvSpPr>
        <p:spPr>
          <a:xfrm>
            <a:off x="2403360" y="554688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1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73" name="">
            <a:hlinkClick r:id="rId37" action="ppaction://hlinksldjump"/>
          </p:cNvPr>
          <p:cNvSpPr/>
          <p:nvPr/>
        </p:nvSpPr>
        <p:spPr>
          <a:xfrm>
            <a:off x="3371760" y="554688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1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74" name="">
            <a:hlinkClick r:id="rId38" action="ppaction://hlinksldjump"/>
          </p:cNvPr>
          <p:cNvSpPr/>
          <p:nvPr/>
        </p:nvSpPr>
        <p:spPr>
          <a:xfrm>
            <a:off x="4340160" y="554688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39" action="ppaction://hlinksldjump"/>
              </a:rPr>
              <a:t>22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75" name="">
            <a:hlinkClick r:id="rId40" action="ppaction://hlinksldjump"/>
          </p:cNvPr>
          <p:cNvSpPr/>
          <p:nvPr/>
        </p:nvSpPr>
        <p:spPr>
          <a:xfrm>
            <a:off x="5308560" y="554688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1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76" name="">
            <a:hlinkClick r:id="rId41" action="ppaction://hlinksldjump"/>
          </p:cNvPr>
          <p:cNvSpPr/>
          <p:nvPr/>
        </p:nvSpPr>
        <p:spPr>
          <a:xfrm>
            <a:off x="6278400" y="554688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99"/>
                </a:solidFill>
                <a:uFillTx/>
                <a:latin typeface="Arial"/>
                <a:hlinkClick r:id="rId42" action="ppaction://hlinksldjump"/>
              </a:rPr>
              <a:t>24</a:t>
            </a:r>
            <a:endParaRPr b="0" lang="en-US" sz="20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311960" y="6510240"/>
            <a:ext cx="114480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87280" y="47628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42920" y="333360"/>
            <a:ext cx="748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70120" y="1346040"/>
            <a:ext cx="727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1"/>
                </a:solidFill>
                <a:latin typeface="Arial"/>
              </a:rPr>
              <a:t>Кто присваивает имена файлам и каталогам?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а) только операционная система;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б) файлы и каталоги не имеют имени;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в) пользователь, а также некоторые программы;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г) только программы, при установке (инсталляции) на диск.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7311960" y="6510240"/>
            <a:ext cx="114480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aedf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47628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42920" y="333360"/>
            <a:ext cx="748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3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35" name="">
            <a:hlinkClick r:id="rId4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100000">
                <a:srgbClr val="9aed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8760" y="878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16080" y="1649520"/>
            <a:ext cx="597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Как называется объект, предназначенный для объединения файлов и папок в группы?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16240" y="663480"/>
            <a:ext cx="3157560" cy="280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з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95320" y="3322800"/>
            <a:ext cx="7543800" cy="152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 закончили отвечать с оценкой «5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7470720" y="628164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44480" y="639720"/>
            <a:ext cx="58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1"/>
                </a:solidFill>
                <a:latin typeface="Arial"/>
              </a:rPr>
              <a:t>Каким будет полное имя файла «Интернет.</a:t>
            </a: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doc</a:t>
            </a:r>
            <a:r>
              <a:rPr b="0" lang="ru-RU" sz="3200" spc="-1" strike="noStrike">
                <a:solidFill>
                  <a:srgbClr val="ffffb1"/>
                </a:solidFill>
                <a:latin typeface="Arial"/>
              </a:rPr>
              <a:t>»?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590840" y="2170080"/>
            <a:ext cx="586404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7470720" y="628164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6f5fa"/>
                </a:solidFill>
                <a:uFillTx/>
                <a:latin typeface="Arial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firstslide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4800" y="63972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1"/>
                </a:solidFill>
                <a:latin typeface="Arial"/>
              </a:rPr>
              <a:t>На сколько логических дисков разбит жесткий диск?</a:t>
            </a: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71680" y="2292480"/>
            <a:ext cx="820404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470720" y="628164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6f5fa"/>
                </a:solidFill>
                <a:uFillTx/>
                <a:latin typeface="Arial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firstslide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90440" y="639720"/>
            <a:ext cx="715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Назовите папки второго уровня?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987560" y="1758960"/>
            <a:ext cx="52912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470720" y="628164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6f5fa"/>
                </a:solidFill>
                <a:uFillTx/>
                <a:latin typeface="Arial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90440" y="639720"/>
            <a:ext cx="715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Найдите ошибку в файловой структуре?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08200" y="2041560"/>
            <a:ext cx="77025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465200" y="1487520"/>
            <a:ext cx="394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2004840"/>
            <a:ext cx="53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Файл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65200" y="1487520"/>
            <a:ext cx="394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31800" y="2768760"/>
            <a:ext cx="562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1"/>
                </a:solidFill>
                <a:latin typeface="Arial"/>
              </a:rPr>
              <a:t>+   -   </a:t>
            </a:r>
            <a:r>
              <a:rPr b="0" lang="en-US" sz="4800" spc="-1" strike="noStrike">
                <a:solidFill>
                  <a:srgbClr val="ffffb1"/>
                </a:solidFill>
                <a:latin typeface="Arial"/>
              </a:rPr>
              <a:t>$</a:t>
            </a:r>
            <a:r>
              <a:rPr b="0" lang="ru-RU" sz="4800" spc="-1" strike="noStrike">
                <a:solidFill>
                  <a:srgbClr val="ffffb1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ffb1"/>
                </a:solidFill>
                <a:latin typeface="Arial"/>
              </a:rPr>
              <a:t>  “  </a:t>
            </a:r>
            <a:r>
              <a:rPr b="0" lang="ru-RU" sz="4800" spc="-1" strike="noStrike">
                <a:solidFill>
                  <a:srgbClr val="ffffb1"/>
                </a:solidFill>
                <a:latin typeface="Arial"/>
              </a:rPr>
              <a:t>.    !   ?</a:t>
            </a:r>
            <a:r>
              <a:rPr b="0" lang="ru-RU" sz="3600" spc="-1" strike="noStrike">
                <a:solidFill>
                  <a:srgbClr val="ffffb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130640" y="2938320"/>
            <a:ext cx="731880" cy="664920"/>
            <a:chOff x="4130640" y="2938320"/>
            <a:chExt cx="731880" cy="664920"/>
          </a:xfrm>
        </p:grpSpPr>
        <p:sp>
          <p:nvSpPr>
            <p:cNvPr id="270" name=""/>
            <p:cNvSpPr/>
            <p:nvPr/>
          </p:nvSpPr>
          <p:spPr>
            <a:xfrm>
              <a:off x="4130640" y="2950920"/>
              <a:ext cx="731880" cy="625320"/>
            </a:xfrm>
            <a:prstGeom prst="line">
              <a:avLst/>
            </a:prstGeom>
            <a:ln w="38160">
              <a:solidFill>
                <a:srgbClr val="f521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b1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155840" y="2938320"/>
              <a:ext cx="665280" cy="664920"/>
            </a:xfrm>
            <a:prstGeom prst="line">
              <a:avLst/>
            </a:prstGeom>
            <a:ln w="38160">
              <a:solidFill>
                <a:srgbClr val="f521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b1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305400" y="2911320"/>
            <a:ext cx="731880" cy="664920"/>
            <a:chOff x="6305400" y="2911320"/>
            <a:chExt cx="731880" cy="664920"/>
          </a:xfrm>
        </p:grpSpPr>
        <p:sp>
          <p:nvSpPr>
            <p:cNvPr id="273" name=""/>
            <p:cNvSpPr/>
            <p:nvPr/>
          </p:nvSpPr>
          <p:spPr>
            <a:xfrm>
              <a:off x="6305400" y="2923920"/>
              <a:ext cx="731880" cy="625320"/>
            </a:xfrm>
            <a:prstGeom prst="line">
              <a:avLst/>
            </a:prstGeom>
            <a:ln w="38160">
              <a:solidFill>
                <a:srgbClr val="f521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b1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330600" y="2911320"/>
              <a:ext cx="665280" cy="664920"/>
            </a:xfrm>
            <a:prstGeom prst="line">
              <a:avLst/>
            </a:prstGeom>
            <a:ln w="38160">
              <a:solidFill>
                <a:srgbClr val="f521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b1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465200" y="1487520"/>
            <a:ext cx="394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3840" y="11286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1"/>
                </a:solidFill>
                <a:latin typeface="Arial"/>
              </a:rPr>
              <a:t>2. Жесткий  диск (винчестер)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51240" y="378792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1"/>
                </a:solidFill>
                <a:latin typeface="Arial"/>
              </a:rPr>
              <a:t>7. Лазерные </a:t>
            </a:r>
            <a:br>
              <a:rPr sz="3600"/>
            </a:br>
            <a:r>
              <a:rPr b="1" lang="ru-RU" sz="3600" spc="-1" strike="noStrike">
                <a:solidFill>
                  <a:srgbClr val="ffffb1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b1"/>
                </a:solidFill>
                <a:latin typeface="Arial"/>
              </a:rPr>
              <a:t>CD)</a:t>
            </a:r>
            <a:r>
              <a:rPr b="1" lang="ru-RU" sz="3600" spc="-1" strike="noStrike">
                <a:solidFill>
                  <a:srgbClr val="ffffb1"/>
                </a:solidFill>
                <a:latin typeface="Arial"/>
              </a:rPr>
              <a:t> диски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368280" y="283212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345960" y="843120"/>
            <a:ext cx="19195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19460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35160" y="18558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1"/>
                </a:solidFill>
                <a:latin typeface="Arial"/>
              </a:rPr>
              <a:t>Как называется</a:t>
            </a:r>
            <a:br>
              <a:rPr sz="3600"/>
            </a:b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поименованная совокупность данных, хранящаяся во внешней памяти компьютера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4437000"/>
            <a:ext cx="734400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725184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353960" y="392040"/>
            <a:ext cx="725760" cy="684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1393920" y="2598840"/>
            <a:ext cx="654120" cy="6364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1424160" y="5491080"/>
            <a:ext cx="760320" cy="601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5"/>
          <a:stretch/>
        </p:blipFill>
        <p:spPr>
          <a:xfrm>
            <a:off x="1376280" y="1619280"/>
            <a:ext cx="706680" cy="666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6"/>
          <a:stretch/>
        </p:blipFill>
        <p:spPr>
          <a:xfrm>
            <a:off x="1454040" y="4529160"/>
            <a:ext cx="636840" cy="6476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7"/>
          <a:stretch/>
        </p:blipFill>
        <p:spPr>
          <a:xfrm>
            <a:off x="1409760" y="3548160"/>
            <a:ext cx="668160" cy="6681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451240" y="425520"/>
            <a:ext cx="46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программа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63800" y="1349280"/>
            <a:ext cx="4047840" cy="0"/>
          </a:xfrm>
          <a:prstGeom prst="line">
            <a:avLst/>
          </a:prstGeom>
          <a:ln w="38160">
            <a:solidFill>
              <a:srgbClr val="f521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76360" y="1668600"/>
            <a:ext cx="46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1"/>
                </a:solidFill>
                <a:latin typeface="Arial"/>
              </a:rPr>
              <a:t>документ </a:t>
            </a: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Word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76360" y="2552760"/>
            <a:ext cx="46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рисунок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30280" y="3587760"/>
            <a:ext cx="46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папка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06600" y="5388120"/>
            <a:ext cx="46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архив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16240" y="4518000"/>
            <a:ext cx="68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текстовый документ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258920" y="3789360"/>
            <a:ext cx="734364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65080" y="2898720"/>
            <a:ext cx="75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5,4 Кбайта  (26 042 байта)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465200" y="1487520"/>
            <a:ext cx="394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79600" y="2749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1"/>
                </a:solidFill>
                <a:latin typeface="Arial"/>
              </a:rPr>
              <a:t>Логический диск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01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92600" y="1174680"/>
            <a:ext cx="1712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DOC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AVI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WAV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BMP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EXE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JPG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21160" y="3687840"/>
            <a:ext cx="70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2149"/>
                </a:solidFill>
                <a:latin typeface="Wingdings"/>
                <a:ea typeface="Wingdings"/>
              </a:rPr>
              <a:t></a:t>
            </a:r>
            <a:endParaRPr b="0" lang="en-US" sz="4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11520" y="4916520"/>
            <a:ext cx="70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2149"/>
                </a:solidFill>
                <a:latin typeface="Wingdings"/>
                <a:ea typeface="Wingdings"/>
              </a:rPr>
              <a:t></a:t>
            </a:r>
            <a:endParaRPr b="0" lang="en-US" sz="40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23920" y="649440"/>
            <a:ext cx="643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41360" y="4481640"/>
            <a:ext cx="64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Крупные значки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398600" y="1003320"/>
            <a:ext cx="62244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293840" y="1241280"/>
            <a:ext cx="588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99880" y="2800440"/>
            <a:ext cx="85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D:\</a:t>
            </a:r>
            <a:r>
              <a:rPr b="1" lang="ru-RU" sz="2800" spc="-1" strike="noStrike">
                <a:solidFill>
                  <a:srgbClr val="f52149"/>
                </a:solidFill>
                <a:latin typeface="Arial"/>
              </a:rPr>
              <a:t>Учебная</a:t>
            </a:r>
            <a:r>
              <a:rPr b="0" lang="ru-RU" sz="2800" spc="-1" strike="noStrike">
                <a:solidFill>
                  <a:srgbClr val="ffffb1"/>
                </a:solidFill>
                <a:latin typeface="Arial"/>
              </a:rPr>
              <a:t>\7Мкласс\Практикум\Свойства\урок</a:t>
            </a: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.txt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506600" y="273996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cbf0"/>
                </a:solidFill>
                <a:latin typeface="Arial"/>
              </a:rPr>
              <a:t>255</a:t>
            </a:r>
            <a:endParaRPr b="0" lang="en-US" sz="4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60240" y="2649600"/>
            <a:ext cx="1090800" cy="11509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679320" y="4010040"/>
            <a:ext cx="1157400" cy="11286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700200" y="452520"/>
            <a:ext cx="1158840" cy="11412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5"/>
          <a:stretch/>
        </p:blipFill>
        <p:spPr>
          <a:xfrm>
            <a:off x="509760" y="5410080"/>
            <a:ext cx="1446120" cy="1143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884240" y="2935440"/>
            <a:ext cx="6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79640" y="77616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882800" y="419724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006640" y="568944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06840" y="326880"/>
            <a:ext cx="409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Ярлык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398760" y="3941640"/>
            <a:ext cx="409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Значки файлов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49520" y="2617920"/>
            <a:ext cx="858960" cy="3921120"/>
          </a:xfrm>
          <a:custGeom>
            <a:avLst/>
            <a:gdLst>
              <a:gd name="textAreaLeft" fmla="*/ 0 w 858960"/>
              <a:gd name="textAreaRight" fmla="*/ 309960 w 858960"/>
              <a:gd name="textAreaTop" fmla="*/ 102240 h 3921120"/>
              <a:gd name="textAreaBottom" fmla="*/ 3818880 h 392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8960" y="2544840"/>
            <a:ext cx="85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2149"/>
                </a:solidFill>
                <a:latin typeface="Arial"/>
              </a:rPr>
              <a:t>D:</a:t>
            </a: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\</a:t>
            </a:r>
            <a:r>
              <a:rPr b="0" lang="ru-RU" sz="2800" spc="-1" strike="noStrike">
                <a:solidFill>
                  <a:srgbClr val="ffffb1"/>
                </a:solidFill>
                <a:latin typeface="Arial"/>
              </a:rPr>
              <a:t>Учебная\7Мкласс\Практикум\Свойства\урок</a:t>
            </a: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.txt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06560" y="4000680"/>
            <a:ext cx="67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52149"/>
                </a:solidFill>
                <a:latin typeface="Arial"/>
              </a:rPr>
              <a:t>логический диск </a:t>
            </a:r>
            <a:r>
              <a:rPr b="1" lang="en-US" sz="2800" spc="-1" strike="noStrike">
                <a:solidFill>
                  <a:srgbClr val="f52149"/>
                </a:solidFill>
                <a:latin typeface="Arial"/>
              </a:rPr>
              <a:t>D: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793440" y="3072960"/>
            <a:ext cx="1274760" cy="1003320"/>
          </a:xfrm>
          <a:prstGeom prst="line">
            <a:avLst/>
          </a:prstGeom>
          <a:ln w="9360">
            <a:solidFill>
              <a:srgbClr val="f521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873080" y="1420920"/>
            <a:ext cx="453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9560" y="1011240"/>
            <a:ext cx="7993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DOC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RAR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WAV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BMP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EXE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MP3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59040" y="4781520"/>
            <a:ext cx="70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2149"/>
                </a:solidFill>
                <a:latin typeface="Wingdings"/>
                <a:ea typeface="Wingdings"/>
              </a:rPr>
              <a:t></a:t>
            </a:r>
            <a:endParaRPr b="0" lang="en-US" sz="4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91000" y="2884320"/>
            <a:ext cx="70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2149"/>
                </a:solidFill>
                <a:latin typeface="Wingdings"/>
                <a:ea typeface="Wingdings"/>
              </a:rPr>
              <a:t></a:t>
            </a:r>
            <a:endParaRPr b="0" lang="en-US" sz="40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19460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1800" y="1106640"/>
            <a:ext cx="511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Какие  2 знака  нельзя использовать в имени файла или папки?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5157720"/>
            <a:ext cx="734400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313160" y="5292720"/>
          <a:ext cx="1519200" cy="135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13160" y="5292720"/>
                    <a:ext cx="151920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766880" y="3351240"/>
            <a:ext cx="562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1"/>
                </a:solidFill>
                <a:latin typeface="Arial"/>
              </a:rPr>
              <a:t>+   -   </a:t>
            </a:r>
            <a:r>
              <a:rPr b="0" lang="en-US" sz="4800" spc="-1" strike="noStrike">
                <a:solidFill>
                  <a:srgbClr val="ffffb1"/>
                </a:solidFill>
                <a:latin typeface="Arial"/>
              </a:rPr>
              <a:t>$</a:t>
            </a:r>
            <a:r>
              <a:rPr b="0" lang="ru-RU" sz="4800" spc="-1" strike="noStrike">
                <a:solidFill>
                  <a:srgbClr val="ffffb1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ffb1"/>
                </a:solidFill>
                <a:latin typeface="Arial"/>
              </a:rPr>
              <a:t>  “  </a:t>
            </a:r>
            <a:r>
              <a:rPr b="0" lang="ru-RU" sz="4800" spc="-1" strike="noStrike">
                <a:solidFill>
                  <a:srgbClr val="ffffb1"/>
                </a:solidFill>
                <a:latin typeface="Arial"/>
              </a:rPr>
              <a:t>.    !   ?</a:t>
            </a:r>
            <a:r>
              <a:rPr b="0" lang="ru-RU" sz="3600" spc="-1" strike="noStrike">
                <a:solidFill>
                  <a:srgbClr val="ffffb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30040" y="2232000"/>
            <a:ext cx="85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D:\</a:t>
            </a:r>
            <a:r>
              <a:rPr b="0" lang="ru-RU" sz="2800" spc="-1" strike="noStrike">
                <a:solidFill>
                  <a:srgbClr val="ffffb1"/>
                </a:solidFill>
                <a:latin typeface="Arial"/>
              </a:rPr>
              <a:t>Учебная\7Мкласс\Практикум\Свойства\урок</a:t>
            </a: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52149"/>
                </a:solidFill>
                <a:latin typeface="Arial"/>
              </a:rPr>
              <a:t>txt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01600" y="3386160"/>
            <a:ext cx="85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52149"/>
                </a:solidFill>
                <a:latin typeface="Arial"/>
              </a:rPr>
              <a:t>Тип файла </a:t>
            </a:r>
            <a:r>
              <a:rPr b="0" lang="en-US" sz="2800" spc="-1" strike="noStrike">
                <a:solidFill>
                  <a:srgbClr val="f52149"/>
                </a:solidFill>
                <a:latin typeface="Arial"/>
              </a:rPr>
              <a:t>TXT</a:t>
            </a:r>
            <a:r>
              <a:rPr b="0" lang="ru-RU" sz="2800" spc="-1" strike="noStrike">
                <a:solidFill>
                  <a:srgbClr val="f52149"/>
                </a:solidFill>
                <a:latin typeface="Arial"/>
              </a:rPr>
              <a:t>, текстовый документ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106880" y="2712960"/>
            <a:ext cx="4302000" cy="735120"/>
          </a:xfrm>
          <a:prstGeom prst="line">
            <a:avLst/>
          </a:prstGeom>
          <a:ln w="9360">
            <a:solidFill>
              <a:srgbClr val="f5214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878120" y="307800"/>
            <a:ext cx="4792680" cy="40546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016000" y="4575240"/>
            <a:ext cx="53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2) Пишем на ПК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4) Игра_КОМПЬЮТЕРНЫЙ РИНГ</a:t>
            </a: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1"/>
                </a:solidFill>
                <a:latin typeface="Arial"/>
              </a:rPr>
              <a:t>5) Для 5 класса</a:t>
            </a:r>
            <a:br>
              <a:rPr sz="2400"/>
            </a:br>
            <a:endParaRPr b="0" lang="en-US" sz="24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692360" y="2536200"/>
            <a:ext cx="541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лное имя файла 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110040" y="2739960"/>
            <a:ext cx="240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22560" y="2747880"/>
            <a:ext cx="502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1"/>
                </a:solidFill>
                <a:latin typeface="Arial"/>
              </a:rPr>
              <a:t>Путь к файлу</a:t>
            </a:r>
            <a:endParaRPr b="0" lang="en-US" sz="4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35880" y="3168720"/>
            <a:ext cx="714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в) пользователь, а также некоторые </a:t>
            </a:r>
            <a:br>
              <a:rPr sz="3200"/>
            </a:b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программы;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78480" y="1125360"/>
            <a:ext cx="74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1"/>
                </a:solidFill>
                <a:latin typeface="Arial"/>
              </a:rPr>
              <a:t>Кто присваивает имена файлам</a:t>
            </a:r>
            <a:br>
              <a:rPr sz="3600"/>
            </a:br>
            <a:r>
              <a:rPr b="1" lang="en-US" sz="3600" spc="-1" strike="noStrike">
                <a:solidFill>
                  <a:srgbClr val="ffffb1"/>
                </a:solidFill>
                <a:latin typeface="Arial"/>
              </a:rPr>
              <a:t> и каталогам?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09720" y="2009880"/>
            <a:ext cx="64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Папка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52" name="">
            <a:hlinkClick r:id="rId1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04720" y="-43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339920" y="579600"/>
            <a:ext cx="4105080" cy="31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з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167360" y="3046320"/>
            <a:ext cx="3346200" cy="24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+1 бал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6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03360" y="249552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1"/>
                </a:solidFill>
                <a:latin typeface="Arial"/>
              </a:rPr>
              <a:t>С:\Рефераты\Информатика\Интернет</a:t>
            </a: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.doc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504720" y="-43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16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03360" y="249552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Иванов, Петров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504720" y="-43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16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03360" y="249552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1"/>
                </a:solidFill>
                <a:latin typeface="Arial"/>
              </a:rPr>
              <a:t>На три</a:t>
            </a: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b1"/>
                </a:solidFill>
                <a:latin typeface="Arial"/>
              </a:rPr>
              <a:t>логических диска (</a:t>
            </a: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C:   D:   E: )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504720" y="-43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16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19460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5661000"/>
            <a:ext cx="734400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521240" y="1757520"/>
            <a:ext cx="4124160" cy="2232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697800" y="289080"/>
            <a:ext cx="2197080" cy="1477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3994200" y="111240"/>
            <a:ext cx="1569960" cy="1609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941400" y="246204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730080" y="369720"/>
            <a:ext cx="1932120" cy="1451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787320" y="4057560"/>
            <a:ext cx="1919520" cy="1440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20640" y="5651640"/>
            <a:ext cx="82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Какие из этих объектов могут хранить файлы?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5960" y="1344600"/>
            <a:ext cx="6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9680" y="649440"/>
            <a:ext cx="6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75520" y="56844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34480" y="344952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4780080"/>
            <a:ext cx="6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8200" y="264492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3711600" y="3963960"/>
            <a:ext cx="2287440" cy="1630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6960" y="4114800"/>
            <a:ext cx="6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52440" y="501480"/>
            <a:ext cx="819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1"/>
                </a:solidFill>
                <a:latin typeface="Arial"/>
              </a:rPr>
              <a:t>В одной папке не могут находиться два файла с одинаковым именем</a:t>
            </a:r>
            <a:endParaRPr b="0" lang="en-US" sz="32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504720" y="-43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8245440" y="6051600"/>
            <a:ext cx="681120" cy="563400"/>
          </a:xfrm>
          <a:custGeom>
            <a:avLst/>
            <a:gdLst>
              <a:gd name="textAreaLeft" fmla="*/ 140760 w 681120"/>
              <a:gd name="textAreaRight" fmla="*/ 540360 w 681120"/>
              <a:gd name="textAreaTop" fmla="*/ 140760 h 563400"/>
              <a:gd name="textAreaBottom" fmla="*/ 422640 h 563400"/>
            </a:gdLst>
            <a:ahLst/>
            <a:rect l="textAreaLeft" t="textAreaTop" r="textAreaRight" b="textAreaBottom"/>
            <a:pathLst>
              <a:path w="26110" h="21600">
                <a:moveTo>
                  <a:pt x="0" y="0"/>
                </a:moveTo>
                <a:lnTo>
                  <a:pt x="26110" y="0"/>
                </a:lnTo>
                <a:lnTo>
                  <a:pt x="26110" y="21600"/>
                </a:lnTo>
                <a:lnTo>
                  <a:pt x="0" y="21600"/>
                </a:lnTo>
                <a:close/>
              </a:path>
              <a:path fill="lightenLess" w="26110" h="21600">
                <a:moveTo>
                  <a:pt x="0" y="0"/>
                </a:moveTo>
                <a:lnTo>
                  <a:pt x="26110" y="0"/>
                </a:lnTo>
                <a:lnTo>
                  <a:pt x="20710" y="5400"/>
                </a:lnTo>
                <a:lnTo>
                  <a:pt x="5400" y="5400"/>
                </a:lnTo>
                <a:close/>
              </a:path>
              <a:path fill="darken" w="26110" h="21600">
                <a:moveTo>
                  <a:pt x="26110" y="0"/>
                </a:moveTo>
                <a:lnTo>
                  <a:pt x="26110" y="21600"/>
                </a:lnTo>
                <a:lnTo>
                  <a:pt x="20710" y="16200"/>
                </a:lnTo>
                <a:lnTo>
                  <a:pt x="20710" y="5400"/>
                </a:lnTo>
                <a:close/>
              </a:path>
              <a:path fill="darkenLess" w="26110" h="21600">
                <a:moveTo>
                  <a:pt x="2611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710" y="16200"/>
                </a:lnTo>
                <a:close/>
              </a:path>
              <a:path fill="lighten" w="2611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110" h="21600">
                <a:moveTo>
                  <a:pt x="9030" y="10800"/>
                </a:moveTo>
                <a:lnTo>
                  <a:pt x="17080" y="6775"/>
                </a:lnTo>
                <a:lnTo>
                  <a:pt x="17080" y="14825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793800" y="1935000"/>
            <a:ext cx="7702560" cy="33991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819760" y="3021120"/>
            <a:ext cx="733320" cy="0"/>
          </a:xfrm>
          <a:prstGeom prst="line">
            <a:avLst/>
          </a:prstGeom>
          <a:ln w="38160">
            <a:solidFill>
              <a:srgbClr val="f521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18040" y="3948120"/>
            <a:ext cx="733680" cy="0"/>
          </a:xfrm>
          <a:prstGeom prst="line">
            <a:avLst/>
          </a:prstGeom>
          <a:ln w="38160">
            <a:solidFill>
              <a:srgbClr val="f521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708600" y="2550960"/>
            <a:ext cx="70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2149"/>
                </a:solidFill>
                <a:latin typeface="Wingdings"/>
                <a:ea typeface="Wingdings"/>
              </a:rPr>
              <a:t></a:t>
            </a:r>
            <a:endParaRPr b="0" lang="en-US" sz="40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81960" y="3521160"/>
            <a:ext cx="7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2149"/>
                </a:solidFill>
                <a:latin typeface="Wingdings"/>
                <a:ea typeface="Wingdings"/>
              </a:rPr>
              <a:t></a:t>
            </a:r>
            <a:endParaRPr b="0" lang="en-US" sz="40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716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19460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4800" y="903240"/>
            <a:ext cx="809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1"/>
                </a:solidFill>
                <a:latin typeface="Arial"/>
              </a:rPr>
              <a:t>Какой значок указывает на то, что это исполняемый файл (программа)?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5084640"/>
            <a:ext cx="734400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252520" y="2924280"/>
            <a:ext cx="725760" cy="68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478320" y="2925720"/>
            <a:ext cx="654120" cy="636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4632480" y="2989440"/>
            <a:ext cx="760320" cy="601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1046160" y="2922480"/>
            <a:ext cx="706320" cy="666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5892840" y="2965320"/>
            <a:ext cx="636480" cy="64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7031160" y="2976480"/>
            <a:ext cx="668160" cy="668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135080" y="380988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376704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49520" y="3781440"/>
            <a:ext cx="6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1840" y="382284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73760" y="386388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66080" y="378144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19460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3440" y="609480"/>
            <a:ext cx="82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Каков точный размер этого файла?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610000" y="1663560"/>
            <a:ext cx="36576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19460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7480" y="1847880"/>
            <a:ext cx="7993080" cy="24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b1"/>
                </a:solidFill>
                <a:latin typeface="Arial"/>
              </a:rPr>
              <a:t>Как называется 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1"/>
                </a:solidFill>
                <a:latin typeface="Arial"/>
              </a:rPr>
              <a:t>физический диск или часть физического диска, которому присвоено имя ?</a:t>
            </a:r>
            <a:endParaRPr b="0" lang="en-US" sz="36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5661000"/>
            <a:ext cx="7343640" cy="0"/>
          </a:xfrm>
          <a:prstGeom prst="line">
            <a:avLst/>
          </a:prstGeom>
          <a:ln w="381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41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1e1ea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94600" y="6510240"/>
            <a:ext cx="1144440" cy="34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18c4"/>
              </a:gs>
              <a:gs pos="50000">
                <a:srgbClr val="bbe0e3"/>
              </a:gs>
              <a:gs pos="100000">
                <a:srgbClr val="4118c4"/>
              </a:gs>
            </a:gsLst>
            <a:lin ang="54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f8fd9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7248600" y="6491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45" name="">
            <a:hlinkClick r:id="rId3" action="ppaction://hlinksldjump"/>
          </p:cNvPr>
          <p:cNvSpPr/>
          <p:nvPr/>
        </p:nvSpPr>
        <p:spPr>
          <a:xfrm>
            <a:off x="0" y="0"/>
            <a:ext cx="411120" cy="380880"/>
          </a:xfrm>
          <a:custGeom>
            <a:avLst/>
            <a:gdLst>
              <a:gd name="textAreaLeft" fmla="*/ 24480 w 411120"/>
              <a:gd name="textAreaRight" fmla="*/ 386640 w 411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3" h="21600">
                <a:moveTo>
                  <a:pt x="0" y="0"/>
                </a:moveTo>
                <a:lnTo>
                  <a:pt x="23313" y="0"/>
                </a:lnTo>
                <a:lnTo>
                  <a:pt x="23313" y="21600"/>
                </a:lnTo>
                <a:lnTo>
                  <a:pt x="0" y="21600"/>
                </a:lnTo>
                <a:close/>
              </a:path>
              <a:path fill="lightenLess" w="23313" h="21600">
                <a:moveTo>
                  <a:pt x="0" y="0"/>
                </a:moveTo>
                <a:lnTo>
                  <a:pt x="23313" y="0"/>
                </a:lnTo>
                <a:lnTo>
                  <a:pt x="21913" y="1400"/>
                </a:lnTo>
                <a:lnTo>
                  <a:pt x="1400" y="1400"/>
                </a:lnTo>
                <a:close/>
              </a:path>
              <a:path fill="darken" w="23313" h="21600">
                <a:moveTo>
                  <a:pt x="23313" y="0"/>
                </a:moveTo>
                <a:lnTo>
                  <a:pt x="23313" y="21600"/>
                </a:lnTo>
                <a:lnTo>
                  <a:pt x="21913" y="20200"/>
                </a:lnTo>
                <a:lnTo>
                  <a:pt x="21913" y="1400"/>
                </a:lnTo>
                <a:close/>
              </a:path>
              <a:path fill="darkenLess" w="23313" h="21600">
                <a:moveTo>
                  <a:pt x="23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3" y="20200"/>
                </a:lnTo>
                <a:close/>
              </a:path>
              <a:path fill="lighten" w="23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3" h="21600">
                <a:moveTo>
                  <a:pt x="4650" y="10800"/>
                </a:moveTo>
                <a:lnTo>
                  <a:pt x="18663" y="3794"/>
                </a:lnTo>
                <a:lnTo>
                  <a:pt x="18663" y="17806"/>
                </a:lnTo>
                <a:close/>
              </a:path>
            </a:pathLst>
          </a:custGeom>
          <a:gradFill rotWithShape="0">
            <a:gsLst>
              <a:gs pos="0">
                <a:srgbClr val="ffffb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b1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8320" y="1023840"/>
            <a:ext cx="7993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b1"/>
                </a:solidFill>
                <a:latin typeface="Arial"/>
              </a:rPr>
              <a:t>Какие из этих типов файлов содержат графическую информацию? 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DOC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AVI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WAV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BMP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EXE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1"/>
                </a:solidFill>
                <a:latin typeface="Arial"/>
              </a:rPr>
              <a:t>JPG</a:t>
            </a:r>
            <a:endParaRPr b="0" lang="en-US" sz="2800" spc="-1" strike="noStrike">
              <a:solidFill>
                <a:srgbClr val="ffffb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7:48:01Z</dcterms:created>
  <dc:creator>Пономаренко Н.В.</dc:creator>
  <dc:description/>
  <dc:language>en-US</dc:language>
  <cp:lastModifiedBy>Acheron84</cp:lastModifiedBy>
  <dcterms:modified xsi:type="dcterms:W3CDTF">2012-11-12T12:26:53Z</dcterms:modified>
  <cp:revision>220</cp:revision>
  <dc:subject/>
  <dc:title>Файловая система</dc:title>
</cp:coreProperties>
</file>